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0C2-D345-4CE0-AD57-D92341FB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ED3-386B-45DE-81A1-DDBD920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5C9-55F2-49D5-A3CE-1AE95F54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649-B7B4-425D-9CA9-7F77A6B1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48D3-9C78-4A2A-A8A0-16DDC873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5DB3-38B9-454C-8BE8-86BBA30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8DBB-A61D-43DF-A97E-5CCBC2C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ED96-DCC1-4C17-AADF-6BCE955F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F86C-5D43-481A-AA36-23BFBA71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3AB-105D-4145-BAFC-61ADE70D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05F-A2E5-4A68-9D0B-3DFDF9A4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004-5419-4A06-9B13-85E153A3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A0A-B27F-4949-868A-FF262E7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DB39-2394-4261-9680-7923B41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6348-A930-4352-B919-4DED997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4079-AED7-4288-94CF-5C8D133B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7742-7B6E-4572-9185-B146C641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115-234D-4999-977F-86F0869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3C6-881F-4516-9138-50A14256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858-E78F-4479-B117-0C779FC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7F8-C158-4EFC-BFBF-7E8C9340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FE9-92EA-4009-A7FC-B01C590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AC2-A057-4C09-99EC-5A01907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936-4FFD-4F16-90D8-011D5E3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C72-7CFF-475B-986C-6B4936D366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b7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6DE-F08B-45EB-BE8B-8EB04D8B5B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1928880" y="264312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b7"/>
                </a:solidFill>
                <a:latin typeface="Arial"/>
              </a:rPr>
              <a:t>АМЕРИКА</a:t>
            </a:r>
            <a:endParaRPr b="1" lang="en-US" sz="72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786200" y="56437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читель географии МКОУ НСОШ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Мецкер С.С.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928800" y="-189000"/>
            <a:ext cx="1411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С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Е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В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Е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Р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Н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А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"/>
              </a:rPr>
              <a:t>Я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571840" y="4549680"/>
            <a:ext cx="35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Контроль и обобщение 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03120" y="182520"/>
            <a:ext cx="851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85% территории занимает ледяной щит, остальные 15%-береговое окаймление, покрытое мхами, лишайниками. Иногда встречаются жалкие карликовые березы, карликовые стелющиеся ивы 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3" name="Picture 5" descr="683px-Polar_Bears_Play_fight"/>
          <p:cNvPicPr/>
          <p:nvPr/>
        </p:nvPicPr>
        <p:blipFill>
          <a:blip r:embed="rId1"/>
          <a:stretch/>
        </p:blipFill>
        <p:spPr>
          <a:xfrm>
            <a:off x="4803840" y="3044880"/>
            <a:ext cx="4340160" cy="381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Овцебыки"/>
          <p:cNvPicPr/>
          <p:nvPr/>
        </p:nvPicPr>
        <p:blipFill>
          <a:blip r:embed="rId2"/>
          <a:stretch/>
        </p:blipFill>
        <p:spPr>
          <a:xfrm>
            <a:off x="324000" y="1413000"/>
            <a:ext cx="4890960" cy="3265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99160" y="5511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Арктические пустыни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6" name="Picture 8" descr="800px-Phoca_vitulina_he"/>
          <p:cNvPicPr/>
          <p:nvPr/>
        </p:nvPicPr>
        <p:blipFill>
          <a:blip r:embed="rId3"/>
          <a:stretch/>
        </p:blipFill>
        <p:spPr>
          <a:xfrm>
            <a:off x="5487840" y="1125360"/>
            <a:ext cx="3656160" cy="2322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324000" y="4653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Овцебыки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635280" y="4941720"/>
            <a:ext cx="11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Белые медведи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03120" y="260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Температура января -20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°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С, июля +8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  <a:ea typeface="Arial"/>
              </a:rPr>
              <a:t>С, годовое количество осадков 150-250 мм. Почвы торфяно-болотистые. Многолетняя мерзлота.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0" name="Picture 7" descr="567px-Schneehase_2004-11-14"/>
          <p:cNvPicPr/>
          <p:nvPr/>
        </p:nvPicPr>
        <p:blipFill>
          <a:blip r:embed="rId1"/>
          <a:stretch/>
        </p:blipFill>
        <p:spPr>
          <a:xfrm>
            <a:off x="395280" y="1341360"/>
            <a:ext cx="1700280" cy="17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768px-Polarfuchs_1_2004-11-17"/>
          <p:cNvPicPr/>
          <p:nvPr/>
        </p:nvPicPr>
        <p:blipFill>
          <a:blip r:embed="rId2"/>
          <a:stretch/>
        </p:blipFill>
        <p:spPr>
          <a:xfrm>
            <a:off x="6084720" y="1125360"/>
            <a:ext cx="2341800" cy="18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800px-Schneehuhn_2000-11-22"/>
          <p:cNvPicPr/>
          <p:nvPr/>
        </p:nvPicPr>
        <p:blipFill>
          <a:blip r:embed="rId3"/>
          <a:stretch/>
        </p:blipFill>
        <p:spPr>
          <a:xfrm>
            <a:off x="5219640" y="3500280"/>
            <a:ext cx="3313080" cy="215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610920" y="580536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Тундра и лесотундра 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5272200" y="5632560"/>
            <a:ext cx="32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Белая куропатка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5" name="Picture 24" descr="олень карибу"/>
          <p:cNvPicPr/>
          <p:nvPr/>
        </p:nvPicPr>
        <p:blipFill>
          <a:blip r:embed="rId4"/>
          <a:stretch/>
        </p:blipFill>
        <p:spPr>
          <a:xfrm>
            <a:off x="2050920" y="2421000"/>
            <a:ext cx="3260880" cy="2176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5"/>
          <p:cNvSpPr/>
          <p:nvPr/>
        </p:nvSpPr>
        <p:spPr>
          <a:xfrm>
            <a:off x="2251440" y="116856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олярный заяц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2176560" y="4624560"/>
            <a:ext cx="31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Олень -карибу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064200" y="289728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есец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684360" y="11592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Для какой природной зоны характерны чрезмерное увлажнение, суровая зима, непродолжительное лето, многообразие хвойных пород деревьев?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50" name="Picture 6" descr="800px-Wolverine_on_rock"/>
          <p:cNvPicPr/>
          <p:nvPr/>
        </p:nvPicPr>
        <p:blipFill>
          <a:blip r:embed="rId1"/>
          <a:stretch/>
        </p:blipFill>
        <p:spPr>
          <a:xfrm>
            <a:off x="4643280" y="1197000"/>
            <a:ext cx="3657600" cy="24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1020019"/>
          <p:cNvPicPr/>
          <p:nvPr/>
        </p:nvPicPr>
        <p:blipFill>
          <a:blip r:embed="rId2"/>
          <a:stretch/>
        </p:blipFill>
        <p:spPr>
          <a:xfrm>
            <a:off x="179280" y="1413000"/>
            <a:ext cx="4680000" cy="44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718px-Mule_Deer_near_Wawona_in_YNP"/>
          <p:cNvPicPr/>
          <p:nvPr/>
        </p:nvPicPr>
        <p:blipFill>
          <a:blip r:embed="rId3"/>
          <a:stretch/>
        </p:blipFill>
        <p:spPr>
          <a:xfrm>
            <a:off x="5940360" y="3852720"/>
            <a:ext cx="2879640" cy="2745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8459640" y="1052640"/>
            <a:ext cx="36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росомаха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024560" y="57992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гризли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378px-Black_bear_large"/>
          <p:cNvPicPr/>
          <p:nvPr/>
        </p:nvPicPr>
        <p:blipFill>
          <a:blip r:embed="rId1"/>
          <a:stretch/>
        </p:blipFill>
        <p:spPr>
          <a:xfrm>
            <a:off x="395280" y="189000"/>
            <a:ext cx="230508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800px-Biber_2_db"/>
          <p:cNvPicPr/>
          <p:nvPr/>
        </p:nvPicPr>
        <p:blipFill>
          <a:blip r:embed="rId2"/>
          <a:stretch/>
        </p:blipFill>
        <p:spPr>
          <a:xfrm>
            <a:off x="3995640" y="3284640"/>
            <a:ext cx="5148360" cy="33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0px-Wood-Buffalo-NP_Waldbison_2_98-07-02"/>
          <p:cNvPicPr/>
          <p:nvPr/>
        </p:nvPicPr>
        <p:blipFill>
          <a:blip r:embed="rId3"/>
          <a:stretch/>
        </p:blipFill>
        <p:spPr>
          <a:xfrm>
            <a:off x="3564000" y="398520"/>
            <a:ext cx="4032360" cy="2454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592920" y="37828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Барибал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864560" y="614520"/>
            <a:ext cx="37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лесные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8367840" y="614520"/>
            <a:ext cx="38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бизоны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916360" y="62308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бобер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 flipV="1" rot="10800000">
            <a:off x="734760" y="4843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Зона тайги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 какой природной зоне рядом с хвойными деревьями растут дуб, бук, липа, осина, береза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64" name="Picture 5" descr="скунс"/>
          <p:cNvPicPr/>
          <p:nvPr/>
        </p:nvPicPr>
        <p:blipFill>
          <a:blip r:embed="rId1"/>
          <a:stretch/>
        </p:blipFill>
        <p:spPr>
          <a:xfrm>
            <a:off x="179280" y="1413000"/>
            <a:ext cx="3332160" cy="266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399px-Lynx_lynx_poing"/>
          <p:cNvPicPr/>
          <p:nvPr/>
        </p:nvPicPr>
        <p:blipFill>
          <a:blip r:embed="rId2"/>
          <a:stretch/>
        </p:blipFill>
        <p:spPr>
          <a:xfrm>
            <a:off x="6948360" y="4049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431px-Procyon_lotor_7_-_am_Wasser"/>
          <p:cNvPicPr/>
          <p:nvPr/>
        </p:nvPicPr>
        <p:blipFill>
          <a:blip r:embed="rId3"/>
          <a:stretch/>
        </p:blipFill>
        <p:spPr>
          <a:xfrm>
            <a:off x="3564000" y="1152360"/>
            <a:ext cx="3095640" cy="5156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179280" y="404820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скунс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564000" y="62308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енот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948360" y="3567240"/>
            <a:ext cx="1944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7072200" y="3567240"/>
            <a:ext cx="189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6560" y="361620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рысь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8760" y="4986360"/>
            <a:ext cx="31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Зона смешанных лесов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611280" y="47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 какой природной зоне растет несколько десятков видов дубов, а также каштаны, липы, клены и т. д.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74" name="Picture 5" descr="800px-Fischotter,_Lutra_Lutra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03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800px-Hystrix_cristata_qtl1"/>
          <p:cNvPicPr/>
          <p:nvPr/>
        </p:nvPicPr>
        <p:blipFill>
          <a:blip r:embed="rId2"/>
          <a:stretch/>
        </p:blipFill>
        <p:spPr>
          <a:xfrm>
            <a:off x="2700360" y="256536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800px-Praeriehunde_3"/>
          <p:cNvPicPr/>
          <p:nvPr/>
        </p:nvPicPr>
        <p:blipFill>
          <a:blip r:embed="rId3"/>
          <a:stretch/>
        </p:blipFill>
        <p:spPr>
          <a:xfrm>
            <a:off x="6334200" y="3933720"/>
            <a:ext cx="2809800" cy="2737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7003800" y="354492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Луговые собачки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266720" y="22478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Дикобраз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186000" y="1312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ыдра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04200" y="582444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Зона широколиственных лесов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63480" y="3510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Этой местности свойственны низкие травы с преобладанием  ковыля, мятлика , пырея. По ним бродят стада бизонов, олени, койоты , лисицы.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82" name="Picture 5" descr="800px-California_Death_Valley_Coyote"/>
          <p:cNvPicPr/>
          <p:nvPr/>
        </p:nvPicPr>
        <p:blipFill>
          <a:blip r:embed="rId1"/>
          <a:stretch/>
        </p:blipFill>
        <p:spPr>
          <a:xfrm>
            <a:off x="250920" y="1773360"/>
            <a:ext cx="4248000" cy="338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Bison_herd"/>
          <p:cNvPicPr/>
          <p:nvPr/>
        </p:nvPicPr>
        <p:blipFill>
          <a:blip r:embed="rId2"/>
          <a:stretch/>
        </p:blipFill>
        <p:spPr>
          <a:xfrm>
            <a:off x="4067280" y="2708280"/>
            <a:ext cx="4895640" cy="3754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4551840" y="17668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Койот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767120" y="6381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Степной бизон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21640" y="55357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Степь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26028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ак называются степи Северной Америки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?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88" name="Picture 5" descr="800px-Prairie_grass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755640" y="5967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рерии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50920" y="333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ак называется одно из самых высоких деревьев планеты, растущее в зоне жестколиственных лесов и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устарников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91" name="Picture 5" descr="Гигантские секвойи в национальном парке  Секвойя"/>
          <p:cNvPicPr/>
          <p:nvPr/>
        </p:nvPicPr>
        <p:blipFill>
          <a:blip r:embed="rId1"/>
          <a:stretch/>
        </p:blipFill>
        <p:spPr>
          <a:xfrm>
            <a:off x="468360" y="1484280"/>
            <a:ext cx="3387600" cy="4392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4067280" y="1479600"/>
            <a:ext cx="309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секвойя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067280" y="3789360"/>
            <a:ext cx="360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гигантская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716360" y="177336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Самое высокое и большое в мире дерево-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секвойя « генерал Шлиман» -растет в Калифорнии. 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Высота ее 84 м , диаметр ствола 35 м , толщина ветвей более 3 м, возраст около 2500 лет, вес 2500 т.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секвойя"/>
          <p:cNvPicPr/>
          <p:nvPr/>
        </p:nvPicPr>
        <p:blipFill>
          <a:blip r:embed="rId1"/>
          <a:stretch/>
        </p:blipFill>
        <p:spPr>
          <a:xfrm>
            <a:off x="611280" y="404640"/>
            <a:ext cx="3529080" cy="482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TunnelLog"/>
          <p:cNvPicPr/>
          <p:nvPr/>
        </p:nvPicPr>
        <p:blipFill>
          <a:blip r:embed="rId2"/>
          <a:stretch/>
        </p:blipFill>
        <p:spPr>
          <a:xfrm>
            <a:off x="4500720" y="1989000"/>
            <a:ext cx="4103640" cy="3024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700160" y="517680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Тоннель в стволе секвойи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360" y="52484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Секвойя в Национальном парке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624560" y="47628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Некоторые виды секвойи доживают до 4000 лет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468360" y="4762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96200" y="22680"/>
            <a:ext cx="120848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ксиканский залив               П-ов Флорида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а Миссисипи                   Гудзонов залив                              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чисон                             Марьято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ппалачи                             Большой Бассейн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радор                              Мичиган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з. Верхнее                          Маккензи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иагара                                 Юкатан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ингово море                    Долина смерти. </a:t>
            </a:r>
            <a:endParaRPr b="1" lang="en-US" sz="32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24000" y="4762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акая природная зона не образует сплошной полосы, а напоминает мозаику, где преобладают кактусы и агавы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01" name="Picture 5" descr="Кактусы мексиканского нагорья"/>
          <p:cNvPicPr/>
          <p:nvPr/>
        </p:nvPicPr>
        <p:blipFill>
          <a:blip r:embed="rId1"/>
          <a:stretch/>
        </p:blipFill>
        <p:spPr>
          <a:xfrm>
            <a:off x="179280" y="1557360"/>
            <a:ext cx="4967280" cy="3600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агава"/>
          <p:cNvPicPr/>
          <p:nvPr/>
        </p:nvPicPr>
        <p:blipFill>
          <a:blip r:embed="rId2"/>
          <a:stretch/>
        </p:blipFill>
        <p:spPr>
          <a:xfrm>
            <a:off x="5292720" y="4149720"/>
            <a:ext cx="3672000" cy="2232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58760" y="507996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Кактусы Мексиканского нагорья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5292720" y="6400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Агава</a:t>
            </a:r>
            <a:endParaRPr b="1" lang="en-US" sz="1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09640" y="568008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Тропические пустыни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47840" y="18252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акие народы являются коренными обитателями Северной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Америки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07" name="Picture 5" descr="Алеутка"/>
          <p:cNvPicPr/>
          <p:nvPr/>
        </p:nvPicPr>
        <p:blipFill>
          <a:blip r:embed="rId1"/>
          <a:stretch/>
        </p:blipFill>
        <p:spPr>
          <a:xfrm>
            <a:off x="539640" y="1052640"/>
            <a:ext cx="4040280" cy="288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Индеец"/>
          <p:cNvPicPr/>
          <p:nvPr/>
        </p:nvPicPr>
        <p:blipFill>
          <a:blip r:embed="rId2"/>
          <a:stretch/>
        </p:blipFill>
        <p:spPr>
          <a:xfrm>
            <a:off x="3214800" y="3500280"/>
            <a:ext cx="4187880" cy="3030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180px-Inuit_women_1907"/>
          <p:cNvPicPr/>
          <p:nvPr/>
        </p:nvPicPr>
        <p:blipFill>
          <a:blip r:embed="rId3"/>
          <a:stretch/>
        </p:blipFill>
        <p:spPr>
          <a:xfrm>
            <a:off x="6300720" y="620640"/>
            <a:ext cx="2286000" cy="278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8728200" y="614520"/>
            <a:ext cx="41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Эскимоска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53280" y="14558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Алеутка</a:t>
            </a:r>
            <a:endParaRPr b="1" lang="en-US" sz="1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624560" y="57992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Индейцы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800px-Flag_of_the_United_States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450px-Acer_saccharum_foliage"/>
          <p:cNvPicPr/>
          <p:nvPr/>
        </p:nvPicPr>
        <p:blipFill>
          <a:blip r:embed="rId1"/>
          <a:stretch/>
        </p:blipFill>
        <p:spPr>
          <a:xfrm>
            <a:off x="468360" y="260280"/>
            <a:ext cx="3816360" cy="460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800px-Flag_of_Canada"/>
          <p:cNvPicPr/>
          <p:nvPr/>
        </p:nvPicPr>
        <p:blipFill>
          <a:blip r:embed="rId2"/>
          <a:stretch/>
        </p:blipFill>
        <p:spPr>
          <a:xfrm>
            <a:off x="2916360" y="3213000"/>
            <a:ext cx="60354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755640" y="18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акое это государство? Как называется его столиц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17" name="Picture 5" descr="800px-Flag_of_Mexico"/>
          <p:cNvPicPr/>
          <p:nvPr/>
        </p:nvPicPr>
        <p:blipFill>
          <a:blip r:embed="rId1"/>
          <a:stretch/>
        </p:blipFill>
        <p:spPr>
          <a:xfrm>
            <a:off x="755640" y="1052640"/>
            <a:ext cx="7620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остопримечательности Кана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21" name="Picture 1" descr="телебашня"/>
          <p:cNvPicPr/>
          <p:nvPr/>
        </p:nvPicPr>
        <p:blipFill>
          <a:blip r:embed="rId1"/>
          <a:stretch/>
        </p:blipFill>
        <p:spPr>
          <a:xfrm>
            <a:off x="0" y="1214280"/>
            <a:ext cx="3882960" cy="26164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4417560" y="4525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1" lang="en-US" sz="12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23" name="Picture 4" descr="тотем1"/>
          <p:cNvPicPr/>
          <p:nvPr/>
        </p:nvPicPr>
        <p:blipFill>
          <a:blip r:embed="rId2"/>
          <a:stretch/>
        </p:blipFill>
        <p:spPr>
          <a:xfrm>
            <a:off x="0" y="3786120"/>
            <a:ext cx="3859200" cy="3071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иагара1"/>
          <p:cNvPicPr/>
          <p:nvPr/>
        </p:nvPicPr>
        <p:blipFill>
          <a:blip r:embed="rId3"/>
          <a:stretch/>
        </p:blipFill>
        <p:spPr>
          <a:xfrm>
            <a:off x="5429160" y="1071720"/>
            <a:ext cx="3714840" cy="258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амятник"/>
          <p:cNvPicPr/>
          <p:nvPr/>
        </p:nvPicPr>
        <p:blipFill>
          <a:blip r:embed="rId4"/>
          <a:stretch/>
        </p:blipFill>
        <p:spPr>
          <a:xfrm>
            <a:off x="5429160" y="3643200"/>
            <a:ext cx="3714840" cy="327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тотем2"/>
          <p:cNvPicPr/>
          <p:nvPr/>
        </p:nvPicPr>
        <p:blipFill>
          <a:blip r:embed="rId5"/>
          <a:stretch/>
        </p:blipFill>
        <p:spPr>
          <a:xfrm>
            <a:off x="3500280" y="2071800"/>
            <a:ext cx="2063880" cy="3429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0"/>
          <p:cNvSpPr/>
          <p:nvPr/>
        </p:nvSpPr>
        <p:spPr>
          <a:xfrm>
            <a:off x="1857240" y="15001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1 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1571760" y="4645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4786200" y="3228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3636"/>
                </a:solidFill>
                <a:latin typeface="Arial"/>
              </a:rPr>
              <a:t>3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5857920" y="3228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1" name="Прямоугольник 15"/>
          <p:cNvSpPr/>
          <p:nvPr/>
        </p:nvSpPr>
        <p:spPr>
          <a:xfrm>
            <a:off x="8643960" y="4029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71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1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долина монументов"/>
          <p:cNvPicPr/>
          <p:nvPr/>
        </p:nvPicPr>
        <p:blipFill>
          <a:blip r:embed="rId1"/>
          <a:stretch/>
        </p:blipFill>
        <p:spPr>
          <a:xfrm>
            <a:off x="0" y="785880"/>
            <a:ext cx="454644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памятник на горе Маунт - Рашмор"/>
          <p:cNvPicPr/>
          <p:nvPr/>
        </p:nvPicPr>
        <p:blipFill>
          <a:blip r:embed="rId2"/>
          <a:stretch/>
        </p:blipFill>
        <p:spPr>
          <a:xfrm>
            <a:off x="0" y="3143160"/>
            <a:ext cx="4429080" cy="3301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мост золотые ворота"/>
          <p:cNvPicPr/>
          <p:nvPr/>
        </p:nvPicPr>
        <p:blipFill>
          <a:blip r:embed="rId3"/>
          <a:stretch/>
        </p:blipFill>
        <p:spPr>
          <a:xfrm>
            <a:off x="5643720" y="714240"/>
            <a:ext cx="3500280" cy="279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арка в Сент - Луисе"/>
          <p:cNvPicPr/>
          <p:nvPr/>
        </p:nvPicPr>
        <p:blipFill>
          <a:blip r:embed="rId4"/>
          <a:stretch/>
        </p:blipFill>
        <p:spPr>
          <a:xfrm>
            <a:off x="5643720" y="3571920"/>
            <a:ext cx="3500280" cy="2601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Статуя Свободы"/>
          <p:cNvPicPr/>
          <p:nvPr/>
        </p:nvPicPr>
        <p:blipFill>
          <a:blip r:embed="rId5"/>
          <a:stretch/>
        </p:blipFill>
        <p:spPr>
          <a:xfrm>
            <a:off x="3857760" y="2071800"/>
            <a:ext cx="2367000" cy="3825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8"/>
          <p:cNvSpPr/>
          <p:nvPr/>
        </p:nvSpPr>
        <p:spPr>
          <a:xfrm>
            <a:off x="1285920" y="335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4071960" y="2571840"/>
            <a:ext cx="6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3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7429680" y="2428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6500880" y="40291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63636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1            Достопримечательности Мексики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Мурали"/>
          <p:cNvPicPr/>
          <p:nvPr/>
        </p:nvPicPr>
        <p:blipFill>
          <a:blip r:embed="rId1"/>
          <a:stretch/>
        </p:blipFill>
        <p:spPr>
          <a:xfrm>
            <a:off x="2571840" y="1000080"/>
            <a:ext cx="3714840" cy="2668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пирамиды Тикала"/>
          <p:cNvPicPr/>
          <p:nvPr/>
        </p:nvPicPr>
        <p:blipFill>
          <a:blip r:embed="rId2"/>
          <a:stretch/>
        </p:blipFill>
        <p:spPr>
          <a:xfrm>
            <a:off x="0" y="923760"/>
            <a:ext cx="1785960" cy="5934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Копия Чичен-Ица"/>
          <p:cNvPicPr/>
          <p:nvPr/>
        </p:nvPicPr>
        <p:blipFill>
          <a:blip r:embed="rId3"/>
          <a:stretch/>
        </p:blipFill>
        <p:spPr>
          <a:xfrm>
            <a:off x="2500200" y="4286160"/>
            <a:ext cx="3967200" cy="2571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Кецаль"/>
          <p:cNvPicPr/>
          <p:nvPr/>
        </p:nvPicPr>
        <p:blipFill>
          <a:blip r:embed="rId4"/>
          <a:stretch/>
        </p:blipFill>
        <p:spPr>
          <a:xfrm>
            <a:off x="6637320" y="1736640"/>
            <a:ext cx="1863720" cy="3835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8"/>
          <p:cNvSpPr/>
          <p:nvPr/>
        </p:nvSpPr>
        <p:spPr>
          <a:xfrm>
            <a:off x="2928960" y="27860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2643120" y="4029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3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1" name="Прямоугольник 10"/>
          <p:cNvSpPr/>
          <p:nvPr/>
        </p:nvSpPr>
        <p:spPr>
          <a:xfrm>
            <a:off x="6858000" y="30718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357200" y="1571760"/>
            <a:ext cx="687096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b7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  всем </a:t>
            </a:r>
            <a:endParaRPr b="1" lang="en-US" sz="4800" spc="1" strike="noStrike">
              <a:ln w="12600">
                <a:solidFill>
                  <a:srgbClr val="006600"/>
                </a:solidFill>
                <a:miter/>
              </a:ln>
              <a:solidFill>
                <a:srgbClr val="ffffb7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629280"/>
            <a:ext cx="42768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35856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Колорадо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бизо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Флорид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.Чирик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.индейц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.Гаван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.тундр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.койо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Маккенз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0.Орисабо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.Виннипег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то такой? Что такое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01920" y="12855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.Калифор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.Секво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.Аппалач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.гриз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.Миссисип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6.Большое медвежь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7.кукуруз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8.эскимос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9.тайг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.От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0920" y="404640"/>
            <a:ext cx="8424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.  Чему равна площадь Северной Америки с островами</a:t>
            </a: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?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0920" y="1125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2.  В каком направлении вытянута Северная Америка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9280" y="19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b7"/>
                </a:solidFill>
                <a:latin typeface="Arial"/>
              </a:rPr>
              <a:t>.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 каком полушарии — Северном или Южном — полностью расположена Северная Америка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5092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50920" y="342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4.  Каковы крайние западная и восточная точки материка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0920" y="429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0920" y="522936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5.Какой географический объект назван в честь А. Макензи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35080" y="333360"/>
            <a:ext cx="8513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6.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реимущественно в каких широтах расположена Северная Америк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1052640"/>
            <a:ext cx="8642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7. В каком полушарии — Западном или Восточном — полностью расположена Северная Америк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0920" y="191628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8. Каковы крайние северная и южная точки материк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0920" y="2565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9.  Какой архипелаг, один из крупнейших в мире, находится на севере материк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920" y="3573360"/>
            <a:ext cx="8642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0.  Какой крупный залив Северной Америки назван в честь одной из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стран материк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24000" y="4437000"/>
            <a:ext cx="83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1.  Какую часть материка называют Русской Америкой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2.Почему равнины расположены на востоке материка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79280" y="1364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акой самый большой  остров мира  расположен у берегов Северной</a:t>
            </a: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Америки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1" name="Picture 5" descr="о"/>
          <p:cNvPicPr/>
          <p:nvPr/>
        </p:nvPicPr>
        <p:blipFill>
          <a:blip r:embed="rId1"/>
          <a:stretch/>
        </p:blipFill>
        <p:spPr>
          <a:xfrm>
            <a:off x="1476360" y="1413000"/>
            <a:ext cx="6303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96600" y="208080"/>
            <a:ext cx="84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4 Назовите самую высокую точку Северной Америки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3" name="Picture 8" descr="Аляскинский хребет"/>
          <p:cNvPicPr/>
          <p:nvPr/>
        </p:nvPicPr>
        <p:blipFill>
          <a:blip r:embed="rId1"/>
          <a:stretch/>
        </p:blipFill>
        <p:spPr>
          <a:xfrm>
            <a:off x="2428920" y="17859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58920" y="404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5.Какие вулканы в Северной Америке самые высокие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На каком нагорье они расположены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5" name="Picture 5" descr="Pico_Orizaba_Pines"/>
          <p:cNvPicPr/>
          <p:nvPr/>
        </p:nvPicPr>
        <p:blipFill>
          <a:blip r:embed="rId1"/>
          <a:stretch/>
        </p:blipFill>
        <p:spPr>
          <a:xfrm>
            <a:off x="1857240" y="2143080"/>
            <a:ext cx="5000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6.  С чем связаны значительные климатические отличия на севере и юге Северной Америки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50920" y="162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7.  Почему арктические  воздушные массы часто проникают даже в район Мексиканского залива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50920" y="2637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 flipV="1" rot="10800000">
            <a:off x="250920" y="2630160"/>
            <a:ext cx="85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8.  В какой части Северной Америки наблюдается наибольшее влияние Тихого океана на климат?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 flipH="1">
            <a:off x="394560" y="3645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9.В каких климатических поясах лежит Северная  Америка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0920" y="4797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20.Почему в Северной Америке больше климатических поясов, чем в Африке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9:00:44Z</dcterms:created>
  <dc:creator>Компьютер</dc:creator>
  <dc:description/>
  <dc:language>en-US</dc:language>
  <cp:lastModifiedBy>SWETA</cp:lastModifiedBy>
  <dcterms:modified xsi:type="dcterms:W3CDTF">2012-02-29T13:22:56Z</dcterms:modified>
  <cp:revision>40</cp:revision>
  <dc:subject/>
  <dc:title>Слайд 1</dc:title>
</cp:coreProperties>
</file>