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B9D-1073-44B8-9938-28603E43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D7F-D9D2-4080-9D3A-9710EF6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8B2-C1F4-4985-B7DE-AF090A21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F47-52CB-44B6-A142-8D80015C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8EC-7ECB-407D-A6D2-9F40CD74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91B-CE95-4071-B4AD-AF58F4D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306-B940-4054-B90A-5AB707C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87F-D26E-47D5-8526-2F5DA142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EB3-4E22-485E-B304-C3641FEA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FD0-2CCB-4305-8F03-3FBB73F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7FB-F305-407C-AF46-FB932C2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20D-C2F6-4293-904D-EC47B91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F1F5-EF57-49F5-9248-9D54650CF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8440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литное и раздельное написание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НИ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с разными частями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941360"/>
            <a:ext cx="464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ученица 11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Шульц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8000" y="1558440"/>
            <a:ext cx="5345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Друг познаётся в (не)счастье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расна дружба (не)лестью, а  правдой и че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У неряхи да (не)пряхи нет и путной руба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Головня на шесток упала – (не)чаянный г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)большой дождишко, а лодырям отды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зубы есть, да (не)чего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кучен день до вечера, коли делать (не)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)гордись званием, а гордись 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Лёжа хлеба (не)добуд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Лодырю всегда (не)здоров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Друг и брат – великое дело: не скоро добуд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)сподручно волку с лисой промыш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)давши слова – крепись, а давши – дер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)убив медведя, шкуры (не)дел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Раскройте ско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728720" cy="191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2195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77080" y="5157720"/>
            <a:ext cx="22669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92160" y="1600920"/>
            <a:ext cx="536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руг познаётся в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счасть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расна дружба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лестью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, а  правдой и че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рях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да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пряхи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т и путной руба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ловня на шесток упала –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чаянный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большо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дождишко, а лодырям отды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зубы есть, да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чего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кучен день до вечера, коли делать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чего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гордись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званием, а гордись 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ёжа хлеба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добудешь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одырю всегда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здоровится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руг и брат – великое дело: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скоро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добуд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сподручно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волку с лисой промыш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давш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лова – крепись, а давши – дер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уби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медведя, шкуры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е дел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Частицы 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и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 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Загадки о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ерещатся м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де пишется 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де пишется 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дскажет вопр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может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просите всерье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Да или н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уда бы ни пл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ольшой крокоди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н всюду е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ебе наход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ак как же: ни плы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А может, не плы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может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Да или нет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огда б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уда-то не плы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н пищи себе 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е наход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о так как 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Доставалась е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о, значит, он плы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ы ответили: 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тветили: да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И ясно впол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де да – нико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е пишется 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 частицею 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ыл сыт крокод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 частицею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н бы голоден бы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Правописание частиц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052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.) Частица НИ является усилительной и употребляется для усиления отрицания, имеющегося в предложении, например: </a:t>
            </a:r>
            <a:r>
              <a:rPr b="0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Все были рады встрече и не умолкали ни на минуту. В диктанте нет ни одной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98900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.) Частица НИ употребляется в предложении без подлежащего с отрицанием, которое только подразумевается. Например: </a:t>
            </a:r>
            <a:r>
              <a:rPr b="0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а улице ни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852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. Частица НИ употребляется при союзах и союзных словах, связывающих придаточные предложения с главным, например: </a:t>
            </a:r>
            <a:r>
              <a:rPr b="0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Куда ни кинь взор, всюду ровная, вольная степь. Что ни начнет делать, все у него получается хорошо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933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. Частица НИ употребляется в устойчивых сочетаниях: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и жив ни мѐртв, ни тот ни другой, ни то ни сѐ, во что бы то ни стало, когда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785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азличайте напис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 ) не один (много) не раз (много раз)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ни один (никто) ни разу (никог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) не что иное, как не кто иной, как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ничто иное не никто иной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ишутся, ес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) сказуемое утвердительное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) сказуемое отрица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) возможна перестановка              б) перестановка невозмож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) есть союз как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) нет союза как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) возможна замена сочетания       г) замена частицами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только, 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ицами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только, именно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возмож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) сочетания не являются               д) сочетания являются чле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ленами предложения                  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 ряд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ahoma"/>
              </a:rPr>
              <a:t>1.)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ahoma"/>
              </a:rPr>
              <a:t>От данных существительных (которые без не не употребляются) образовать все возможные части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прерывность, неуклюжесть, небрежность, несуразность, невежа, невежда, невнимательность, необходимость, неожиданность, нелепость, негодование, неря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ahoma"/>
              </a:rPr>
              <a:t>2.)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Составить предложения с глаголами, которые без не не употреб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3.)Подобрать синонимы к слов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годовать, неволить, недоумевать, неистовствовать, нелепость, немощь, недруг, несчастье, недоверчивость, невнимательность, независимость, нерешительность, невольник, необъятная, неприятельский, неотложная, необходимый, непродолжительный, немудреный, недоверчивый, неустрашимый, невыгодный, осмотрительность, избыток, друг, любить, ловкий, нарочно, аккуратный, легкомысле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1:36:00Z</dcterms:created>
  <dc:creator>Александра</dc:creator>
  <dc:description/>
  <dc:language>en-US</dc:language>
  <cp:lastModifiedBy>Александра</cp:lastModifiedBy>
  <dcterms:modified xsi:type="dcterms:W3CDTF">2012-02-13T13:40:01Z</dcterms:modified>
  <cp:revision>2</cp:revision>
  <dc:subject/>
  <dc:title>Слитное и раздельное написание НЕ и НИ с разными частями речи</dc:title>
</cp:coreProperties>
</file>