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459-8E5C-4C33-A4F1-0E529D7D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8CD-4E2D-4F84-AC3C-AF4A66F9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B7D-B203-4FA8-A10F-80A4EDD7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9D4-993C-4673-87AB-E66947D9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256-3CE6-4A47-8C20-BB83A9E3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C0D-E81E-49F0-AAF4-5E373486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A42-F2C4-4D87-8135-0151FECC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113-F6BC-4528-A390-8629134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156-68A2-4DB4-B1A8-338C2A36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46A-4D76-4FC7-B099-9F23919F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F16-7024-4EB1-9E25-90F03F5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D0F-2401-44AC-A8B5-37FB3847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4B4D-2D28-4C2E-9F72-10AF6507A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ложение и вычитание смешан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64000" y="47628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1268280"/>
            <a:ext cx="1296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50920" y="2349360"/>
                <a:ext cx="685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780000" y="620640"/>
                <a:ext cx="714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43280" y="1413000"/>
                <a:ext cx="7142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04292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0" y="123732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0" y="190260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27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0" y="2958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362340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29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0" y="534420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133720"/>
            <a:ext cx="1296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997360"/>
            <a:ext cx="1297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860640"/>
            <a:ext cx="1297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3860640"/>
            <a:ext cx="1296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2997360"/>
            <a:ext cx="1297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2133720"/>
            <a:ext cx="1297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1268280"/>
            <a:ext cx="1296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46360" y="323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55640" y="4076640"/>
                <a:ext cx="812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24000" y="2349360"/>
                <a:ext cx="685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476360" y="3213000"/>
                <a:ext cx="685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1484280"/>
                <a:ext cx="657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64000" y="2349360"/>
                <a:ext cx="695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12000" y="3213000"/>
                <a:ext cx="685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588000" y="4076640"/>
                <a:ext cx="828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705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98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4508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198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198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198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198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4508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508640"/>
            <a:ext cx="9349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4508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4508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24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492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2492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24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494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49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49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26920" y="2276640"/>
                <a:ext cx="2192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547640" y="1628640"/>
                <a:ext cx="333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16360" y="1628640"/>
                <a:ext cx="333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356000" y="162864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796000" y="162864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00000" y="4797360"/>
                <a:ext cx="200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47640" y="4221000"/>
                <a:ext cx="314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4221000"/>
                <a:ext cx="314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84720" y="4292640"/>
                <a:ext cx="19980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24360" y="4149720"/>
                <a:ext cx="333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885600" y="3497040"/>
            <a:ext cx="2777040" cy="2726280"/>
            <a:chOff x="885600" y="3497040"/>
            <a:chExt cx="2777040" cy="2726280"/>
          </a:xfrm>
        </p:grpSpPr>
        <p:sp>
          <p:nvSpPr>
            <p:cNvPr id="118" name=""/>
            <p:cNvSpPr/>
            <p:nvPr/>
          </p:nvSpPr>
          <p:spPr>
            <a:xfrm>
              <a:off x="2062080" y="4581360"/>
              <a:ext cx="649440" cy="64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568000">
              <a:off x="1990800" y="3573360"/>
              <a:ext cx="66996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210800">
              <a:off x="2646360" y="4242960"/>
              <a:ext cx="914400" cy="64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268400">
              <a:off x="971280" y="4321080"/>
              <a:ext cx="1127160" cy="68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204400">
              <a:off x="2566800" y="5084640"/>
              <a:ext cx="780840" cy="536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"/>
            <p:cNvCxnSpPr>
              <a:stCxn id="118" idx="4"/>
            </p:cNvCxnSpPr>
            <p:nvPr/>
          </p:nvCxnSpPr>
          <p:spPr>
            <a:xfrm rot="5400000">
              <a:off x="1684440" y="5389920"/>
              <a:ext cx="864360" cy="54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4920">
              <a:solidFill>
                <a:srgbClr val="000000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rot="1155000">
              <a:off x="1919160" y="5660640"/>
              <a:ext cx="86544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6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076720" y="3531240"/>
            <a:ext cx="2815560" cy="2544120"/>
            <a:chOff x="5076720" y="3531240"/>
            <a:chExt cx="2815560" cy="2544120"/>
          </a:xfrm>
        </p:grpSpPr>
        <p:sp>
          <p:nvSpPr>
            <p:cNvPr id="126" name=""/>
            <p:cNvSpPr/>
            <p:nvPr/>
          </p:nvSpPr>
          <p:spPr>
            <a:xfrm>
              <a:off x="6013440" y="4508640"/>
              <a:ext cx="719280" cy="64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968000">
              <a:off x="5724720" y="3645000"/>
              <a:ext cx="71892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9377600">
              <a:off x="6516720" y="3933360"/>
              <a:ext cx="91440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6720" y="4508640"/>
              <a:ext cx="935280" cy="64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053000">
              <a:off x="5724720" y="5084640"/>
              <a:ext cx="64764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"/>
            <p:cNvCxnSpPr>
              <a:stCxn id="126" idx="5"/>
            </p:cNvCxnSpPr>
            <p:nvPr/>
          </p:nvCxnSpPr>
          <p:spPr>
            <a:xfrm flipH="1" rot="16200000">
              <a:off x="6489000" y="5200920"/>
              <a:ext cx="959400" cy="681840"/>
            </a:xfrm>
            <a:prstGeom prst="curvedConnector5">
              <a:avLst>
                <a:gd name="adj1" fmla="val 54767"/>
                <a:gd name="adj2" fmla="val 49973"/>
                <a:gd name="adj3" fmla="val 54767"/>
              </a:avLst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32" name=""/>
            <p:cNvSpPr/>
            <p:nvPr/>
          </p:nvSpPr>
          <p:spPr>
            <a:xfrm rot="2422200">
              <a:off x="6948360" y="4653000"/>
              <a:ext cx="691920" cy="103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7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6348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10720" y="376200"/>
            <a:ext cx="2532600" cy="2580840"/>
            <a:chOff x="5310720" y="376200"/>
            <a:chExt cx="2532600" cy="2580840"/>
          </a:xfrm>
        </p:grpSpPr>
        <p:sp>
          <p:nvSpPr>
            <p:cNvPr id="135" name=""/>
            <p:cNvSpPr/>
            <p:nvPr/>
          </p:nvSpPr>
          <p:spPr>
            <a:xfrm>
              <a:off x="6300360" y="1335240"/>
              <a:ext cx="720720" cy="64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310720" y="376200"/>
              <a:ext cx="2532600" cy="2580840"/>
              <a:chOff x="5310720" y="376200"/>
              <a:chExt cx="2532600" cy="2580840"/>
            </a:xfrm>
          </p:grpSpPr>
          <p:cxnSp>
            <p:nvCxnSpPr>
              <p:cNvPr id="137" name=""/>
              <p:cNvCxnSpPr/>
              <p:nvPr/>
            </p:nvCxnSpPr>
            <p:spPr>
              <a:xfrm rot="5400000">
                <a:off x="5620320" y="2014200"/>
                <a:ext cx="888120" cy="681480"/>
              </a:xfrm>
              <a:prstGeom prst="curvedConnector5">
                <a:avLst>
                  <a:gd name="adj1" fmla="val 55271"/>
                  <a:gd name="adj2" fmla="val 50000"/>
                  <a:gd name="adj3" fmla="val 55271"/>
                </a:avLst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38" name=""/>
              <p:cNvGrpSpPr/>
              <p:nvPr/>
            </p:nvGrpSpPr>
            <p:grpSpPr>
              <a:xfrm>
                <a:off x="5310720" y="376200"/>
                <a:ext cx="2532600" cy="2580840"/>
                <a:chOff x="5310720" y="376200"/>
                <a:chExt cx="2532600" cy="2580840"/>
              </a:xfrm>
            </p:grpSpPr>
            <p:sp>
              <p:nvSpPr>
                <p:cNvPr id="139" name=""/>
                <p:cNvSpPr/>
                <p:nvPr/>
              </p:nvSpPr>
              <p:spPr>
                <a:xfrm rot="19759200">
                  <a:off x="5994000" y="475920"/>
                  <a:ext cx="648000" cy="931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9591800">
                  <a:off x="6805440" y="831960"/>
                  <a:ext cx="936360" cy="6490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774000">
                  <a:off x="5363640" y="1263600"/>
                  <a:ext cx="911160" cy="5810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921000">
                  <a:off x="7020720" y="1695240"/>
                  <a:ext cx="547920" cy="83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695400">
                  <a:off x="6084360" y="2342880"/>
                  <a:ext cx="1150920" cy="5032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42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44" name=""/>
                <p:cNvCxnSpPr/>
                <p:nvPr/>
              </p:nvCxnSpPr>
              <p:spPr>
                <a:xfrm rot="5400000">
                  <a:off x="5620320" y="2014200"/>
                  <a:ext cx="888120" cy="681480"/>
                </a:xfrm>
                <a:prstGeom prst="curvedConnector5">
                  <a:avLst>
                    <a:gd name="adj1" fmla="val 55271"/>
                    <a:gd name="adj2" fmla="val 50000"/>
                    <a:gd name="adj3" fmla="val 55271"/>
                  </a:avLst>
                </a:prstGeom>
                <a:ln w="31680">
                  <a:solidFill>
                    <a:srgbClr val="000000"/>
                  </a:solidFill>
                  <a:miter/>
                </a:ln>
              </p:spPr>
            </p:cxnSp>
          </p:grpSp>
        </p:grpSp>
      </p:grpSp>
      <p:grpSp>
        <p:nvGrpSpPr>
          <p:cNvPr id="145" name=""/>
          <p:cNvGrpSpPr/>
          <p:nvPr/>
        </p:nvGrpSpPr>
        <p:grpSpPr>
          <a:xfrm>
            <a:off x="1486440" y="377280"/>
            <a:ext cx="2796120" cy="2727360"/>
            <a:chOff x="1486440" y="377280"/>
            <a:chExt cx="2796120" cy="2727360"/>
          </a:xfrm>
        </p:grpSpPr>
        <p:sp>
          <p:nvSpPr>
            <p:cNvPr id="146" name=""/>
            <p:cNvSpPr/>
            <p:nvPr/>
          </p:nvSpPr>
          <p:spPr>
            <a:xfrm>
              <a:off x="2628720" y="1268280"/>
              <a:ext cx="718920" cy="64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306600">
              <a:off x="2770920" y="404640"/>
              <a:ext cx="65412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429400">
              <a:off x="3276360" y="980640"/>
              <a:ext cx="936720" cy="57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373000">
              <a:off x="1908000" y="836280"/>
              <a:ext cx="900000" cy="64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 rot="7748400">
              <a:off x="3204360" y="1699200"/>
              <a:ext cx="649440" cy="81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 rot="5400000">
              <a:off x="2003040" y="1819800"/>
              <a:ext cx="753120" cy="802440"/>
            </a:xfrm>
            <a:prstGeom prst="curvedConnector5">
              <a:avLst>
                <a:gd name="adj1" fmla="val 11142"/>
                <a:gd name="adj2" fmla="val 80655"/>
                <a:gd name="adj3" fmla="val 11142"/>
              </a:avLst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3687480" y="1000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803960" y="1807560"/>
              <a:ext cx="1216080" cy="1297080"/>
              <a:chOff x="1803960" y="1807560"/>
              <a:chExt cx="1216080" cy="1297080"/>
            </a:xfrm>
          </p:grpSpPr>
          <p:sp>
            <p:nvSpPr>
              <p:cNvPr id="154" name=""/>
              <p:cNvSpPr/>
              <p:nvPr/>
            </p:nvSpPr>
            <p:spPr>
              <a:xfrm rot="19448400">
                <a:off x="2052360" y="1915560"/>
                <a:ext cx="718920" cy="10810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3247800">
                <a:off x="1926720" y="213156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36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773080" y="127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ое животное бегает быстрее всех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3860280"/>
            <a:ext cx="4032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ые отве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ос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епар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яц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14720" cy="4248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68360" y="2171880"/>
                <a:ext cx="388764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79640" y="4869000"/>
                <a:ext cx="5904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979640" y="6021360"/>
                <a:ext cx="6523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140360" y="5445000"/>
                <a:ext cx="431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птица может ходить п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у водо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3500280"/>
            <a:ext cx="4465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можные 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йк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ляпк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асточк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809880" cy="3398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1916280"/>
                <a:ext cx="41767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8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2360" y="4653000"/>
                <a:ext cx="617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843280" y="5157720"/>
                <a:ext cx="673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067280" y="4076640"/>
                <a:ext cx="6174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озеро в нашей стране называют жемчужиной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3645000"/>
            <a:ext cx="44640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удское озе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зеро «Байкал»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зеро «Ильм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57600" cy="3816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39640" y="1700280"/>
                <a:ext cx="410364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х</m:t>
                        </m:r>
                      </m:e>
                    </m:d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80000" y="4724280"/>
                <a:ext cx="6174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284720" y="5373720"/>
                <a:ext cx="714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419640" y="4076640"/>
                <a:ext cx="574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самая яркая звезда на зимнем ночном небе в северном полушар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1720" y="3508200"/>
            <a:ext cx="426888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льтаир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риу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003640" y="2421000"/>
            <a:ext cx="38102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М вариант 4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223,224,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715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21:56Z</dcterms:created>
  <dc:creator>1</dc:creator>
  <dc:description/>
  <dc:language>en-US</dc:language>
  <cp:lastModifiedBy>1</cp:lastModifiedBy>
  <dcterms:modified xsi:type="dcterms:W3CDTF">2009-02-04T05:26:01Z</dcterms:modified>
  <cp:revision>2</cp:revision>
  <dc:subject/>
  <dc:title>Сложение и вычитание смешанных чисел</dc:title>
</cp:coreProperties>
</file>