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C34-BE3A-454B-8940-63A1E308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F4E-61EE-4D76-857A-C49FEE92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D3A-3305-450A-9E83-08291DF3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EFA-6FD8-4589-A799-86B19A92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88C4-5DBF-4D77-9B99-5B5D394F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27FE-A072-47F6-93D6-1AA45F52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6866-2926-424B-983B-2D5C9D3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8B0C-B314-49B5-9EE7-472F53E6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4E86-FEBD-43F6-847E-A9613C0E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0C82-AB04-48E7-AA45-E97D9C94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AB01-F30A-49CE-B114-7769B91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4C0-2BF0-498B-8305-DE05D1BE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858A-D46C-4B60-9BDA-A468CB7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4783-B5D5-491C-A5AD-8EE3AD15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01DB-622D-4708-947E-4DD945FE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BC80-3396-4029-9B45-414F7817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01D-D073-442A-8C4C-574E66BF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476-DB43-44CF-876B-5363BB32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CC8-363A-41E4-87BE-B0C7C09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44C-E2FA-4603-8CD9-1D76E8C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083-0A95-4CE6-A6AE-6C2B8E57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EED-1CE7-4FC6-B571-06B57C69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465-AB15-414A-8C10-5704A2A2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BC2-7FBD-45D1-BCE9-A090877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0F4-0D07-440E-8CC4-82F7DC4C70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5C4E-365C-4E61-B695-240956F854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bgu.ru/forums/uploads/post-175-116704068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llery.libo.ru/albums/userpics/Kalininskiy_KAZAK_0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52.radikal.ru/i138/0901/dc/1edc61c69ddc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azkurer.kz/images/stories/&#1042;&#1072;&#1089;&#1080;&#1083;&#1100;&#1077;&#1074;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ctionbook.ru/static/bookimages/00/31/33/00313392.bin.dir/h/i_03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yanskobl.ru/projects/partisan/img/f27-2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rod.tomsk.ru/uploads/30725/1251182200/5851463lxf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сторические и нравственные уроки поэмы Павла Василь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Соляной бунт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37480" y="4451400"/>
            <a:ext cx="403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амсонов Ар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7 кла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У «Русскополянская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имущество было на стороне казаков, они были хорошо обучены и вооружены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Картинка 17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8064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одавление бунта бросают казаков, вооруженных плетями и саблями. Они безжалостно расправляются с казахской беднотой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Картинка 18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76327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эме происходит противостояние казаков и киргизов, что видно по описанию персонажей. Казаки безжалостно убивают джатаков, поднявших бунт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5" name="" descr="Картинка 144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557360"/>
            <a:ext cx="712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118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Исторические уро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931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Нельзя заставлять людей каторжно трудиться, из этого не выйдет ничего хорошего, только горе и страд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Практически все народные бунты жестоко подавлялись, потому что у бунтующих не было оружия, подготовки и дисципл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Если власть притесняет малоимущих, наживаясь на их рабском труде, то прежде всего это ведёт к восстанию униженных и к  деградации личности самих притесн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нравственные уроки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Нарушение Божьих заповедей и нравственных законов приводит к ужасным последствиям – гибели противоборствующих сторон, гибели антагони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Никто не имеет права отнимать жизнь, данную Бог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эма доказывает, что нужно запоминать исторические уроки, делать нравственные выводы, чтобы не повторять ошибок прошлого. Она показывает, что навязывание другим народам своей воли приводит к бунтам или  войнам, как, например,  в Афганистане. Если мы не делаем  выводы, то это может кончиться очень плохо для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Послеслов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х и долог путь к человеку, люд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о страна вся в зелени – по колени тра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удет вам помилование, люди, буд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ро меня ж, бедового, спойте 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ается в том, что сквозь пласты времени мы заглядываем в историю нашего родного края, узнаём о реальном историческом факте, отраженном в поэме П.Васильева « Соляной бунт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dbbd71"/>
                </a:solidFill>
                <a:latin typeface="Arial"/>
              </a:rPr>
              <a:t>Цель работы: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яснить, какие исторические и нравственные уроки можно извлечь из поэмы Павла Васильева «Соляной бунт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дачи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Изучить литературу по данному вопрос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роанализировать произведение, выяснить, имеет ли оно реальную историческую осно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утём опроса выяснить, знакомо ли это произведение учащимся нашей школы и взрослым, а также знают ли они вообще о соляном бунте  в Сибири 19 века?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Систематизировать изученный материа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Сделать выводы по изученной пробл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Картинка 1 из 15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4894200" cy="6524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64200" y="404640"/>
            <a:ext cx="2809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ри всей сво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деологиче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рности поэ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вла Василь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Соляной бун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вляется значитель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ытием на наш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этическом фро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Александр Курилович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захи разводили верблюдов, баранов, коров, коз. Основной отраслью оставалось овцеводство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i-main-pic" descr="Картинка 8 из 112"/>
          <p:cNvPicPr/>
          <p:nvPr/>
        </p:nvPicPr>
        <p:blipFill>
          <a:blip r:embed="rId1"/>
          <a:stretch/>
        </p:blipFill>
        <p:spPr>
          <a:xfrm>
            <a:off x="755640" y="1268280"/>
            <a:ext cx="784872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нищавшие казахи нанимались на работы к зажиточным казакам. Особенно тяжело было женщинам.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" descr="Картинка 191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7705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 переселенческой политики царской администрации казахи  теряли свои лучшие пастбища и несли немалые убытк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7" name="" descr="Картинка 211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413000"/>
            <a:ext cx="7201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заки. Вторая половина 19 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9" name="" descr="Картинка 46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8136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6:04:16Z</dcterms:created>
  <dc:creator>учебный</dc:creator>
  <dc:description/>
  <dc:language>en-US</dc:language>
  <cp:lastModifiedBy>OEM</cp:lastModifiedBy>
  <dcterms:modified xsi:type="dcterms:W3CDTF">2010-02-20T04:56:47Z</dcterms:modified>
  <cp:revision>24</cp:revision>
  <dc:subject/>
  <dc:title>Слайд 1</dc:title>
</cp:coreProperties>
</file>