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073-22FD-4B32-BE62-E57FA665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5B1-D7D2-4628-B3C6-4B8385EF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0D8-C973-4E79-93CB-3187E447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578-4A6B-4C36-B5BC-0FDA7522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A5EC-4FD3-4B9D-A073-29D5FCC4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6826-CB44-47D3-B168-3069F310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B7D7-B20A-4FB3-92C7-B588A1E3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6AC-F8D7-43EE-B4C5-D2D5CF41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CC5E-6CD8-49B2-8D16-226E577C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2F0D-DED7-4588-9E4A-32A9EA4F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1AC-3DB7-4387-9C98-E6BF355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17E-5EC3-49D7-A2F4-F8FD65F2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3CA1-F917-4F9E-B029-64F2DB7D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9D3C-6ADE-47EA-A2F5-F303F4F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45EC-E7F0-4838-97A1-B64DCF02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619F-7C41-45BA-AE51-A26E5DF6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B8C4-26CD-4678-8094-AC91857F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D52-F426-4E1B-A85C-A3D662AC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BF7-8AEC-4748-8C97-05FBD2F9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B39-1F71-4DD9-B04E-B7B81DA6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64A-BFFB-43F6-98ED-A017A2D9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A21-FD8F-4FE8-B7A3-1F98BEB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BAB-3B89-4F62-AFE6-B083F3E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5FF-0CC3-4649-AAA4-27D2A9D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D588-D950-4DD9-BA04-E59A2494F3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1668-A5F5-43F0-92A6-5989C962F8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AMHAPPY" descr=""/>
          <p:cNvPicPr/>
          <p:nvPr/>
        </p:nvPicPr>
        <p:blipFill>
          <a:blip r:embed="rId1"/>
          <a:stretch/>
        </p:blipFill>
        <p:spPr>
          <a:xfrm>
            <a:off x="6629400" y="4267080"/>
            <a:ext cx="2057400" cy="2133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61960" y="380880"/>
            <a:ext cx="802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Путешествие в страну "Светофорию"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0720" y="3276720"/>
            <a:ext cx="228600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67080" y="4419720"/>
            <a:ext cx="4343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у выполн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ца 9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Покровской ОО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злова Ма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вый троллейбус был построен в 1882 г. Только резиновых шин тогда ещё не было. Колёса у первого троллейбуса были деревянные, а улицы тогда мостили булыжником. На булыжной мостовой троллейбус подпрыгивал, его дуги соскакивали с провод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380880"/>
            <a:ext cx="77724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втобус-это тоже вид городского общественного транспорта. Для автобуса не надо рельсов, не надо контактных проводов. Но для него нужен бензи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сем хорош автобус, вот только воздух он загрязняет выхлопными газ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чался выпуск автомобилей с двигателем, работающем на сжиженном газе. Вредность отработанных газов меньше, чем у бензинов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о всё-таки самым лучшим, быстрым и надёжным транспортом является метрополит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304920"/>
            <a:ext cx="83059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зметки на шосс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ного машин ездят по улицам и дорогам.. Одни в одну сторону, другие- в другую, и не сталкиваются., а каждая машина знает своё место в общем потоке транспор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ждый водитель знает правила движения по загруженности транспортным магистралям, а дорога специально размеч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гда пошёл машин пото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пеши скорей на «островок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и один из водителей не имеет права заезжать на этот «островок», для него - это запретное место.На «островке» может остановиться пешеход и спокойно подождать, когда пройдёт маш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ля пешеходов есть свои специальные линии на дороге, они идут не вдоль, а поперёк дороги.Это «зебра» - пешеходный перехо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0"/>
            <a:ext cx="8915400" cy="59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куда появилось правило правостороннего движ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но возникло в глубокой древности. Когда-то люди ездили и ходили вооружёнными. Не только готовясь к бою, но и собираясь съездить в гости, люди брали с собой меч и щит, топор и булаву. Путешествовать было опасно. По дорогам скитались в поисках добычи разбойники. Идёт человек или едет по дороге. В правой руке  у него оружие, в левой щит. Видит, что кто-то едет ему навстречу.Как выгоднее с ним разминуться? Конечно так, чтобы быть прикрытым щитом. Вот так и появилась привычка расходиться правой стороной. И осталась навсег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0"/>
            <a:ext cx="8915400" cy="72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колько лет правилам движени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Правилам движения в нашей стране более200лет. 18 век. Именно тогда в России было доведено «до сведения широкой публики» несколько весьма категорических требова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1.»В городе и в предместьях кучерам ездить только на взнузданных лошадях малой рысью, а скоро отнюдь не ездить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2. «Когда случится подъехать к перекрёстку, тогда ехать ещё тише и осматриваться во все стороны, дабы кому повреждения не учинить или с кем не съехатьс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3. «На мостах через реки карет не обгонять, а ехать ,напротив ,порядочно и не скоро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4. « Для хождения пеших подле домов положены большие плашки - каменные. Конным на оных камнях отнюдь не становиться, тож и подле стен самих, где пеший люд ходит, дабы тем не мешать им ходить пещком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5. «На улицах ямщикам предписывается ни в коем раз громко не кричать, не свистеть, не звенеть, и не бренчать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Последние указания были весьма уместны,т.к.разудалые ямщики шумели как хотел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52480" y="838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57200"/>
            <a:ext cx="861048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коны дорог для пешехо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Знать правила - это ещё не всё, надо быть пешеходом дисциплинированным, не нарушать эти правил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Большое количество дорожных происшествий происходят по вине  пешеходов. Одни плохо знают правила, а другие нарушают, желая показать, какие они смелые да ловк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ждый пешеход должен помнить: машину никогда мгновенно не остановишь. Пусть изо всех сил нажал шофёр на тормоза, но машина от начала торможения до полной остановки ещё пройдёт некоторое расстояние. Так же сразу не остановить и трамва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Глупо думать: «Как - нибуд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Проскочу трамвай ный путь»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икогда не забыва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Что быстрей тебя трамва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28600"/>
            <a:ext cx="8305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ходить стоящий трамвай опасно. Поэтому пассажирам, выходящим из него, необходимо дойти до ближайшего пешеходного перехода и перейти улицу по всем правил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жидать общественный транспорт можно только на  специальных посадочных площадках. Если же нет специально оборудованной площадки, то ожидать его надо только на тротуаре, ни в коем случае не выходить на проезжую часть дорог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808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В общественном транспорте надо вести себя спокойно, не толкаться в дверях, не высовываться из окон, т.к. проходящий транспорт может задеть.Школьники обязательно должны уступать место старши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228600"/>
            <a:ext cx="87631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з трёх несчастных случаев, происходящих на улице, один приходится на тех, кто неправильно её перход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реходить улицу надо только по пешеходным переходам, при зелёном сигнале светофора. Если же нет светофора, то, прежде чем перейти улицу, надо посмотреть налево, дойдя до середины дороги, остановиться и посмотреть направо. Убедившись, что транспорта нет, перейти улицу. Если же идут автомашины , надо спокойно переждать посередине улицы или же на специальном  «островке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52280"/>
            <a:ext cx="67816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ля школьников есть ещё правила езды на велосипеде. Велосипед очень удобный и широко распространённый вид транспорта. Но вождение велосипеда требует не только ловкости в его вождении, но и знаний правил дорожного движения. Поэтому разрешается ездить на велосипедах только с четырнадцатилетнего возрас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се дорожные знаки, разметки, подземные переходы существуют для того, чтобы исключить аварии на дорогах, сохранить жизнь человека. Вот поэтому так важно знать дорожную грамоту всем: и пешеходам , и водител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733400"/>
            <a:ext cx="20574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457200"/>
            <a:ext cx="662940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одержа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прав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з истории развития городского транспор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ородской общественный транспор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итаем разметки на шо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колько лет правилам дорожного движ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орожная грамота для все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0"/>
            <a:ext cx="86104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орожная грамо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Улицы и шоссе большого города нельзя представить без светофора.Три цвета - красный , жёлтый, зелёный хорошо видны и ночью, и в тумане, поэтому именно эти цвета выбрали для светофо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расный цвет - сигнал опасности. «Стойт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ёлтый - «внимание.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елёный - «идите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ли светофор сломался, на перекрёсток улицы выходит регулировщик,  который разговаривает с водителями и пешеходами азбукой жес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ужно знать, что означает тот или иной же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однятая вверх рука регулировщика - то же , что жёлтый сигнал светофо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ли регулировщик встаёт на середину перекрёстка грудью или спиной к движению и разводит руки в стороны, то это сигнал «Стой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ли регулировщик встанет боком к движению, значит, можно ехать, путь откры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16292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ждый знак это целая фраза что-то разрешающая или запрещающая., или о чём-то сообщающ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обрую службу ранее служили верстовые столбы путникам, и по сей день стоят на дорогах их потомки, только теперь их зовут километровыми указател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орожные знаки разнообразны. Они окрашены в разные цвета и видны издал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ть целая армия предупреждающих знаков. Они имеют форму треугольника с красной кайм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 есть знаки - начальники! Эти знаки запрещающие. Эти знаки круглые, обведены красной кайм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ывают и информационно-указательные зна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от так улица разговаривает с водителем и пешеход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248520" y="2514600"/>
            <a:ext cx="24382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609480"/>
            <a:ext cx="822960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Быть на улице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нимательным,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исциплинированным - это значит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е подвергать опасности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и своей жизни,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и водителя.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7162920" y="3276720"/>
            <a:ext cx="1371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562720" y="40384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у выполнил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ченица9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окровск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озлова Мар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28958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457200"/>
            <a:ext cx="6629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ЦЕЛЬ: способствовать воспитанию у школьников чувства ответственности пешехода, привить навыки правильного поведения на улицах и дорогах, внушить уважение к профессии водител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533520"/>
            <a:ext cx="7162920" cy="57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прав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становка с аварийностью в России остаётся сложной. Ежегодно в дорожно - транспортных происшествиях погибают более 30 тысяч человек и получают ранения свыше 180 тыс.человек. Число пострадавших в автоавариях многократно превышает число пострадавших на всех других видах автотранспор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стаётся неудовлетворительным состояние дисциплины участников дорожного дви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4572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920"/>
            <a:ext cx="5867280" cy="61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з истор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старой Самаре более 100 лет назад  не было асфальта, современного освещения и площадь была пыльной и неуютной. Хозяева города - купцы, совсем не заботились о том, чтобы город был зелёным и чистым, главной их заботой было поплотнее набить карманы деньг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Центральной улицей Самары была улица Дворянская (ныне Куйбышева). Здесь много исторических мест.Долгое время улица была немощёной, её покрывал толстый слой пыли. Но богатые люди редко ходили пешком, а о бедняках они не заботили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819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609480"/>
            <a:ext cx="8001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Ездили в то время богатые люди в каретах.В каретах ездили господа, в них же они переезжали из одного города в другой., простые люди путешествовали в дилижанс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лижанс - это крытая кибитка, в которую запрягали лошадей. Пассажиры сидели на узких дивапнчиках, и было так тесно, что ноги едва помещались между сидень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о время шло, и на смену каретам, экипажам, дилижансам пришли автомоби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19520" y="5410080"/>
            <a:ext cx="5860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85800"/>
            <a:ext cx="792468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 Самаре  первый автомобиль появился в 1904 году. И впервые появился этот автомобиль на улице Дворянс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марский художник купец Константин Павлович Головкин ехал в открытом немецком автомобиле на высоких колёсах и с торжеством глядел по сторон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 вокруг… Ржали и шарахались испуганные лошади, кричали извозчики, люди прятались в подворотни и крестились: «Нечистая сила едет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ак встретили в Самаре первый автомоби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380880"/>
            <a:ext cx="84582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о недолго пугал автомобиль жителей. В 1910 г. в Самаре уже существовал магазин по продаже автомобилей. И уже тогда они должны были ездить по правила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Городские власти предписали владельцам автомобилей ездить не быстрее 12 км.в час и только по проезжей части, а люди ходили по тротуара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0"/>
            <a:ext cx="853452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Городской общественный транспор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ассажиров перевозит городской общественный транспорт. Это трамвай, троллейбус и даже вертолёт. (Рождествен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о трамваев жила в городе конно - железная дорога «конка». Прокладывали рельсы и по ним две лошади тащили вагон с 30 - 40 пассажирами. В Самаре конка действовала с 1895г. Почти 20 л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1837г. Русский учёный Б.С. Якоби изобрёл электродвигатель и приспособил его для перевозки люд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Так был готов электрический вагончик, ходивший по рельсам. Вагончик почти весь был забит батарейками и получился в 12 раз дороже парово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1879 г. появился первый трамва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лово «трамвай» пришло к нам из Англии. «Трэм»-вагон, «вэй»-пу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Самаре первый трамвай появился 13 февраля 1915г.Троллейбус почти ровесник трамва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8:42:09Z</dcterms:created>
  <dc:creator>Администратор</dc:creator>
  <dc:description/>
  <dc:language>en-US</dc:language>
  <cp:lastModifiedBy>1</cp:lastModifiedBy>
  <dcterms:modified xsi:type="dcterms:W3CDTF">2009-03-11T09:53:58Z</dcterms:modified>
  <cp:revision>38</cp:revision>
  <dc:subject/>
  <dc:title>Заголовок слайда отсутствует</dc:title>
</cp:coreProperties>
</file>