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5B1A-47A1-468F-9EE9-7BB1F706F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DA9F-FEB6-433C-BCCD-0F626CF3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8B7F-B533-4F1E-9287-A0FE9CA83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132E-D7F1-4720-8399-630864AD9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CAC4-1807-45F0-B730-65FCA9AC0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DB41-3C59-4C1C-B8E2-675F8C82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E4B3-335F-43E9-B9A5-99B48B8C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1CA0-E99E-43DE-8D73-C6EFBAF0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6556-A2DB-4C9F-9595-C08A45F7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FE4A-7717-43E3-B7F8-BAB434A9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B882-069A-4D9A-AC76-2958BD1B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ABCB-0835-4704-8A4D-20133B62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1AAF-D8BE-4D2B-84B8-495C47C2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7731-8F35-4A6A-BBEB-7454F109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496F-1EED-455D-B028-A740AC88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E187-8F2C-4FC3-BDDB-4ABAEA324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ABB2-018E-42B5-A4E7-F99355448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55888-863E-491F-A820-15476308C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55E2B-F556-4D52-BD17-97BC1CC1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27E58-378D-4171-96AE-F4F87F49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F75FD-BAFC-4032-9264-6FEB1A58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9E48A-5598-4F65-8690-39465FAD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DC08-D61C-48CA-B5EE-DD82641D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3C6CD-FB3A-4DF0-8147-F55794E3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9FFAD-4F97-46C0-BCEC-0142A48A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80FFE-44F9-466D-8650-6ED60866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07D55-F144-40CD-8966-468700F0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CB0DD-098A-4473-8BFE-10D431E2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C8E8E-6D59-4D57-BFF6-19E004D69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710A8-550E-4AD5-A95D-86B4EE4A1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0BE8-F02F-49F0-B443-5D76BA8E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527C-BFDC-4EE8-B835-EF2D49EA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0625-9FFA-41F7-BA93-90BE628F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89C4-0610-4DA8-B8DF-F8EC9576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A97F-4640-4B06-B02D-9080C4DB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E09B-E249-4E96-835F-CBEB9C63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0040-5935-437D-AD1F-AD374D8D6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58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ECFF-8282-4CD9-8BE0-B266A54EEB83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26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27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41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45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49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53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57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42A6-C266-469C-B993-11B47CCFBB70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6" descr="telefon"/>
          <p:cNvPicPr/>
          <p:nvPr/>
        </p:nvPicPr>
        <p:blipFill>
          <a:blip r:embed="rId1"/>
          <a:stretch/>
        </p:blipFill>
        <p:spPr>
          <a:xfrm>
            <a:off x="666720" y="2971800"/>
            <a:ext cx="4514760" cy="3571920"/>
          </a:xfrm>
          <a:prstGeom prst="rect">
            <a:avLst/>
          </a:prstGeom>
          <a:ln w="0">
            <a:noFill/>
          </a:ln>
        </p:spPr>
      </p:pic>
      <p:sp>
        <p:nvSpPr>
          <p:cNvPr id="208" name="WordArt 4"/>
          <p:cNvSpPr txBox="1"/>
          <p:nvPr/>
        </p:nvSpPr>
        <p:spPr>
          <a:xfrm>
            <a:off x="1676520" y="533520"/>
            <a:ext cx="632448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лефонный этикет</a:t>
            </a:r>
            <a:endParaRPr b="1" lang="en-US" sz="1800" spc="1" strike="noStrike">
              <a:ln w="28440">
                <a:solidFill>
                  <a:srgbClr val="0000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7"/>
          <p:cNvSpPr/>
          <p:nvPr/>
        </p:nvSpPr>
        <p:spPr>
          <a:xfrm>
            <a:off x="990720" y="1447920"/>
            <a:ext cx="7315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Он прочно вошел в нашу деловую и личную жизнь,  несмотря на развитие общения посредством Интерне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Телефонное общение имеет большое значение в  деятельности компаний, фирм и организац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Обеспечивает непрерывный обмен  информацией независимо от расстоя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Огромное количество вопросов решается по телефону быстро и  без дополнительных затра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WordArt 9"/>
          <p:cNvSpPr txBox="1"/>
          <p:nvPr/>
        </p:nvSpPr>
        <p:spPr>
          <a:xfrm>
            <a:off x="838080" y="457200"/>
            <a:ext cx="784872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временную жизнь невозможно представить без телефона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В связи с этим, чрезвычайно важно уметь правильно общаться по телефо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Это позволит сэкономить время вашего собеседника и ваше, а также лучше понимать друг дру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на телефонный звонок отвечайте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сразу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если разговор прервался, то перезвонить должен тот, по чьей инициативе состоялся разгово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следует говорить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аксимально кратко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и по существ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нельзя говорить слишком громко в трубку,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избегая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в то же время и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слишком тихой речи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если вы звоните кому-то и на ваш звонок не отвечают, не кладите трубку, пока не услышите 4-6 длинных гуд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WordArt 4"/>
          <p:cNvSpPr txBox="1"/>
          <p:nvPr/>
        </p:nvSpPr>
        <p:spPr>
          <a:xfrm>
            <a:off x="609480" y="390600"/>
            <a:ext cx="784872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ила телефонного этике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несколько раз подумайте перед тем, как звонить в неурочное время. Как правило, не следует звонить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до 8 утра и после 11 вечера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идя в театр, на концерт или в музей, следует отключить звонок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Если сигнал сотового телефона застал вас во время беседы надо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извиниться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 а сам разговор свести к миниму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слова, которых часто не хватает в нашей речи –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«извините», «пожалуйста», «спасибо»,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- особенно полезны при телефонных разгово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WordArt 4"/>
          <p:cNvSpPr txBox="1"/>
          <p:nvPr/>
        </p:nvSpPr>
        <p:spPr>
          <a:xfrm>
            <a:off x="609480" y="152280"/>
            <a:ext cx="784872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ила телефонного этике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Если телефонный звонок застал вас во время важного разговора или совещания, то лучше всего попросить собеседника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оставить свой номер телефона и пообещать перезвонить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ему позж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Если у вас посетители, а вам необходимо позвонить, то следует попросить у них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прощения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, а сам звонок постараться сделать максимально коротк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Если вы в гостях и вам необходимо позвонить. Это можно сделать, только предварительно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попросив разрешения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у хозя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Если вы отправляясь в гости и оставляете своим сотрудникам или родственникам телефонный номер того места, куда вы идете, необходимо спросить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разрешения хозяев или своих деловых партнеров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заране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WordArt 4"/>
          <p:cNvSpPr txBox="1"/>
          <p:nvPr/>
        </p:nvSpPr>
        <p:spPr>
          <a:xfrm>
            <a:off x="609480" y="304920"/>
            <a:ext cx="784872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неудобных ситуациях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Правило -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"разговаривай с людьми так, как хочешь, чтобы разговаривали с тобой"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значительно облегчает рабо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Когда в офисе раздается звонок, трубку следует поднимать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до третьего-четвертого звонка.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Затем нужно произнести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приветствие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, назвать свою компанию и представить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Во время разговора нужно внимательно следить за дикцией. Слова необходимо произносить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четко и внятно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, чтобы избежать переспрашивания. Особого внимания требуют имена, названия и циф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4"/>
          <p:cNvSpPr txBox="1"/>
          <p:nvPr/>
        </p:nvSpPr>
        <p:spPr>
          <a:xfrm>
            <a:off x="609480" y="304920"/>
            <a:ext cx="784872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сколько правил делового телефонного этикет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Беседа должна вестись в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доброжелательном, спокойном то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Учитывайте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офессиональный уровень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собесед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Следите за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логикой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ваших высказываний, аргументируйте, но без недовольства и агресс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Все, что может понадобиться во время разговора, нужно держать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од рукой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В конце разговора необходимо убедится, что вы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авильно поня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нформацию.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Необходимо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онтролировать эмоции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WordArt 4"/>
          <p:cNvSpPr txBox="1"/>
          <p:nvPr/>
        </p:nvSpPr>
        <p:spPr>
          <a:xfrm>
            <a:off x="609480" y="304920"/>
            <a:ext cx="784872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сколько правил делового телефонного этикет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990360" y="1447920"/>
            <a:ext cx="3809880" cy="2209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й, я бедный телефо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Что мне делать, как мне бы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т пустых, ненужных сл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олком хочется завыть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здан я для нужных де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общенья передат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о, похоже, мой удел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ать возможность лишь болтать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WordArt 4"/>
          <p:cNvSpPr txBox="1"/>
          <p:nvPr/>
        </p:nvSpPr>
        <p:spPr>
          <a:xfrm>
            <a:off x="609480" y="304920"/>
            <a:ext cx="784872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ихи о том, как не над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ращаться «с телефонами»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2362320" y="4191120"/>
            <a:ext cx="2819160" cy="243828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ухнет трубка от тоски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есконечных «да» и «ну»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ак не плавятся мозги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ичего я не пойму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 использовать меня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е назвавшись самому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то грубая возн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е нужна ведь никому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5638680" y="2362320"/>
            <a:ext cx="3276720" cy="243828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е смешно, а горько мн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лые шутки изрекать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обиднее вдвойн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 ложных фактах сообщать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зговоры ни о чем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Я от них с ума с хожу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й, я бедный телефон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могите мне, прошу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7:18:05Z</dcterms:created>
  <dc:creator>User</dc:creator>
  <dc:description/>
  <dc:language>en-US</dc:language>
  <cp:lastModifiedBy>User</cp:lastModifiedBy>
  <dcterms:modified xsi:type="dcterms:W3CDTF">2012-02-29T12:57:23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