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3B86-5CA9-44AF-851A-D8CD7B57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D940-D95D-48E9-972A-E0DCB52C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CBA-4322-44C5-9A0C-A8B61C37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B9C9-ADEC-4021-80BF-5D2E7E21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C10E-626D-4168-9E08-6975CB58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2AF8-A9F7-40DF-A314-2607C10E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DB2E-A5D0-438C-A8F8-B9531411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F723-FF24-4289-8D97-957183DA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8934-3930-4310-AC2D-07FFE91F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B72F-ED0E-4610-88E8-29BA2DD0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2EE5-BF3B-4F10-99A1-9E0B3B48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E09-7078-469B-99EB-6063F4F3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8393-5A66-48A3-92A4-782FCE26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13CC-0DAD-421D-93B6-568E14C6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1CE9-084D-451E-824C-0ACABAEE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ECED-B56D-4F26-B4E1-0016EE25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A62A-BF37-45F2-BAA6-4013EBE2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E0A-D8F3-4676-9412-F13E37AE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572-545D-43AE-B7B8-4A73454D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2AE-E8C8-4698-A57E-A250FCDE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50E-EE06-4AF1-9A7C-3597D0F9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DC6-393D-4AF8-BF40-70C1FA8E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E5C3-58B3-45EC-B8E8-B0F23939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1F7-B827-4D72-B9D7-62FD51B7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EEDE-3420-4861-B679-93224452C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E11B-1C1F-44A7-89DA-9BA59DAD0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nh.ru/&#1083;&#1086;&#1089;&#1082;&#1091;&#1090;&#1085;&#1072;&#1103;%20&#1090;&#1077;&#1093;&#1085;&#1080;&#1082;&#1072;/" TargetMode="External"/><Relationship Id="rId3" Type="http://schemas.openxmlformats.org/officeDocument/2006/relationships/hyperlink" Target="http://www.hnh.ru/&#1083;&#1086;&#1089;&#1082;&#1091;&#1090;&#1085;&#1072;&#1103;%20&#1090;&#1077;&#1093;&#1085;&#1080;&#1082;&#1072;/" TargetMode="External"/><Relationship Id="rId4" Type="http://schemas.openxmlformats.org/officeDocument/2006/relationships/hyperlink" Target="http://www.hnh.ru/&#1083;&#1086;&#1089;&#1082;&#1091;&#1090;&#1085;&#1072;&#1103;%20&#1090;&#1077;&#1093;&#1085;&#1080;&#1082;&#1072;/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84360" y="4508640"/>
            <a:ext cx="45370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ученица 10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дратьева Евг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нова Наталья Анатолье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Ш № 1, г.Дани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4706" t="14421" r="0" b="0"/>
          <a:stretch/>
        </p:blipFill>
        <p:spPr>
          <a:xfrm>
            <a:off x="0" y="0"/>
            <a:ext cx="3630600" cy="3260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187280" y="1844640"/>
            <a:ext cx="750420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овогодний подаро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348000" y="4292640"/>
            <a:ext cx="1890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4. Техники выполнения лоскутной пла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Техника "из отдельных поло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Набор из полос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Набор из квадр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Набор из треуг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Розе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Узор «Дрезденская тарелк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и «Подсолну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Дизайн-анализ прое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5" descr="https://kovaleva23.ru/wp-content/uploads/2011/08/194-246x300.jpg"/>
          <p:cNvPicPr/>
          <p:nvPr/>
        </p:nvPicPr>
        <p:blipFill>
          <a:blip r:embed="rId2"/>
          <a:stretch/>
        </p:blipFill>
        <p:spPr>
          <a:xfrm>
            <a:off x="7451640" y="2637000"/>
            <a:ext cx="1081080" cy="1008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" descr="http://nktdo.narod.ru/master_klass.files/l1.jpg"/>
          <p:cNvPicPr/>
          <p:nvPr/>
        </p:nvPicPr>
        <p:blipFill>
          <a:blip r:embed="rId3"/>
          <a:stretch/>
        </p:blipFill>
        <p:spPr>
          <a:xfrm>
            <a:off x="7380360" y="1484280"/>
            <a:ext cx="97164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https://kovaleva23.ru/wp-content/uploads/2011/08/195-300x186.jpg"/>
          <p:cNvPicPr/>
          <p:nvPr/>
        </p:nvPicPr>
        <p:blipFill>
          <a:blip r:embed="rId4"/>
          <a:srcRect l="76304" t="62528" r="2721" b="3536"/>
          <a:stretch/>
        </p:blipFill>
        <p:spPr>
          <a:xfrm>
            <a:off x="5724360" y="28526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https://kovaleva23.ru/wp-content/uploads/2011/08/196-300x206.jpg"/>
          <p:cNvPicPr/>
          <p:nvPr/>
        </p:nvPicPr>
        <p:blipFill>
          <a:blip r:embed="rId5"/>
          <a:stretch/>
        </p:blipFill>
        <p:spPr>
          <a:xfrm>
            <a:off x="6300720" y="4076640"/>
            <a:ext cx="1079640" cy="10526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1" descr="«Дрезденская тарелка»(слева), «Подсолнух»(справа)"/>
          <p:cNvPicPr/>
          <p:nvPr/>
        </p:nvPicPr>
        <p:blipFill>
          <a:blip r:embed="rId6"/>
          <a:stretch/>
        </p:blipFill>
        <p:spPr>
          <a:xfrm>
            <a:off x="6443640" y="5373720"/>
            <a:ext cx="2505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Дизайн-анализ прое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716360" y="3514680"/>
            <a:ext cx="4427640" cy="3343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2789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5. Технология обработки изделий в лоскутной пластике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на примере изготовления лоскутного одеяла.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Схема рису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Раск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Стачивание де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Соединение бло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Изготов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изделия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Технологический этап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497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Выбор мод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1800360" cy="2095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268360" y="1341360"/>
            <a:ext cx="1943280" cy="2114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395280" y="3789360"/>
            <a:ext cx="2238480" cy="2428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7020000" y="1052640"/>
            <a:ext cx="1838160" cy="2447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4572000" y="1341360"/>
            <a:ext cx="1905120" cy="21812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4" descr="http://www.dublirin.com.ua/we_sew_bagsquare.files/bagsquare09.jpg"/>
          <p:cNvPicPr/>
          <p:nvPr/>
        </p:nvPicPr>
        <p:blipFill>
          <a:blip r:embed="rId7"/>
          <a:srcRect l="38939" t="16898" r="0" b="0"/>
          <a:stretch/>
        </p:blipFill>
        <p:spPr>
          <a:xfrm>
            <a:off x="3276720" y="3789360"/>
            <a:ext cx="2447640" cy="2610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838840" y="4221000"/>
            <a:ext cx="330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решила остановиться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мод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к. она не слож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оём изготовл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 форме очень удоб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2. Технология изготовления издел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7345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ля такой сумки нам понадобятс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квадратов светлого цвета - 11х11 с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квадратов темного цвета - 11х11 с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детали в виде ромба светлого цв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2,5 – 3 с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детали в виде ромба  темного цвет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2,5 – 3 см, которые пришиваются как аппликация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полоска  застежки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2 полоски ткани для руче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полоски ткани для бантико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косая бейка (из ткани) для обшивк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ткань для подкладки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прокладочный материал типа синтеп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14" descr="http://www.dublirin.com.ua/we_sew_bagsquare.files/bagsquare09.jpg"/>
          <p:cNvPicPr/>
          <p:nvPr/>
        </p:nvPicPr>
        <p:blipFill>
          <a:blip r:embed="rId2"/>
          <a:srcRect l="0" t="0" r="61068" b="45491"/>
          <a:stretch/>
        </p:blipFill>
        <p:spPr>
          <a:xfrm>
            <a:off x="6443640" y="1557360"/>
            <a:ext cx="26002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66"/>
                </a:solidFill>
                <a:uFillTx/>
                <a:latin typeface="Arial"/>
              </a:rPr>
              <a:t>Изготов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97080" y="980640"/>
            <a:ext cx="8964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жьте необходимое кол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скутных квадратов по одному шабл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двух темных квадратах  настрочить светлые ромбики в виде аппл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двух светлых квадратах  настрочить темные ромбики в виде аппл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ожите квадраты на рабочем столе в узор. Выберите первое направление сборки – горизонтальное или вертикальное, квадраты в котором составляют “строку” сбор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6" descr="https://kovaleva23.ru/wp-content/uploads/2011/08/195-300x186.jpg"/>
          <p:cNvPicPr/>
          <p:nvPr/>
        </p:nvPicPr>
        <p:blipFill>
          <a:blip r:embed="rId2"/>
          <a:srcRect l="0" t="0" r="65722" b="45946"/>
          <a:stretch/>
        </p:blipFill>
        <p:spPr>
          <a:xfrm>
            <a:off x="7164360" y="549360"/>
            <a:ext cx="1440000" cy="14079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6" descr="https://kovaleva23.ru/wp-content/uploads/2011/08/195-300x186.jpg"/>
          <p:cNvPicPr/>
          <p:nvPr/>
        </p:nvPicPr>
        <p:blipFill>
          <a:blip r:embed="rId3"/>
          <a:srcRect l="51197" t="9795" r="14210" b="53973"/>
          <a:stretch/>
        </p:blipFill>
        <p:spPr>
          <a:xfrm>
            <a:off x="6877080" y="5300640"/>
            <a:ext cx="17794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8964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ите два соседних квадрата строки лицом к лицу и стачайте на расстоянии припуска на шов от совмещенных срез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ложите состроченные квадраты и заутюжьте припуск на шов на сторону более темного квадрата. Пристрочите к заготовке оставшийся квадрат строки. Соберите все строки узор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6" descr="https://kovaleva23.ru/wp-content/uploads/2011/08/195-300x186.jpg"/>
          <p:cNvPicPr/>
          <p:nvPr/>
        </p:nvPicPr>
        <p:blipFill>
          <a:blip r:embed="rId2"/>
          <a:srcRect l="0" t="58870" r="0" b="0"/>
          <a:stretch/>
        </p:blipFill>
        <p:spPr>
          <a:xfrm>
            <a:off x="684360" y="4365720"/>
            <a:ext cx="741672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662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ерите строки в полотно. Сложите две строки лицом к лицу и совместите уже выполненные швы в строках. Закрепите совмещение булавками, вколов их перпендикулярно линии будущего шва второго направления сборки. Сострочите строки и заутюжьте шов на одну сторону. Пристрочите к заготовке оставшуюся стро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товый узор отпарьте и подровняйте.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сборки всех квадратов получилось вот такое полотно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честве уплотнителя использовался синтепон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8" descr="http://www.dublirin.com.ua/we_sew_bagsquare.files/bagsquare03.jpg"/>
          <p:cNvPicPr/>
          <p:nvPr/>
        </p:nvPicPr>
        <p:blipFill>
          <a:blip r:embed="rId2"/>
          <a:stretch/>
        </p:blipFill>
        <p:spPr>
          <a:xfrm>
            <a:off x="6568920" y="1557360"/>
            <a:ext cx="2530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ий этап - вышивка по схеме несложного рисунка. Эта вышивка выполняет не только декоративную роль, но и выглядит прекрасной ручной стеж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вшееся полотно складываем пополам лицом вовнутрь, стачиваем боковые швы и застрачиваем углы как на рисунк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лишек ткани на углах можно обрезать или прикрепить образовавшийся уголок к шву на дне сум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9" descr="http://www.dublirin.com.ua/we_sew_bagsquare.files/bagsquare04.jpg"/>
          <p:cNvPicPr/>
          <p:nvPr/>
        </p:nvPicPr>
        <p:blipFill>
          <a:blip r:embed="rId2"/>
          <a:stretch/>
        </p:blipFill>
        <p:spPr>
          <a:xfrm>
            <a:off x="6012000" y="189000"/>
            <a:ext cx="2896920" cy="34560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1" descr="http://www.dublirin.com.ua/we_sew_bagsquare.files/bagsquare06.jpg"/>
          <p:cNvPicPr/>
          <p:nvPr/>
        </p:nvPicPr>
        <p:blipFill>
          <a:blip r:embed="rId3"/>
          <a:srcRect l="0" t="0" r="0" b="44455"/>
          <a:stretch/>
        </p:blipFill>
        <p:spPr>
          <a:xfrm>
            <a:off x="5508720" y="3789360"/>
            <a:ext cx="1904760" cy="14508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1" descr="http://www.dublirin.com.ua/we_sew_bagsquare.files/bagsquare06.jpg"/>
          <p:cNvPicPr/>
          <p:nvPr/>
        </p:nvPicPr>
        <p:blipFill>
          <a:blip r:embed="rId4"/>
          <a:srcRect l="0" t="54097" r="0" b="0"/>
          <a:stretch/>
        </p:blipFill>
        <p:spPr>
          <a:xfrm>
            <a:off x="2627280" y="5445000"/>
            <a:ext cx="19051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5796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надо сделать две ручк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учек нужны две полоски ткани, шириной 5 см и длиной 33 см.Ручки пришиты вручн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лю, показанную на рисунке,  я не делала, а нашила полоски замка – репейник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хний край сумки обшивается косой бейкой. Подготовьте для нее полоску ткани (выкроенную по косой!) шириной 8 см и длиной около 95 с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том этапе не забудьте вшить подкладку сумки. Ее размер повторяет размер лицевой части, а верхний край вшивается под косую бейку-обшив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13" descr="http://www.dublirin.com.ua/we_sew_bagsquare.files/bagsquare08.jpg"/>
          <p:cNvPicPr/>
          <p:nvPr/>
        </p:nvPicPr>
        <p:blipFill>
          <a:blip r:embed="rId2"/>
          <a:stretch/>
        </p:blipFill>
        <p:spPr>
          <a:xfrm>
            <a:off x="5867280" y="333360"/>
            <a:ext cx="3025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получаем вот такую милую сумк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полне соответствующ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урнальному варианту.  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195640" y="765000"/>
            <a:ext cx="3085920" cy="27622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4" descr="http://www.dublirin.com.ua/we_sew_bagsquare.files/bagsquare09.jpg"/>
          <p:cNvPicPr/>
          <p:nvPr/>
        </p:nvPicPr>
        <p:blipFill>
          <a:blip r:embed="rId3"/>
          <a:srcRect l="36650" t="23209" r="0" b="0"/>
          <a:stretch/>
        </p:blipFill>
        <p:spPr>
          <a:xfrm>
            <a:off x="5580000" y="4257720"/>
            <a:ext cx="27338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48000" cy="2511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5920"/>
            <a:ext cx="77724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Обоснование темы проек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197000"/>
            <a:ext cx="77724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реди всех предложенных тем проектирования я выбрала 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ЛОСКУТНОЕ ШИТЬЁ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Его  можно сравнить с живописью.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Только краски нам заменяет ткань, а кисть – иголка с ниткой. И как по волшебству из-под легкой руки мастера выходит шедевр. Своеобразные лоскутные вещи преображают дом, добавляя тепла и уюта. Они применимы и для кухни, для гостиной  для спальни. Эти вещи можно носить. Они сделаны своими руками, в них частичка души мастери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от и я хочу вложить душу в своё изделие, чтобы потом подарить его моей маме в виде новогоднего подар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Arial"/>
              </a:rPr>
              <a:t>3. Себестоимость издел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кань использовалась из старых издел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о затрачено на синтепон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Заключение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836640"/>
            <a:ext cx="903600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ой взгляд, сумка у меня получилось очень хорошая. С поставленной целью я справи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маю, что моему подарку мама очень обрадуется, а если я туда добавлю конфет, которые поможет мне купить папа, то у нас получится совместный подарок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в сумку я вложу открытку с такими словами: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то на свете всех ми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теплом своим согре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икогда не уныв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мне надо, точно зн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, вдруг, случится дра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то поддержит? Моя М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му я свою любл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й подарок подар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rcRect l="0" t="8127" r="5788" b="0"/>
          <a:stretch/>
        </p:blipFill>
        <p:spPr>
          <a:xfrm>
            <a:off x="5867280" y="3357720"/>
            <a:ext cx="302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пользованные источн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69696"/>
                </a:solidFill>
                <a:uFillTx/>
                <a:latin typeface="Arial"/>
                <a:hlinkClick r:id="rId2"/>
              </a:rPr>
              <a:t>http://</a:t>
            </a:r>
            <a:r>
              <a:rPr b="0" lang="ru-RU" sz="2800" spc="-1" strike="noStrike" u="sng">
                <a:solidFill>
                  <a:srgbClr val="969696"/>
                </a:solidFill>
                <a:uFillTx/>
                <a:latin typeface="Arial"/>
                <a:hlinkClick r:id="rId3"/>
              </a:rPr>
              <a:t>www.hnh.ru</a:t>
            </a:r>
            <a:r>
              <a:rPr b="0" lang="ru-RU" sz="2800" spc="-1" strike="noStrike" u="sng">
                <a:solidFill>
                  <a:srgbClr val="969696"/>
                </a:solidFill>
                <a:uFillTx/>
                <a:latin typeface="Arial"/>
                <a:hlinkClick r:id="rId4"/>
              </a:rPr>
              <a:t>/лоскутная%20техника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http://loskutnik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http://www.masterjournal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http://www.only-plastika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http://www.purlbe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http://homefamily.rin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http://kovaleva23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http://nktdo.narod.r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Цель работы: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Изготовить лоскутное изделие в подарок ма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Arial"/>
              </a:rPr>
              <a:t>Задачи проек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1. Выбор идеи проект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2. Планирование деятельности («звёздочка обдумывания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3. Дизайн – анализ  про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4. Разработка технологии изготовления  изде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5. Расчёт себестои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6. Оформление докум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7. Разработка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8. Рекл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11. Защит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12. Анализ проведе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«Звёздочка обдумыва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79800" y="3225960"/>
            <a:ext cx="679680" cy="576720"/>
          </a:xfrm>
          <a:prstGeom prst="rect">
            <a:avLst/>
          </a:prstGeom>
          <a:gradFill rotWithShape="0">
            <a:gsLst>
              <a:gs pos="0">
                <a:srgbClr val="f79646"/>
              </a:gs>
              <a:gs pos="100000">
                <a:srgbClr val="df6a0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74706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8000" y="765000"/>
            <a:ext cx="1744560" cy="1079640"/>
          </a:xfrm>
          <a:prstGeom prst="cloudCallout">
            <a:avLst>
              <a:gd name="adj1" fmla="val 8236"/>
              <a:gd name="adj2" fmla="val 117351"/>
            </a:avLst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81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Выбор идеи проект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19640" y="836640"/>
            <a:ext cx="1800360" cy="1057320"/>
          </a:xfrm>
          <a:prstGeom prst="cloudCallout">
            <a:avLst>
              <a:gd name="adj1" fmla="val -83597"/>
              <a:gd name="adj2" fmla="val 155555"/>
            </a:avLst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81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ланирование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32720" y="1557360"/>
            <a:ext cx="1581120" cy="1000080"/>
          </a:xfrm>
          <a:prstGeom prst="cloudCallout">
            <a:avLst>
              <a:gd name="adj1" fmla="val -186444"/>
              <a:gd name="adj2" fmla="val 110476"/>
            </a:avLst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81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Дизайн-анализ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08720" y="2708280"/>
            <a:ext cx="1533600" cy="1000080"/>
          </a:xfrm>
          <a:prstGeom prst="cloudCallout">
            <a:avLst>
              <a:gd name="adj1" fmla="val -207555"/>
              <a:gd name="adj2" fmla="val -1430"/>
            </a:avLst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81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Выбор лоскутной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6000" y="3933720"/>
            <a:ext cx="1466640" cy="1009800"/>
          </a:xfrm>
          <a:prstGeom prst="cloudCallout">
            <a:avLst>
              <a:gd name="adj1" fmla="val -203462"/>
              <a:gd name="adj2" fmla="val -92925"/>
            </a:avLst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81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Выбор ткани для изд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5084640"/>
            <a:ext cx="1942920" cy="1224000"/>
          </a:xfrm>
          <a:prstGeom prst="cloudCallout">
            <a:avLst>
              <a:gd name="adj1" fmla="val -141421"/>
              <a:gd name="adj2" fmla="val -165824"/>
            </a:avLst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81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Разработка технологии изгото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5661000"/>
            <a:ext cx="1728720" cy="1008000"/>
          </a:xfrm>
          <a:prstGeom prst="cloudCallout">
            <a:avLst>
              <a:gd name="adj1" fmla="val -64694"/>
              <a:gd name="adj2" fmla="val -203226"/>
            </a:avLst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81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Расчет себестоимости изд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445000"/>
            <a:ext cx="1539720" cy="1157400"/>
          </a:xfrm>
          <a:prstGeom prst="cloudCallout">
            <a:avLst>
              <a:gd name="adj1" fmla="val 21958"/>
              <a:gd name="adj2" fmla="val -181138"/>
            </a:avLst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81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Составление технологии изготовл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5084640"/>
            <a:ext cx="1619280" cy="1219320"/>
          </a:xfrm>
          <a:prstGeom prst="cloudCallout">
            <a:avLst>
              <a:gd name="adj1" fmla="val 105393"/>
              <a:gd name="adj2" fmla="val -157550"/>
            </a:avLst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81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формление документации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3716280"/>
            <a:ext cx="1447920" cy="1143000"/>
          </a:xfrm>
          <a:prstGeom prst="cloudCallout">
            <a:avLst>
              <a:gd name="adj1" fmla="val 176537"/>
              <a:gd name="adj2" fmla="val -60416"/>
            </a:avLst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81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Разработка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2276640"/>
            <a:ext cx="1314360" cy="1066680"/>
          </a:xfrm>
          <a:prstGeom prst="cloudCallout">
            <a:avLst>
              <a:gd name="adj1" fmla="val 203504"/>
              <a:gd name="adj2" fmla="val 34819"/>
            </a:avLst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81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Рекла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1052640"/>
            <a:ext cx="1390680" cy="1038240"/>
          </a:xfrm>
          <a:prstGeom prst="cloudCallout">
            <a:avLst>
              <a:gd name="adj1" fmla="val 126939"/>
              <a:gd name="adj2" fmla="val 137157"/>
            </a:avLst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81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Защит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Выбор идеи проектиро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дея№1 Лоскутное одеяло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дея №2 Лоскутная игрушка - подушк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3143160" cy="2352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851280" y="4437000"/>
            <a:ext cx="30481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дея№3 Лоскут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осметичка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дея№4 Лоску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умка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Выбор идеи проектиро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4" descr="http://www.dublirin.com.ua/we_sew_bagsquare.files/bagsquare09.jpg"/>
          <p:cNvPicPr/>
          <p:nvPr/>
        </p:nvPicPr>
        <p:blipFill>
          <a:blip r:embed="rId3"/>
          <a:srcRect l="38939" t="16898" r="0" b="0"/>
          <a:stretch/>
        </p:blipFill>
        <p:spPr>
          <a:xfrm>
            <a:off x="5076720" y="3933720"/>
            <a:ext cx="24480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Выбор идеи проектиро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тер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кт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а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ент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995280" y="1341360"/>
            <a:ext cx="5148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ывод: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по результатам выбора идей проектирования получила больше всего положительных результатов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дея№4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(создание сумки, выполненной в лоскутной техник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Я с такими выводами полностью согласна, т.к. думаю, что сумка для мамы будет более актуальна и она сумки очень люб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оэтому я буду дальше разрабатывать мой проект в данном направл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Дизайн-анализ прое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508720" y="1844640"/>
            <a:ext cx="3554280" cy="5013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50752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Предисловие. Притча о лоскутном шить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История лоскут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                      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пласт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1.1. Откуда корни?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1.2. А в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1.3. Лоскутная пластика и соврем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Дизайн-анализ прое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2. Ткани, применяемые в лоскутной пласт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3. Виды изделий из лоскутной пла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heImage" descr="http://www.burdafashion.com/images/repos/1/000/001/837/000001837674"/>
          <p:cNvPicPr/>
          <p:nvPr/>
        </p:nvPicPr>
        <p:blipFill>
          <a:blip r:embed="rId2"/>
          <a:stretch/>
        </p:blipFill>
        <p:spPr>
          <a:xfrm>
            <a:off x="250920" y="3429000"/>
            <a:ext cx="2733480" cy="2857680"/>
          </a:xfrm>
          <a:prstGeom prst="rect">
            <a:avLst/>
          </a:prstGeom>
          <a:ln w="0">
            <a:noFill/>
          </a:ln>
        </p:spPr>
      </p:pic>
      <p:pic>
        <p:nvPicPr>
          <p:cNvPr id="124" name="theImage" descr="http://www.burdafashion.com/images/repos/1/000/001/840/000001840040"/>
          <p:cNvPicPr/>
          <p:nvPr/>
        </p:nvPicPr>
        <p:blipFill>
          <a:blip r:embed="rId3"/>
          <a:stretch/>
        </p:blipFill>
        <p:spPr>
          <a:xfrm>
            <a:off x="2411280" y="4581360"/>
            <a:ext cx="2971800" cy="2038680"/>
          </a:xfrm>
          <a:prstGeom prst="rect">
            <a:avLst/>
          </a:prstGeom>
          <a:ln w="0">
            <a:noFill/>
          </a:ln>
        </p:spPr>
      </p:pic>
      <p:pic>
        <p:nvPicPr>
          <p:cNvPr id="125" name="theImage" descr="http://www.burdafashion.com/images/repos/1/000/001/836/000001836617"/>
          <p:cNvPicPr/>
          <p:nvPr/>
        </p:nvPicPr>
        <p:blipFill>
          <a:blip r:embed="rId4"/>
          <a:stretch/>
        </p:blipFill>
        <p:spPr>
          <a:xfrm>
            <a:off x="4859280" y="3284640"/>
            <a:ext cx="2590920" cy="2781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443640" y="4941720"/>
            <a:ext cx="2381400" cy="15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6:44:19Z</dcterms:created>
  <dc:creator>Admin</dc:creator>
  <dc:description/>
  <dc:language>en-US</dc:language>
  <cp:lastModifiedBy>Admin</cp:lastModifiedBy>
  <dcterms:modified xsi:type="dcterms:W3CDTF">2012-02-29T13:34:25Z</dcterms:modified>
  <cp:revision>6</cp:revision>
  <dc:subject/>
  <dc:title>Title</dc:title>
</cp:coreProperties>
</file>