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633-8D06-4427-AC63-463DB9C5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A88-52E0-4EE5-AAA4-C6063CB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9C-DDC1-47C0-8445-A60D496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4DD-D4C4-4FE7-AE9E-415D3E5F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F05-A4E1-446F-BFA1-03496F3D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2CEB-2B7F-4989-AF79-5E03A24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A84-4B9D-4710-80B3-26BDE15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7A11-5C0E-4E3C-9AC3-B9A79C4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F514-F7DE-43D3-BF46-73B177F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562-CFDA-42B1-9527-15735C8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5DD7-A18A-4AFB-8AE9-F09F559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BB7-046F-4CEF-BB6B-0386416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2FE-1860-465E-8F05-F0FB531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B52-49E3-460D-B599-7415F63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D516-3873-45A3-8710-99D9198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A61E-1E27-45D9-AD1B-821BEFDC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E83B-53E8-431F-B0D2-DBCB10C1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927-BA21-4296-B54C-F70B85C1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7FF-1F5F-48FF-A7E8-B7BA8F1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E7E-A99C-431F-B468-9A3088B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4C9-544C-4E6F-B321-4421F252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C80-998A-489D-A65C-B137D48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561-96D6-4B94-8612-C596210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775-DB24-49F4-BE6D-35DBE41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B3B8-37EE-44D1-B715-3EF073E87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7608-33A4-4BE2-8772-DFB00833B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kurguzkeen.narod.ru/" TargetMode="External"/><Relationship Id="rId2" Type="http://schemas.openxmlformats.org/officeDocument/2006/relationships/hyperlink" Target="http://festival.1september.ru/" TargetMode="External"/><Relationship Id="rId3" Type="http://schemas.openxmlformats.org/officeDocument/2006/relationships/hyperlink" Target="http://my-home-little-ruses.narod.r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ворческо-исследовательский проект по технолог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Праздник первого сала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8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ней школы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ткина Анаста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Классификация овощ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1268280"/>
          <a:ext cx="8496000" cy="5583240"/>
        </p:xfrm>
        <a:graphic>
          <a:graphicData uri="http://schemas.openxmlformats.org/drawingml/2006/table">
            <a:tbl>
              <a:tblPr/>
              <a:tblGrid>
                <a:gridCol w="2292120"/>
                <a:gridCol w="62038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овощ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, относящиеся к данной групп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пл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юква, свекла, морковь, репа, редис, хрен, петрушка корневая, пастернак, сельдерей корне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уста бело- и краснокочанная, цветная, брюссельская, кольраби, савой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лен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маты, баклажаны, перец слад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б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маты, баклажаны, перец слад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кв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урцы, тыква, кабачки, патиссо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убнепл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тофель, ба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кович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к репчатый, лук-порей, лук батун, чесно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ст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, латук, кресс- сал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я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ис, кориандр, тмин, мята перечная, майоран, эстраг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7360" y="-529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Для сохранения в овощах витаминов и полезных питательных веществ необходимо соблюдать правила их   обработки, приготовления и хра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вощи следует хранить в темном месте при температуре +1….+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, квашенные соленые овощи – в расс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вощи для варки закладывают в кастрюлю с кипящей  подсоленной водой и варят под крышкой. Если овощи предназначены для салатов и винегретов, их варят неочищенными. Овощи в кастрюле должны быть полностью покрыты в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твары очищенных овощей не выливают, а используют в качестве добавок при приготовлении супов, соусов, потому что они содержат многие витам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Мыть и держать овощи в воде не более 10-15 ми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отовить овощные блюда следует непосредственно перед их употребл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Приготовление блюд свежих овощей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ала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это холодное блюдо, состоящее из одного или нескольких видов овощей, а также из овощей в сочетании с мясом, рыбой, яйцами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ходящие в состав салата продукты могут быть сырыми ( редис, зеленый салат, огурцы, помидоры, лук), вареными ( свекла, картофель, морковь), маринованными, солеными ( квашеная капуста) и прошедшими сложную технологическую обработку ( колбасные изделия, копченая рыба, консервы). Салат используют в качестве самостоятельного блюда и как гарнир ( добавление, приправа) к мясным и рыбным блюд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Технологическая последовательность приготовления салатов из свежих овощ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ервичная обработка овощ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арезка овощей. Овощи для салатов должны быть нарезаны одинако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Заправка салата. Перемешивать продукты надо осторожно, чтобы они не м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Выкладывание в салатницу и укра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кус салатов зависит не только от основных продуктов, входящих в их состав, но и от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заправк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латы и винегреты заправляют по вкусу растительным маслом или майонезом. Для некоторых салатов используют сметану. Чтобы разнообразить вкус салатов, в заправку можно добавить сахар, перец, горчицу, готовые острые соу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салаты подают и едят первыми, они должны быть красиво и аппетитно оформл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украшения блюд используют зелень петрушки, укропа, сельдерея, огурцы, редис, морк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Правила приготовления сала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Овощи и зелень мыть сырой водой, затем кипяче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Салат из свежих овощей надо готовить непосредственно перед подачей к ст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Все продукты должны пройти первичную обработку, а часть из них – первичную и  тепл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Нельзя соединять теплые и холодные овощи – салат быстро испорт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Овощи для салатов можно готовить заранее ( за 1-2 часа до подачи к стол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Заправлять и украшать салаты надо непосредственно перед подачей к ст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Нельзя готовить и хранить овощные салаты в металлической посу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Приготовление блюд</a:t>
            </a: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 из вареных овощ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Правила техники безопаснос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при выполнении кулинарных рабо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 пользовании электронагревательными прибор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Опасности в рабо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ж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поражение ток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Что нужно сделать до начала раб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ить исправность соединительного шну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становить электронагревательный прибор на огнеупорную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дстав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Что нужно делать во время раб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ключать и выключать электроприбор сухими руками, при этом браться за корпус вил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что нужно сделать по окончанию раб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ключить электроприбо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 работе с горячей жидк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Опасности в рабо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ож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Что нужно сделать до начал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олняя посуду жидкостью, не доливать до краев 4-5 с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ить качество ручек емк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Что нужно сделать во время раб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гда жидкость закипит, убавить нагрев горел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нимать крышку с горячей посуды от себ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кладывать в кипящую жидкость крупу и другие продукты осторожн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нимать горячую посуду с плиты с помощью прихват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Что нужно сделать по окончанию рабо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ключить плиту или электроприбо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Виды тепловой обработк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ар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нагревание продукта в воде, бульоне, молоке или на па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Жарень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пособ тепловой обработки, при котором продукт нагревается в жире или горячем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пек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жаренье продукта на противнях или сковородках в духовом шкаф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у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омбинированный способ теплой обрабо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пуск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арка в плотно закрытой посуде с небольшим количеством ж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ссе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родукты слегка обжаривают с жиром или без н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ланш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быстрое обваривание или ошпари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Сценарий празд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Рифм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Поэтическ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Самый быстры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Развлекательны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Что за овощ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Театральны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Загадки с гряд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Домашнее зада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Отгадай кроссворд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 </a:t>
            </a: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«Рифм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4400" cy="501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 </a:t>
            </a: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«Поэтический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494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Обоснование проект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и всех предложенных тем проектирования я решила выбрать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му «Организации праздника»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хочу попробовать свои силы в организации мероприятий, проверить свои организационные, ораторские, коммуникативные, а также, наверно, и педагогические способ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мотрев в Интернете предложенные сценарии праздников, я решила остановиться на игре- соревновани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Праздник первого сала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Такой конкурс я могу провести в нашей школе сред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ов. Поэтому мне сценарий этой игры- соревнования очень понравился, и я решила проектирова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этот празд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 </a:t>
            </a: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«Развлекательный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5640" y="124128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 </a:t>
            </a: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«Театральный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29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327672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31164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Заключение проектной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и всех предложенных тем проектирования я решила выбра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му «Организации праздника»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хотела попробовать свои силы в организации внеклассных мероприятий, проверить свои организационные, ораторские, коммуникативные, а также, и педагогические 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мотрев в Интернете предложенные сценарии праздников, я решила остановиться на игре- соревновани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Праздник первого салат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Такой конкурс я провела в нашей школе сред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ов. Праздник получился очень интересным и познавательным. Девочки 6 классов себя проявили не только  практически, но и творчески. Праздник прошел на веселой, праздничной н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осуществления этого мероприятия в действительность мне пришлось многому научиться и приложить немало усилий. Я считаю, что проект получился сложным, но творческим, оригинальным и актуальным. И  этот проект поможет в дальнейшем помочь мне т. к. я постепенно начинаю развивать свои ораторские, коммуникативные и педагогические способности, и это может мне пригодится в будущей профе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kurguzkeen.narod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festival.1september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my-home-little-ruses.narod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Arial"/>
              </a:rPr>
              <a:t>Цель проектир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956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аботать сценарий и провести среди 6 классов игру- соревновани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Праздник первого салата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56000" y="692280"/>
            <a:ext cx="4788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адачи проек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Выбрать сценарий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Доработать выбранный сценарий под местны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одготовиться к проведению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Установить сроки, написать приглашение для проведения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Проведение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Подготовить отчетную документ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41320" y="2349360"/>
            <a:ext cx="2511720" cy="433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Выбор наилучшей иде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№ 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етский праз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№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улинарный праздник  «Праздник первого сала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№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рудированный праздник «Эрудици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вод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 критериям самый сложный и интересный проект «Праздник первого салата. И мне этот проект поможет раскрыть мои способности к творче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Дизайн-анализ по теме празд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много из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ие сведения о пит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вощи в пит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готовление блюд из свежих ово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готовление блюд из варенных ово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01680" y="3245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756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Немного из истори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 мы любим овощи, но даже не задумываемся, как и где появился тот или иной ово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вестно, что капусту выращивают с давних времен, с 3 тысячелетия до н. э. Родина этой овощной культуры – Средиземноморье. В наши дни ее возделывают во многих странах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на всеми любимого картофеля – южная Америка, где местное население стало употреблять его в пищу примерно14 тысяч лет назад. Появление картофеля в России в конце 17 века связано с именем Петра 1, который привез мешок клубней из Голла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 происхождения огурца – влажные тропические леса Индии, где его выращивали уже в 3 тысячелетии до н. 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на томата считаются тропические районы Южной и Центральной Америки. На территории нашей страны – в 18 ве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Общие сведения о пит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ит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процесс усвоения организмом питательных веществ, необходимых для поддержания жизни, здоровья, и работоспособ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пищей организм получает необходимые для жизнедеятельности белки, жиры и углеводы, а также биологически активные вещества – витамины и минеральные соли. Переработкой пищи занимается пищеварительная система, где пища расщепляется на более простые питательные вещества, которые усваиваются организ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жизни человека важную роль играет рациональное и правильное питание. Ежедневное питание должно быть разнообразным, включать мясные, рыбные, молочные продукты, блюда из круп и бобовых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вощи и фрукты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-52358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8578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В процессе приготовления и хранения пищи необходимо соблюдать санитарно-гигиенические        треб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Готовить пищу следует в специальной одеж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иступая к приготовлению пищи, нужно тщательно вымыть руки с мылом, убрать волосы по косы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Если на пальцах есть царапины, то эти места нужно защитить лейкопластырем или надеть резиновый напальч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еред началом приготовления пищи продукты надо тщательно промыть, а затем ополоснуть кипяченой в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азличные виды продуктов следует обрабатывать на разных разделолочных досках с соответствующей маркиров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ельзя готовить пищу в посуде с поврежденной эмал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ельзя употреблять в пищу несвежие продукты. Скоропортящиеся продукты необходимо хранить в холодиль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одукты и готовые блюда можно хранить не более определенного с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одукты, готовые к употреблению, следует хранить закрытыми и отдельно от сыр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азличные продукты и готовые блюда требует определенной температуры хра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5050"/>
                </a:solidFill>
                <a:latin typeface="Arial"/>
              </a:rPr>
              <a:t>Овощи в питании</a:t>
            </a:r>
            <a:br>
              <a:rPr sz="40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циональное питание человека невозможно без овощей, фруктов и плодов. Овощи являются основными постановщиками жизненно необходимых витаминов, минеральных солее, сахара, клетчатки и других питательны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42:50Z</dcterms:created>
  <dc:creator>Buks3</dc:creator>
  <dc:description/>
  <dc:language>en-US</dc:language>
  <cp:lastModifiedBy>Admin</cp:lastModifiedBy>
  <dcterms:modified xsi:type="dcterms:W3CDTF">2012-02-29T13:45:14Z</dcterms:modified>
  <cp:revision>12</cp:revision>
  <dc:subject/>
  <dc:title>Творческо-исследовательский проект по технологии</dc:title>
</cp:coreProperties>
</file>