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C15-0BC4-4E59-BA1A-BF4137C0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0F9-3074-4E53-9470-46FB75AD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E55-22DD-4697-BDF0-22950251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848-BCF1-4663-BE55-F3327CED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B3A-1757-4B44-BD7A-E089F78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E52-1DFD-4A3B-BF22-92BFD6E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72E-92A3-49DD-A325-BB2477AC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C7A-EDE5-4D73-A798-0C511C3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BA4-7B45-4B54-9F28-C84F6B4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6BF-A911-409B-9A6F-2EAE6E5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665-D607-4D41-84C9-5AD0BC8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5FC-905F-421F-AFD9-3A4F436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9E9-2166-417E-813A-21F02D2F7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6600"/>
                </a:solidFill>
                <a:latin typeface="Garamond"/>
              </a:rPr>
              <a:t>А З Ч А Й А Т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Garamond"/>
              </a:rPr>
              <a:t>7   1   4   2   3   5  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Garamond"/>
              </a:rPr>
              <a:t>ЗАЙЧАТ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333360" y="2843280"/>
            <a:ext cx="6191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aramond"/>
              </a:rPr>
              <a:t>Николай Сладков</a:t>
            </a:r>
            <a:br>
              <a:rPr sz="6000"/>
            </a:br>
            <a:r>
              <a:rPr b="1" lang="en-US" sz="6600" spc="-1" strike="noStrike">
                <a:solidFill>
                  <a:srgbClr val="006600"/>
                </a:solidFill>
                <a:latin typeface="Garamond"/>
              </a:rPr>
              <a:t>Сорока и Зая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260280" y="2556000"/>
            <a:ext cx="6337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aramond"/>
              </a:rPr>
              <a:t>                       </a:t>
            </a:r>
            <a:r>
              <a:rPr b="1" lang="en-US" sz="3200" spc="-1" strike="noStrike">
                <a:solidFill>
                  <a:srgbClr val="006600"/>
                </a:solidFill>
                <a:latin typeface="Garamond"/>
              </a:rPr>
              <a:t>Николай Сладков</a:t>
            </a:r>
            <a:br>
              <a:rPr sz="6000"/>
            </a:br>
            <a:r>
              <a:rPr b="1" lang="en-US" sz="6600" spc="-1" strike="noStrike">
                <a:solidFill>
                  <a:srgbClr val="006600"/>
                </a:solidFill>
                <a:latin typeface="Garamond"/>
              </a:rPr>
              <a:t>Лиса и Зая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2"/>
          <a:stretch/>
        </p:blipFill>
        <p:spPr>
          <a:xfrm>
            <a:off x="404640" y="2700360"/>
            <a:ext cx="6120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Garamond"/>
                <a:ea typeface="Arial"/>
              </a:rPr>
              <a:t>«ЗАЯЧЬ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Garamond"/>
                <a:ea typeface="Arial"/>
              </a:rPr>
              <a:t>ДУША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2:49:36Z</dcterms:created>
  <dc:creator>Андрей</dc:creator>
  <dc:description/>
  <dc:language>en-US</dc:language>
  <cp:lastModifiedBy>www</cp:lastModifiedBy>
  <dcterms:modified xsi:type="dcterms:W3CDTF">2009-02-21T16:41:38Z</dcterms:modified>
  <cp:revision>19</cp:revision>
  <dc:subject/>
  <dc:title>ПРАВИЛА ТЕХНИКИ БЕЗОПАСНОСТИ В КОМПЬЮТЕРНОМ КЛАССЕ</dc:title>
</cp:coreProperties>
</file>