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EF7-43B6-458C-9FAB-F6A23A27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1A8-B414-46FD-8CBC-C875B81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E61-BC54-48FD-832B-0E2E7F7D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6F8-721B-4767-BF8C-18BF4B68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0F2-6C30-43FE-88A5-DD76D75D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D84C-DB6B-493D-8167-E8693C7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450E-4945-49CF-9256-15C8E04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E2D-0C60-425F-8621-6A04A45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83D-6493-40EC-A96F-039F40B1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22E-0EBC-4163-BAA4-EF7CDB6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2D6-D147-4E01-B1D6-5771433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F29-2F0B-40B8-82BE-E6F85883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5C90-F9C1-41E1-8E6B-C0BA0B1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4FA-85AA-437D-B992-095CE91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998-CF04-401C-A76E-C0C3AE8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87F9-E6F6-43B3-AD91-B7BCF966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13C5-B0DD-4534-A3B7-0BFA5CA6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4505-836E-44F6-843C-26B1B617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22B4-BB56-4FD6-B272-30CA739B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2236-9819-4498-B7BC-32276465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47B6-EBB3-4054-A84A-3B969CA7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5374-BB24-4BBC-B21C-27916066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105-778D-4604-BFB2-F9475D5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5E44-F5F7-4D5C-892E-52AE1AB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5FA8-7566-459C-B45D-D7FC800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2835-17CE-47D0-A50C-6DDC5CC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8EFD-6EEE-431F-A19C-EB41127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EDE0-EA92-48FA-A30D-F7A6A22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B880-0F04-4FA2-AC6A-A3D695B9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3034-3838-4F67-BE9F-F6C540C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ABCC-8777-431E-BAA6-F303D8A3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5A2F-AB55-45F1-BBD1-187899E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115D-E523-400B-98C7-338C1F2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65B-9BB0-477C-A647-A67109A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67A3-E2BB-45E1-AC60-29752606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948F-5B1C-457B-8687-9BEBE2D3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CB73-8D1D-436C-BA1D-907D500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ADF1-EE9D-4835-8DC5-B8861EC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6544-42FC-43E6-B33E-1315297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AE0F-8A4B-425D-8C9D-10235AB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D47B-1CE0-41F1-91A1-04F02F6E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8772-05D5-45DE-BE08-F4EBCFC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B6CB-2D79-4695-BEE2-BFD5C48C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A443-2F78-4DAD-BBD4-562893C2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F82-F998-4EF4-A5E4-E9FA6ECC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92F0-36B5-4BFB-90F3-F5651E1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6C8C-60C3-413D-A4EA-860831A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D856-B86C-4122-BA3F-FCF2FE8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28A2-B385-4010-ADE7-43F9FCF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1CF1-EF6C-4822-BAFA-F15CA25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B45B-D867-46E1-B24D-BCF9C6D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0293-B356-4448-BFAB-37D5805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8D86-72E6-4BF8-A596-60CE04F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1DAD-CC31-4F79-823D-A6839B99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1DD2-B563-4377-AA8E-69E108B2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710-6425-4EB1-89CA-870D59DD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85C5-410D-4B1D-99BB-4F669198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D8D-6DEA-4426-B559-69E1632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3C3-4367-492D-A597-5ADFEE3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677-009A-49A1-94E7-21DF953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3FC-483A-4F64-B53D-10807771CA1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210-CD60-43EC-94CA-33BC80705A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AB83-B8EA-4BA4-BBF8-994DC3F8A74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78B8-9BC3-4F8A-A9B3-50C217C6CC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EC2-BD29-4804-BA8C-38F97C7F9A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714240" y="17859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</a:rPr>
              <a:t>Тема: «Компьютерная память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286000" y="46432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600" spc="-1" strike="noStrike">
                <a:solidFill>
                  <a:srgbClr val="0076a3"/>
                </a:solidFill>
                <a:latin typeface="Arial Narrow"/>
              </a:rPr>
              <a:t>Выполнил - Чугунов Серг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6a3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76a3"/>
                </a:solidFill>
                <a:latin typeface="Arial Narrow"/>
              </a:rPr>
              <a:t>8 класс Токской средней школ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D-R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(+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внешний носитель информации, записываемый однократно.. Используется для переноса информации с одного компьютера на другой и длительного хран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мер 4,75 или 3,15 дюйм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ъем информации 700 Мб или 195 Мб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чтения и записи до 52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акт – диски просты и удобны в работе, имеют низкую удельную стоимость, практически не изнашиваются, с них случайно не сотрешь информацию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286080" y="114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Compact Disk Rec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971640" y="4221000"/>
            <a:ext cx="7632720" cy="2637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2286000" y="4572000"/>
            <a:ext cx="5597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ажающий слой выполнен из золотой пленки. Между этим слоем и основой расположен регистрирующий слой из органического материала. В процессе записи лазерный луч нагревает точки слоя, они темнеют и перестают пропускать свет к отражающему слою, образуя участки, аналогичные впадинам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VD- R(+R),RW</a:t>
            </a:r>
            <a:br>
              <a:rPr sz="50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  <a:ea typeface="Arial"/>
              </a:rPr>
              <a:t>Digital Versatile Disk – 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  <a:ea typeface="Arial"/>
              </a:rPr>
              <a:t>универсальный цифровой диск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лазерный диск с большим объёмом памяти от 4.7 Гб до 17 Гб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в основном для хранения видеофильмов и сверхбольших баз данны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мер 4,75 дюйм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охранения информации необходимо предохранять от механических повреждений и от загрязн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гут быть двусторонними и фильмы записываются в широкоэкранном и телевизионном формат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VD – RW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это лазерный дик который можно перезаписывать много раз для переноса и сохранения информа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SH-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рта памя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небольшое устройство для с разным объёмом памяти, служащее для переноса информации от одного ПК к другому, подключается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B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ходит свое применение в последнее время из-за надежности и компакт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UC30007"/>
          <p:cNvPicPr/>
          <p:nvPr/>
        </p:nvPicPr>
        <p:blipFill>
          <a:blip r:embed="rId1"/>
          <a:stretch/>
        </p:blipFill>
        <p:spPr>
          <a:xfrm>
            <a:off x="4357800" y="4000680"/>
            <a:ext cx="4500360" cy="26240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4357800" y="3143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«флэшку» - магнитно – оптич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4240" y="21427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лагодарю за вним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500040" y="1000080"/>
            <a:ext cx="82868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ли отвечать на вопрос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Что общего между  компьютером и человеком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- то окажется, что компьютер моделирует все свои информационные функции с человека. А значит, компьютер должен иметь память для хранения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отношению к центральной части компьютера—процессору—память может быть: ВНУТРЕННЯЯ и ВНЕШНЯ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утренняя память располагается на материнской пл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SUC30001"/>
          <p:cNvPicPr/>
          <p:nvPr/>
        </p:nvPicPr>
        <p:blipFill>
          <a:blip r:embed="rId1"/>
          <a:stretch/>
        </p:blipFill>
        <p:spPr>
          <a:xfrm>
            <a:off x="285840" y="3214800"/>
            <a:ext cx="1689120" cy="1689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SUC30005"/>
          <p:cNvPicPr/>
          <p:nvPr/>
        </p:nvPicPr>
        <p:blipFill>
          <a:blip r:embed="rId2"/>
          <a:stretch/>
        </p:blipFill>
        <p:spPr>
          <a:xfrm>
            <a:off x="4214880" y="3214800"/>
            <a:ext cx="2571840" cy="16891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357120" y="50007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юю память  называют оперативной памятью компьютера, которая представлена: оперативным запоминающим устройством  (ОЗУ) и постоянным запоминающим устройством (П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929280" y="3214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тери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2071800" y="35002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ЗУ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DR 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85840" y="752400"/>
            <a:ext cx="85723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глийское название—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AM ( Random Access Memory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По своему физическому устройству представляет собой массив кристаллических ячеек, в которых храни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мальным элементом  памяти  - является бит, каждая строка массива образует ячейку памяти.   В оперативной памяти информация хранится до момента отключения компьютера, т.е. это энергозависимая память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ое название — ROM ( Read Only Memory ). ПЗУ—память только для чтения. Процессор начинает работу именно с чтения информации «зашитой» в ПЗУ ( информация записывается в заводских условиях). Значит в ПЗУ хранятся программы для запуска компьютера. При отключении ПК информация не стирается и не может изменяться. После того как информация считывается из ПЗУ, происходит запись информации в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CMOS—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сполагается также на материнской плате, Работает от небольшой батарейки. В этом виде памяти хранится информация об оборудовании компьютера и режимах его работы. CMOS –память управляет работой времени и календарем даже когда компьютер находится в отключенном состоя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есто длительного хранения информации (программ, текстов, изображений и т.д.), не используемая в данный момент в оперативной памяти компьютера, она  энергонезависима и не имеет прямой связи с процессор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мен информацией между внешней памятью и компьютером осуществляется по такой схем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372360" y="5013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300720" y="5084640"/>
            <a:ext cx="244800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43640" y="522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564000" y="5157720"/>
            <a:ext cx="223200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635280" y="5157720"/>
            <a:ext cx="19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ер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928800" y="5072040"/>
            <a:ext cx="2158920" cy="1008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1042920" y="5157720"/>
            <a:ext cx="18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е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3059280" y="5516640"/>
            <a:ext cx="576000" cy="73080"/>
          </a:xfrm>
          <a:prstGeom prst="rightArrow">
            <a:avLst>
              <a:gd name="adj1" fmla="val 50000"/>
              <a:gd name="adj2" fmla="val 197044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5796000" y="530064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5796000" y="5734080"/>
            <a:ext cx="504720" cy="71280"/>
          </a:xfrm>
          <a:prstGeom prst="leftArrow">
            <a:avLst>
              <a:gd name="adj1" fmla="val 50000"/>
              <a:gd name="adj2" fmla="val 17702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3059280" y="5734080"/>
            <a:ext cx="504720" cy="71280"/>
          </a:xfrm>
          <a:prstGeom prst="leftArrow">
            <a:avLst>
              <a:gd name="adj1" fmla="val 50000"/>
              <a:gd name="adj2" fmla="val 17702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2357280" y="10000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b5395"/>
                </a:solidFill>
                <a:uFillTx/>
                <a:latin typeface="Arial"/>
              </a:rPr>
              <a:t>Внешня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характеристики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носителей 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258920" y="1989000"/>
            <a:ext cx="78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ъем информации (Кб, Мб, ГБ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корость обмена информацией (м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дежность хранения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оимость(руб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SUC30006"/>
          <p:cNvPicPr/>
          <p:nvPr/>
        </p:nvPicPr>
        <p:blipFill>
          <a:blip r:embed="rId1"/>
          <a:stretch/>
        </p:blipFill>
        <p:spPr>
          <a:xfrm>
            <a:off x="5214960" y="4214880"/>
            <a:ext cx="2733480" cy="214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WordArt 12" descr=""/>
          <p:cNvPicPr/>
          <p:nvPr/>
        </p:nvPicPr>
        <p:blipFill>
          <a:blip r:embed="rId1"/>
          <a:stretch/>
        </p:blipFill>
        <p:spPr>
          <a:xfrm>
            <a:off x="347760" y="3346560"/>
            <a:ext cx="3359160" cy="4078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3"/>
          <p:cNvSpPr txBox="1"/>
          <p:nvPr/>
        </p:nvSpPr>
        <p:spPr>
          <a:xfrm>
            <a:off x="4786200" y="385776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ске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WordArt 14"/>
          <p:cNvSpPr txBox="1"/>
          <p:nvPr/>
        </p:nvSpPr>
        <p:spPr>
          <a:xfrm>
            <a:off x="6786720" y="4857840"/>
            <a:ext cx="1214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D-R (+R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WordArt 15"/>
          <p:cNvSpPr txBox="1"/>
          <p:nvPr/>
        </p:nvSpPr>
        <p:spPr>
          <a:xfrm>
            <a:off x="5500800" y="5286240"/>
            <a:ext cx="143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D-R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WordArt 19"/>
          <p:cNvSpPr txBox="1"/>
          <p:nvPr/>
        </p:nvSpPr>
        <p:spPr>
          <a:xfrm>
            <a:off x="2286000" y="550080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VD-R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6" name="WordArt 20" descr=""/>
          <p:cNvPicPr/>
          <p:nvPr/>
        </p:nvPicPr>
        <p:blipFill>
          <a:blip r:embed="rId2"/>
          <a:stretch/>
        </p:blipFill>
        <p:spPr>
          <a:xfrm>
            <a:off x="5553000" y="4346640"/>
            <a:ext cx="1603440" cy="4809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2"/>
          <p:cNvSpPr/>
          <p:nvPr/>
        </p:nvSpPr>
        <p:spPr>
          <a:xfrm>
            <a:off x="357120" y="907920"/>
            <a:ext cx="832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аботы с внешней памятью необходимо иметь устройства для записи и считывания информации, которые называются – накопители и устройства хранения информации – носи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3"/>
          <p:cNvSpPr/>
          <p:nvPr/>
        </p:nvSpPr>
        <p:spPr>
          <a:xfrm>
            <a:off x="4572000" y="0"/>
            <a:ext cx="289080" cy="33336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5292720" y="0"/>
            <a:ext cx="289080" cy="33336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5"/>
          <p:cNvSpPr/>
          <p:nvPr/>
        </p:nvSpPr>
        <p:spPr>
          <a:xfrm>
            <a:off x="6084720" y="0"/>
            <a:ext cx="289080" cy="33336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WordArt 26" descr=""/>
          <p:cNvPicPr/>
          <p:nvPr/>
        </p:nvPicPr>
        <p:blipFill>
          <a:blip r:embed="rId3"/>
          <a:stretch/>
        </p:blipFill>
        <p:spPr>
          <a:xfrm>
            <a:off x="5559480" y="3273480"/>
            <a:ext cx="3114720" cy="407880"/>
          </a:xfrm>
          <a:prstGeom prst="rect">
            <a:avLst/>
          </a:prstGeom>
          <a:ln w="0">
            <a:noFill/>
          </a:ln>
        </p:spPr>
      </p:pic>
      <p:sp>
        <p:nvSpPr>
          <p:cNvPr id="282" name="WordArt 27"/>
          <p:cNvSpPr txBox="1"/>
          <p:nvPr/>
        </p:nvSpPr>
        <p:spPr>
          <a:xfrm>
            <a:off x="6643800" y="3857760"/>
            <a:ext cx="208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нчесте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28"/>
          <p:cNvSpPr txBox="1"/>
          <p:nvPr/>
        </p:nvSpPr>
        <p:spPr>
          <a:xfrm>
            <a:off x="4929120" y="4786200"/>
            <a:ext cx="1511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D- R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WordArt 29"/>
          <p:cNvSpPr txBox="1"/>
          <p:nvPr/>
        </p:nvSpPr>
        <p:spPr>
          <a:xfrm>
            <a:off x="1857240" y="457200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D- R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WordArt 30"/>
          <p:cNvSpPr txBox="1"/>
          <p:nvPr/>
        </p:nvSpPr>
        <p:spPr>
          <a:xfrm>
            <a:off x="428760" y="5214960"/>
            <a:ext cx="129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D-R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WordArt 31"/>
          <p:cNvSpPr txBox="1"/>
          <p:nvPr/>
        </p:nvSpPr>
        <p:spPr>
          <a:xfrm>
            <a:off x="6786720" y="5715000"/>
            <a:ext cx="13572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VD –R (+R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WordArt 32"/>
          <p:cNvSpPr txBox="1"/>
          <p:nvPr/>
        </p:nvSpPr>
        <p:spPr>
          <a:xfrm>
            <a:off x="2143080" y="3929040"/>
            <a:ext cx="1008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ГМ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33"/>
          <p:cNvSpPr txBox="1"/>
          <p:nvPr/>
        </p:nvSpPr>
        <p:spPr>
          <a:xfrm>
            <a:off x="428760" y="4071960"/>
            <a:ext cx="1006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ЖМ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9" name="Picture 34" descr="SUC30003"/>
          <p:cNvPicPr/>
          <p:nvPr/>
        </p:nvPicPr>
        <p:blipFill>
          <a:blip r:embed="rId4"/>
          <a:stretch/>
        </p:blipFill>
        <p:spPr>
          <a:xfrm>
            <a:off x="1042920" y="6021360"/>
            <a:ext cx="1087560" cy="6573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6"/>
          <p:cNvSpPr/>
          <p:nvPr/>
        </p:nvSpPr>
        <p:spPr>
          <a:xfrm>
            <a:off x="785880" y="2071800"/>
            <a:ext cx="72723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снову записи, хранения  и считывания информации из внешней памяти положены два принципа – магнитный и оптический, поэтому информация и сохраняется после выключения П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4929120" y="5786280"/>
            <a:ext cx="14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VD-R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WordArt 15"/>
          <p:cNvSpPr txBox="1"/>
          <p:nvPr/>
        </p:nvSpPr>
        <p:spPr>
          <a:xfrm>
            <a:off x="5572080" y="6286680"/>
            <a:ext cx="2928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lash – карта памя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нчестер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4617b"/>
                </a:solidFill>
                <a:latin typeface="Calibri"/>
              </a:rPr>
              <a:t>Hard Disk –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жесткий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магнитный диск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8800" y="2000160"/>
            <a:ext cx="75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для хранения огромных объемов 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мер 2.2, 2.3, 3.14, 5.25 дюйм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й объем до сотен Гбай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вращения может быть от 3600 до 10000 об/мин. Время поиска данных – 9 мс, передачи данных 60 Мб/с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беречь от ударов и перемещений в процессе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4" descr="SUC30004"/>
          <p:cNvPicPr/>
          <p:nvPr/>
        </p:nvPicPr>
        <p:blipFill>
          <a:blip r:embed="rId1"/>
          <a:stretch/>
        </p:blipFill>
        <p:spPr>
          <a:xfrm>
            <a:off x="1187280" y="4437000"/>
            <a:ext cx="1365480" cy="20242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3492360" y="407664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иски винчестера представляют собой алюминиевые пластины, покрытые слоем магнитного материала, которые помещены на одну ось и вместе с головками чтения /записи  и несущими их головками помещены в герметичный металлический корп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ске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6760" y="20001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внешний носитель информации, который представляет собой гибкий диск в защитной оболочке, имеет маленький объём, используется для переноса информации с одного компьютера на друго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р современных дискет 3,5 дюйм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емкость 1,44 Мб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зкая скорость чтения и записи информации (примерно 250 мс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стро выходит из строя если дотронуться до записывающей поверхности, согнуть дискету, оставить на солнце или отопительного прибора, воздействовать магнитным поле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2857680" y="214200"/>
            <a:ext cx="1695240" cy="180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D-ROM</a:t>
            </a:r>
            <a:r>
              <a:rPr b="0" lang="en-US" sz="1800" spc="-1" strike="noStrike">
                <a:solidFill>
                  <a:srgbClr val="04617b"/>
                </a:solidFill>
                <a:latin typeface="Calibri"/>
              </a:rPr>
              <a:t> (Compact Disk Real Only Memory –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постоянное запоминающее устройство на основе компакт – диска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ычно используется для мультимедийных програм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мер 4,75 дюйм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ъем информации 700 Мб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уп к данным быстрее чем к данным на дискетах, но медленнее, чем на жестких дисках (150-400 мс), производительность 32х – 48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ст и удобен в работе, практически не изнашивается, не дорогой, защищен от случайного стирания информа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928960" y="4429080"/>
            <a:ext cx="60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3763"/>
                </a:solidFill>
                <a:latin typeface="Arial"/>
              </a:rPr>
              <a:t>Изготавливается из полимера и покрыт металлической пленкой, информация считывается именно с этой металлической пленки. Односторонний носитель. Информация наносится лазерным лучом, который создает микроскопические впадины, разделяемые плоскими участ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4:41:57Z</dcterms:created>
  <dc:creator>user</dc:creator>
  <dc:description/>
  <dc:language>en-US</dc:language>
  <cp:lastModifiedBy>user</cp:lastModifiedBy>
  <dcterms:modified xsi:type="dcterms:W3CDTF">2010-01-18T17:36:47Z</dcterms:modified>
  <cp:revision>18</cp:revision>
  <dc:subject/>
  <dc:title>Слайд 1</dc:title>
</cp:coreProperties>
</file>