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253-E4CD-4736-AED6-A92AC33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F10-213A-4A0E-801E-C2B843F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44A-0AD5-483C-AF45-2F02723F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664-C7E0-422D-913C-18D1D1C5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607-BD48-41BB-8C76-FA7C2972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319-7745-4831-B396-8FE1A72F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4C0-D57C-468C-B092-230D9E1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503B-99F7-4FDA-AB19-5641488A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4FC-5730-4BBC-8053-FB0A6A9D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A33-30AD-4D58-B1AC-D90B5749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5C1-76A3-43DC-A31F-CC4ADFB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7F6-B2B3-4DD8-8589-C0DFCF6E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E08B-8F11-4466-99E2-9A30038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731-827F-47A4-8660-8F0DA012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E702-9488-48CC-86E5-023D0A3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BAF-0289-4C39-BCBC-DC701D0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3306-914C-4E1B-8C34-A32B57B5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1AE-2942-490E-BE1B-B041089B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AF0-1AB1-4AA3-9ABC-A4C1A329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91A-6532-4708-9460-6ED3D23E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D2A-AD9B-43BB-82C8-753EE56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492-AB8D-41DD-923D-ECF5217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DE9-84A5-4A9F-A6E3-37D9E23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8F0-70BD-4587-B59D-A832E9F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611-59D9-4181-A27D-062573F573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05E-9D51-437C-B66C-814A453A25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ладимир Галактионович Короленко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349884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286000" y="214200"/>
            <a:ext cx="4175280" cy="5572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571680" y="5715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изоде с куклой главный герой показан как человек, полный доброты и состр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214200" y="928800"/>
            <a:ext cx="835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ести противопоставляются Маруся и Соня. Такое противопоставление называется антитезой. Маруся – худенькая маленькая девочка четыре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871560" y="-208080"/>
            <a:ext cx="611496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6342" b="0"/>
          <a:stretch/>
        </p:blipFill>
        <p:spPr>
          <a:xfrm>
            <a:off x="2143080" y="2143080"/>
            <a:ext cx="3259080" cy="4357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5579280" y="6143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к и Мару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85960" y="785880"/>
            <a:ext cx="4786200" cy="35272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" descr=""/>
          <p:cNvPicPr/>
          <p:nvPr/>
        </p:nvPicPr>
        <p:blipFill>
          <a:blip r:embed="rId2"/>
          <a:stretch/>
        </p:blipFill>
        <p:spPr>
          <a:xfrm>
            <a:off x="665280" y="-208080"/>
            <a:ext cx="6692760" cy="1135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00040" y="435780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стречи с Валеком и Марусей Вася почувствовал радость от нового знакомства. Ему понравилось беседовать с Валеком и приносить подарки Марусе. Но по ночам у него сжималось сердце от боли сожаления, когда мальчик думал о сером камне, который высасывает из Маруси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2357280" y="3000240"/>
            <a:ext cx="5715000" cy="3571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885960" y="62866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е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2"/>
          <a:stretch/>
        </p:blipFill>
        <p:spPr>
          <a:xfrm>
            <a:off x="396720" y="-152280"/>
            <a:ext cx="8601120" cy="927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428760" y="71424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нные, заплесневелые пруды», «серые заборы», «подслеповатые, ушедшие в землю хатки» - с первых страниц повести серый цвет создает образ городка, живущего мелкой жизнью, в которой нет ярких чувств и событий. Подземелье, где живут Валек и Маруся, каменное и тоже серое. «Серый камень высосал из нее жизнь», - говорит Короленко, употребляет это выражение, когда хочет сказать, что Марусю убивает нищета и безрадостная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4410000" cy="3270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785880" y="50720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и Соня приходили на могилку Маруси потому что для них образ Маруси стал символом любви и человеческого стр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3" descr=""/>
          <p:cNvPicPr/>
          <p:nvPr/>
        </p:nvPicPr>
        <p:blipFill>
          <a:blip r:embed="rId2"/>
          <a:stretch/>
        </p:blipFill>
        <p:spPr>
          <a:xfrm>
            <a:off x="420840" y="85680"/>
            <a:ext cx="8442000" cy="1577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826920" y="404640"/>
            <a:ext cx="774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Галактионович Короленко родился в семье судьи в г.Житомире, на Украине. С детства хорошо знал русский, польский и украинский языки. Повзрослев, стал писателем, который поступал, как велит ему голос совести, никогда не заменяя своим нравственным принцип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удивительным человеком, его называли «нравственным гением» русской литературы. Владимир Галактионович был сторонником революционного преобразования государства, стремился улучшить жизнь простого народа, боролся с царским самодержавием. В наказание за это много раз отбывал ссылку. В одной из них, в Якутии (1881 – 1884), и была написана повесть «В дурном обществ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1143000" y="285840"/>
            <a:ext cx="678672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В дурном обществе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625480" cy="350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286680" y="1285920"/>
            <a:ext cx="2455560" cy="32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2928960" y="3929040"/>
            <a:ext cx="34686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143000" y="214200"/>
            <a:ext cx="67006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 работа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28760" y="11656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бежищ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это место, где можно укрыться, найти спасение от чего-нибу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ютиться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начает помещаться на небольшом пространстве, иметь пристанище в тесном поме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лово высокого стиля, обозначает жилище, при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томок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еловек по отношению к своим предкам. Короленко пишет о «потомках слуг графского рода», то есть о детях и внуках тех, кто когда-то служил граф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жение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«дурная слава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яют, когда хотят сказать, что о ком-то или о чём-то говорят много плохого. Короленко пишет: «Гора, изрытая могилами, пользовалась дурной слав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Суровое лицо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грюмое, сердитое лиц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14200" y="31176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здо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азногласия, ссоры, враж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грюмый человек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мрачный, неприветливый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терпеться к упрёкам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начает привыкнуть к тому, что тебе высказывают своё неодобрение или обвинения. Вася притерпелся к упрёкам, то есть привык и перестал обращать внимание на обвинения в том, что он бродя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«Серый камень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то известняк. Короленко употребляет это выражение, когда хочет сказать, что Марусю убивает нищета и безрадостная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«Призраки старого замка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то бывшие графские служащие и их потомки, потерявшие смысл существования и живущие как призр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«Дурное общество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щество людей, совершающих предосудительные, безнравственные с точки зрения господствующей морали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214720" y="3929040"/>
            <a:ext cx="4066920" cy="2762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357120" y="28584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писываемых в произведении событий – город Ровно, где Короленко учился в третьем классе реальной гимназии. Город назван в повести Княжье-Вено. В образе судьи писатель воспроизвел некоторые черты своего отца, который был уездным судьей в провинциальных городках и для которого поистине рыцарская честность была привычной и естеств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428840" y="28584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Жанр произвед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285840" y="150012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произведения «В дурном обществе» - пов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– один из видов эпического произведения. В отличие от рассказа, где всего одна сюжетная линия, и от романа, в котором множество сюжетных линий и героев, в повести обычно два-три центральных героя и несколько сюжетных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ая линия – это ряд событий, происходящих с одним героем. В этом произведении две сюжетные линии: линия жизни Васи (смерть матери, одиночество, отношения с отцом, бродяжничество) и линия жизни семьи Тыбурция (борьба за существование, воровство, жизнь в часовне, болезнь Маруси). Пересечение этих линий приводит к изменениям Васиной жизни и в жизни эт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4897440" y="714240"/>
            <a:ext cx="3978360" cy="550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4138560" cy="550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944640" y="6480"/>
            <a:ext cx="6084720" cy="11397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85840" y="135720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 Васи умерла, когда ему было шесть лет. С этого времени мальчик чувствовал постоянное одиночество. Отец слишком любил мать, когда она была жива, и не замечал мальчика из-за своего счастья. После смерти жены горе мужчины было таким глубоким, что он замкнулся в себе. Все считали Васю бродягой и негодным мальчишкой, и отец тоже привык к этой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:\Documents and Settings\Администратор\Мои документы\Мои рисунки\Организатор клипов (Microsoft)\j0432665.png"/>
          <p:cNvPicPr/>
          <p:nvPr/>
        </p:nvPicPr>
        <p:blipFill>
          <a:blip r:embed="rId2"/>
          <a:stretch/>
        </p:blipFill>
        <p:spPr>
          <a:xfrm>
            <a:off x="6643800" y="4786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57:59Z</dcterms:created>
  <dc:creator>Ирина</dc:creator>
  <dc:description/>
  <dc:language>en-US</dc:language>
  <cp:lastModifiedBy>User</cp:lastModifiedBy>
  <dcterms:modified xsi:type="dcterms:W3CDTF">2012-02-29T12:04:29Z</dcterms:modified>
  <cp:revision>25</cp:revision>
  <dc:subject/>
  <dc:title>Слайд 1</dc:title>
</cp:coreProperties>
</file>