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0B5-522F-412B-9184-D01CFCDC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297-E504-4BED-974E-5F0E4A61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151-6A99-45EE-9CF1-9B224327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EC4-FD71-4688-B3E0-0205DBA8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655-422C-4817-9953-A34E625C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A9C-8FC5-41E0-8F93-43C8335B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1C7-B801-4DA6-9A5F-3E2A83E2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AF5-098A-4155-826F-0F0B8B64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642-5628-4932-A12A-83EC2845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91C-C2C3-43D2-919F-307EF539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F49-1D85-4C82-99FF-9771F05F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D45-147E-4F60-8008-E754669B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7E6B-2569-4B35-AA29-F0579F0D8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125360"/>
            <a:ext cx="8209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водные слова и предложения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одные сло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, при помощи которых говорящий выражает свое отношени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ются запятыми (как и слова ДА, НЕ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 являются членами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8360" y="1197000"/>
          <a:ext cx="8291520" cy="4525920"/>
        </p:xfrm>
        <a:graphic>
          <a:graphicData uri="http://schemas.openxmlformats.org/drawingml/2006/table">
            <a:tbl>
              <a:tblPr/>
              <a:tblGrid>
                <a:gridCol w="1968480"/>
                <a:gridCol w="3992760"/>
                <a:gridCol w="23302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ые с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2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ая степень уверенности, неувер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чно, разумеется, бесспорно, несомненно, без сомнения, безусловно, действительно, кажется, вероятно, очевидно, возможно, пожалуй, наверное, может быть, по-видим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ь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ет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коро кончи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чув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счастью, к несчастью, к сожалению, к удивлению, к общей рад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счасть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коро кончи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 сооб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ловам, по мнению, по сообщению. По преданию, по-моему, по-твое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-моем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н пришел воврем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 мыслей и их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-первых, во-вторых, наконец, следовательно, значит, итак, напротив, наоборот, например, 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овательн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я вряд ли справлюсь с перевод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чания о способах оформления мыс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им словом, иначе говоря, лучше сказать, итак, следовательно, значит, таким образом, между прочим, кстати сказ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им слово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все обошлось благополуч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68360" y="5805360"/>
          <a:ext cx="8280360" cy="728640"/>
        </p:xfrm>
        <a:graphic>
          <a:graphicData uri="http://schemas.openxmlformats.org/drawingml/2006/table">
            <a:tbl>
              <a:tblPr/>
              <a:tblGrid>
                <a:gridCol w="1965240"/>
                <a:gridCol w="3987720"/>
                <a:gridCol w="23274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внимания собесе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ините, простите, пожалуйста, позвольте, допустим, представьте се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ьте себе, у нее отличный вку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во ОДНАКО является вводным, если стоит в середине или в конц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авные конструкции выделяются скобками, реже – ти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Перед школой я в последний раз побежал к другу (звали его Серега) поболтать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844640"/>
            <a:ext cx="820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ыступают в роли вводных слов и не выделяются запятыми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едь, вот, якобы, именно, как раз, едва ли, вряд ли, почти, приблизительно, как бы, вообще, тем не ме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реди предложений 15 — 17 найдите предложение с вводным сло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5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од превращают в плот история с географи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еографически Смоленск - в глубокой древности столица могущественного племени славян-кривичей - расположен на Днепре, вечной границе между Русью и Литвой, между Московским великим княжеством и Речью Посполитой, между Востоком и Западом, Севером и Югом, между Правом и Бесправием, наконец, потому что именно здесь пролегла пресловутая черта оседлост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я раскачивала народы и государства, и людские волны, накатываясь на вечно пограничный Смоленск, разбивались о его стены, оседая в виде польских кварталов, латышских улиц, татарских пригородов, немецких концов и еврейских слобо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9640" y="6165720"/>
            <a:ext cx="649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реди предложений  2-4 найдите предложение с вводным сло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Оба семечка легли в одну ямку возле большого плоского камня...  (3) С  тех пор уже лет,  может быть,  двести эти ель и  сосна вместе растут. (4) Их  корни с  малолетства сплелись,  их стволы тянулись вверх рядом к свету, стараясь обогнать друг друга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6165720"/>
            <a:ext cx="649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кажите предложение с вводными сло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Между прочим, через несколько лет наш театр вcё-таки сгорел, что лишний раз подтверждает ту правильную, но бесплодную мысль, что наши мечты сбываются слишком поз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ал золотник, да д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дна ласточка весны не д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6165720"/>
            <a:ext cx="649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кажите предложение с вводным словом. Расставьте в нем знаки препи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Правы те кто говорят что одни люди заполняют книгами жизнь а другие только стелла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Близким кажется небо соединившееся с г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одует свежим ветерком и запах гари вероятно скоро исчез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6165720"/>
            <a:ext cx="649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27:24Z</dcterms:created>
  <dc:creator>Admin</dc:creator>
  <dc:description/>
  <dc:language>en-US</dc:language>
  <cp:lastModifiedBy>XP GAME 2008</cp:lastModifiedBy>
  <dcterms:modified xsi:type="dcterms:W3CDTF">2012-02-13T15:51:31Z</dcterms:modified>
  <cp:revision>9</cp:revision>
  <dc:subject/>
  <dc:title>Слайд 1</dc:title>
</cp:coreProperties>
</file>