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3C5-F295-4F48-8929-7CF943E9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6FE-22DC-4C23-8B97-ED44FF5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000-15F1-4A6F-948D-2F28C4CF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491-E8CA-4DC9-A399-527E874A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226-ECF4-440A-AA94-C4C3059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8EC-DD50-4958-82DA-C4180E2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BC0-D5E6-42DC-AB98-89933D5E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2CD-7B6C-4DE9-8A40-5F783CC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28C-19D7-4EE7-A400-93AC75D4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209-D777-4A7A-8782-F29D62D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641-F4F0-460E-9BA2-81E20AB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8CA-D368-4696-8CAD-8AAB1D2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73080" y="61920"/>
          <a:ext cx="90169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61920"/>
                    <a:ext cx="9016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6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" name="Group 18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2" name="AutoShape 19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17"/>
          <p:cNvGraphicFramePr/>
          <p:nvPr/>
        </p:nvGraphicFramePr>
        <p:xfrm>
          <a:off x="84240" y="52560"/>
          <a:ext cx="8980560" cy="48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52560"/>
                    <a:ext cx="89805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8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19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8" name="AutoShape 20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880" y="1371600"/>
            <a:ext cx="419112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a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4200" y="4929120"/>
            <a:ext cx="87775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-технологическое обеспечение государственной (итоговой) аттестации обучающихся, освоивших образовательные программы основного общего образования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65721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нки ответ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74800" y="1071720"/>
            <a:ext cx="5111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Бланк ответов №2 – бланк, на котором выполняются задания с развернутым ответом 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24" name="Picture 2" descr="ege_bl2"/>
          <p:cNvPicPr/>
          <p:nvPr/>
        </p:nvPicPr>
        <p:blipFill>
          <a:blip r:embed="rId1"/>
          <a:stretch/>
        </p:blipFill>
        <p:spPr>
          <a:xfrm>
            <a:off x="3481560" y="1494000"/>
            <a:ext cx="3973320" cy="50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Бланк заполняется чёрной гелевой или капиллярной ручкой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 верхней (регистрационной) части бланка участником экзамена заполняются следующие поля: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Номер варианта (номер варианта указан на листах с заданиями КИМ)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Класс: номер, буква 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Фамилия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Имя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Отчество 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Подпись (должна помещаться в отведенном для нее поле)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указания ответов на задания следует использовать поле «Ответы на задания»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исправления ответов следует использовать поле «Замена ошибочных ответов»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Не разрешается делать любые пометки, исправления и записи вне указанных полей. Не допускаются записи и любые пометки на обратной стороне бланка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К бланку следует относиться бережно, не допускать его порчи. Не допускается использование ластика и корректирующих паст, лент и т.д. Не допускается исправление записанных ответов путем их стирания, замазывания, заклеивания и т.д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15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30500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ыбрав вариант ответа, участник должен поставить метку в ячейку рядом с номером задания. Номер ячейки должен совпадать с номером выбранного ответа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Ячейки для меток могут располагаться в строчку справа от номера задания или в столбец под номером задания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6786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арианты КИМ для проведения экзаменов по математике содержат задания с формульными ответами. Для указания ответов на такие задания используется бланк ответов, в котором предусмотрены поля для ввода формул – прямоугольные области со скругленными углами. В этом случае участнику необходимо аккуратно вписать ответ на бланке №1 в прямоугольное поле рядом с номером задания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1143000" y="4786200"/>
          <a:ext cx="628668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86200"/>
                    <a:ext cx="6286680" cy="1071720"/>
                  </a:xfrm>
                  <a:prstGeom prst="rect">
                    <a:avLst/>
                  </a:prstGeom>
                  <a:ln w="9360">
                    <a:solidFill>
                      <a:srgbClr val="002a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Прямоугольник 5"/>
          <p:cNvSpPr/>
          <p:nvPr/>
        </p:nvSpPr>
        <p:spPr>
          <a:xfrm>
            <a:off x="857160" y="4786200"/>
            <a:ext cx="44290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Если кратким ответом в задании является слово, сочетание слов или последовательность букв или цифр (задания с кратким ответом), то в бланке №1 ответ записывается рядом с номером задания в поле, состоящем из ячеек для отдельных символов, каждый символ вносится в отдельную ячейку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     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        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34800" y="3316320"/>
            <a:ext cx="82598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исправления ответов к заданиям с выбором ответа и кратким ответом участник экзамена должен использовать поля в области «Замена ошибочных ответов»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этого участник сначала должен указать номер задания. 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После записи номера задания участник должен указать правильный ответ, используя ячейки справа от номера: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 Для заданий с выбором ответа – поставить метку в ячейке с номером выбранного варианта ответа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 Для заданий с кратким ответом – записать ответ в отведенные для этого ячейки в области замены. Для исправления ответов к заданиям с кратким ответом даются такие же поля, состоящие из ячеек для отдельных символов, как и в области «Ответы на задания». Каждый символ записывается в отдельную ячейку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При этом НЕ НУЖНО зачеркивать неправильный ответ в разделе «Ответы на задания»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429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замены неправильного ответа в форме математического выражения (на бланке с формульными ответами) участник должен аккуратно зачеркнуть тонкой линией неправильный ответ или его часть и вписать внутри того же поля правильный ответ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8215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Бланк заполняется чёрной гелевой или капиллярной ручкой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 верхней (регистрационной) части бланка участником экзамена заполняются поля: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 код участника (изображен на бланке №1)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- номер варианта (указан на листах с заданиями экзаменационной работы)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подпись (должна помещаться в отведенном для нее поле) 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Не разрешается делать любые пометки, исправления и записи вне указанных полей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К бланку следует относиться бережно, не допускать его порчи. Не допускается использование ластика и корректирующих паст, лент и т.д. Не допускаются записи и любые пометки на обратной стороне бланка. 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ГИА в 9-х класса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1601640"/>
            <a:ext cx="85010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Государственная (итоговая) аттестация обучающихся, освоивших образовательные программы основного общего образования проводится в целях совершенствования организационной формы проведения государственной (итоговой) аттестации, введения независимой процедуры оценивания учебных достижений обучающихся общеобразовательных учреждений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Е БЛАНКА №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При выполнении заданий с развернутым ответом участник должен сначала указать номер задания, а затем записать ответ (или решение). Писать следует аккуратно и разборчиво, не выходя за границы поля, отведенного для записи ответов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Если участнику не хватило места для записи ответа (или решения), участник должен обратится к организатору в аудитории с просьбой выдать дополнительный бланк ответов №2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Если часть решения или ответа записана на одном бланке, а продолжение – на другом, то на каждом из бланков участник должен указать номер выполняемого задания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Исправления в записи развернутого ответа или хода решения производятся на бланке ответов №2. Если надо исправить фрагмент ответа или решения, его необходимо зачеркнуть, а рядом написать правильный вариант ответа (решения).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590560" y="49132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 rot="21005400">
            <a:off x="1054080" y="1093680"/>
            <a:ext cx="53928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669900"/>
                  </a:solidFill>
                  <a:miter/>
                </a:ln>
                <a:gradFill rotWithShape="0">
                  <a:gsLst>
                    <a:gs pos="0">
                      <a:srgbClr val="ffffe7"/>
                    </a:gs>
                    <a:gs pos="100000">
                      <a:srgbClr val="ffffff"/>
                    </a:gs>
                  </a:gsLst>
                  <a:lin ang="5994000"/>
                </a:gradFill>
                <a:effectLst>
                  <a:outerShdw dist="53966" dir="2700000" blurRad="0" rotWithShape="0">
                    <a:srgbClr val="002a00">
                      <a:alpha val="50000"/>
                    </a:srgbClr>
                  </a:outerShdw>
                </a:effectLst>
                <a:latin typeface="Arial Black"/>
              </a:rPr>
              <a:t>Желаем успеха!</a:t>
            </a:r>
            <a:endParaRPr b="1" lang="en-US" sz="2000" spc="1" strike="noStrike">
              <a:ln w="28440">
                <a:solidFill>
                  <a:srgbClr val="669900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100000">
                    <a:srgbClr val="ffffff"/>
                  </a:gs>
                </a:gsLst>
                <a:lin ang="5994000"/>
              </a:gradFill>
              <a:effectLst>
                <a:outerShdw dist="53966" dir="2700000" blurRad="0" rotWithShape="0">
                  <a:srgbClr val="002a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ГИА в 9-х класса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1601640"/>
            <a:ext cx="85010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Организацию и проведение государственной (итоговой) аттестации обучающихся, освоивших образовательные программы основного общего образования, осуществляет территориальная экзаменационная комиссия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 целях организации и осуществления проверки заданий с развернутым ответом, территориальная экзаменационная комиссия создает предметную комиссию. Порядок формирования и деятельности предметной комиссии устанавливается отдельным Положением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ГИА в 9-х класса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7120" y="1601640"/>
            <a:ext cx="85010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разрешения спорных вопросов, возникших при оценке экзаменационных работ, защиты прав выпускников создается территориальная конфликтная комиссия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Информационно–технологическое сопровождение государственной (итоговой) аттестации обучающихся, освоивших образовательные программы основного общего образования, осуществляет областное государственное образовательное учреждение дополнительного профессионального образования «Институт развития образования Иркутской области» 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82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ГИА в 9-х класса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85010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проведения государственной (итоговой) аттестации выпускников 9-х классов в новой форме используются контрольно – измерительные материалы, разрабатываемые по заказу Рособрнадзора уполномоченной организацией. 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Содержание КИМ определяется в соответствии с обязательным минимумом содержания основного общего образования, федеральным компонентом государственных образовательных стандартов основного  общего образования, на основании примерных программ общеобразовательных предметов, рекомендованных Минобрнауки России к использованию в образовательном процессе.</a:t>
            </a:r>
            <a:endParaRPr b="1" lang="en-US" sz="24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ведения ГИ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Рособрнадзор обеспечивает министерство образования Иркутской области  электронной версией КИМ  для проведения государственной (итоговой) аттестации выпускников 9-х классов общеобразовательных учреждений в новой форме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КИМ и бланки ответов  доставляются в МОУО посредством сети Интернет в электронном виде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ведения ГИ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В установленные сроки, при соблюдении требований информационной безопасности МОУО обеспечивает распечатку, пакетирование и доставку экзаменационных материалов в ОУ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После проведения экзамена оригиналы бланков ответов доставляются в РЦОИ для дальнейшей обработки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ведения ТОМ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ля труднодоступных и отдаленных местностей Иркутской области предусмотрена технология обработки результатов (технология ТОМ)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Данная технология после проведения экзамена предусматривает сканирование, верификацию бланков ответов  в ППОИ и экспорт полученных данных в единую базу РЦОИ для дальнейшей обработки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нки ответ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6e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Times New Roman"/>
                <a:ea typeface="Times New Roman"/>
              </a:rPr>
              <a:t>Бланк ответов №1 – бланк, в котором экзаменуемый указывает ответы на задания с выбором ответов и с кратким ответом</a:t>
            </a:r>
            <a:endParaRPr b="1" lang="en-US" sz="20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pic>
        <p:nvPicPr>
          <p:cNvPr id="119" name="Picture 5" descr="gia_al"/>
          <p:cNvPicPr/>
          <p:nvPr/>
        </p:nvPicPr>
        <p:blipFill>
          <a:blip r:embed="rId1"/>
          <a:stretch/>
        </p:blipFill>
        <p:spPr>
          <a:xfrm>
            <a:off x="4406760" y="1500120"/>
            <a:ext cx="4114800" cy="514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gia"/>
          <p:cNvPicPr/>
          <p:nvPr/>
        </p:nvPicPr>
        <p:blipFill>
          <a:blip r:embed="rId2"/>
          <a:stretch/>
        </p:blipFill>
        <p:spPr>
          <a:xfrm>
            <a:off x="615960" y="1500120"/>
            <a:ext cx="39196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32:38Z</dcterms:created>
  <dc:creator>M</dc:creator>
  <dc:description/>
  <dc:language>en-US</dc:language>
  <cp:lastModifiedBy>Маша</cp:lastModifiedBy>
  <dcterms:modified xsi:type="dcterms:W3CDTF">2012-03-01T14:25:12Z</dcterms:modified>
  <cp:revision>25</cp:revision>
  <dc:subject/>
  <dc:title>PowerPoint  Template</dc:title>
</cp:coreProperties>
</file>