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3A0-18BC-4B96-B428-7041808E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7F1-E9CC-409E-BEA9-90170842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7BB-BAA7-445A-8F5C-F39AE877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6DD-3935-4957-A545-87025B26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C36-ED84-4E3C-A797-AB5E19C9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D83-02AF-471D-945B-142C4D9B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C96-95D6-4546-8E5E-4504AB6E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23F-1DDA-4DDB-95FD-5A5E96F9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DB7-569C-42D9-85E4-D11BA013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7C1-5A21-4EE8-8FEE-B1A40597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82B-DAC3-4925-8630-8844EB65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B71-82CB-4A63-BC21-A91B860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F3C4-A918-4396-80CE-9D59B7997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3300"/>
                </a:solidFill>
                <a:latin typeface="Arial Black"/>
              </a:rPr>
              <a:t>ОСЕН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203640" cy="202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3132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Isaac Levitan. Autumn."/>
          <p:cNvPicPr/>
          <p:nvPr/>
        </p:nvPicPr>
        <p:blipFill>
          <a:blip r:embed="rId1"/>
          <a:stretch/>
        </p:blipFill>
        <p:spPr>
          <a:xfrm>
            <a:off x="684360" y="404640"/>
            <a:ext cx="7939080" cy="5634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0880" y="623736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нь. Исаак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2520" cy="5905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45080" y="630864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тябрь.Осень. Исаак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5676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30520" y="630864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ая осень.Исаак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Isaac Levitan. Autumn Landscape with a Church."/>
          <p:cNvPicPr/>
          <p:nvPr/>
        </p:nvPicPr>
        <p:blipFill>
          <a:blip r:embed="rId1"/>
          <a:stretch/>
        </p:blipFill>
        <p:spPr>
          <a:xfrm>
            <a:off x="2195640" y="189000"/>
            <a:ext cx="4775040" cy="64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36000" y="5661000"/>
            <a:ext cx="207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нний 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рков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аак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460440"/>
            <a:ext cx="8421480" cy="522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8360" y="602136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ая осень. Василий Пол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4340520" cy="6408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72360" y="544500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уд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ско-Разумов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П.Боголюб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830160"/>
            <a:ext cx="7921440" cy="517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04000" y="62373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нь.А.И. Куинд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Claude Monet. Autumn at Argenteuil."/>
          <p:cNvPicPr/>
          <p:nvPr/>
        </p:nvPicPr>
        <p:blipFill>
          <a:blip r:embed="rId1"/>
          <a:stretch/>
        </p:blipFill>
        <p:spPr>
          <a:xfrm>
            <a:off x="684360" y="476280"/>
            <a:ext cx="7689600" cy="573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89640" y="63295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нь. Клод М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Isaac Levitan. Autumn. The Manor."/>
          <p:cNvPicPr/>
          <p:nvPr/>
        </p:nvPicPr>
        <p:blipFill>
          <a:blip r:embed="rId1"/>
          <a:stretch/>
        </p:blipFill>
        <p:spPr>
          <a:xfrm>
            <a:off x="611280" y="189000"/>
            <a:ext cx="7920000" cy="6137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03600" y="630864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нь. Поместье. Исаак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Isaac Levitan. Fog. Autumn."/>
          <p:cNvPicPr/>
          <p:nvPr/>
        </p:nvPicPr>
        <p:blipFill>
          <a:blip r:embed="rId1"/>
          <a:stretch/>
        </p:blipFill>
        <p:spPr>
          <a:xfrm>
            <a:off x="900000" y="189000"/>
            <a:ext cx="7351920" cy="5972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630864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ман. Осень. Исаак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8:16:01Z</dcterms:created>
  <dc:creator>Andrew</dc:creator>
  <dc:description/>
  <dc:language>en-US</dc:language>
  <cp:lastModifiedBy>Andrew</cp:lastModifiedBy>
  <dcterms:modified xsi:type="dcterms:W3CDTF">2003-11-25T23:44:48Z</dcterms:modified>
  <cp:revision>4</cp:revision>
  <dc:subject/>
  <dc:title>Slide 1</dc:title>
</cp:coreProperties>
</file>