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9FC0-E0B7-43CF-A8CB-7521BE7B7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3B2E-8B42-4EBE-8174-091B54A64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D513-3410-475C-8044-6059B2FA5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3B28-48A9-415C-999F-809824034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E2D1-FDBC-41B9-9477-D4186EB87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1183-4368-47CD-8CAC-4BA4D5BC2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1B40-861B-4495-8882-5EFD22A62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E343-4C36-423C-93EB-83723064A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F30A-6E49-4535-A68D-4DABAB539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8AE4-8BE8-42F0-940F-A5228C10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C5FC-1391-4E09-B196-9DB46044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D79B-F047-4200-8A93-EAF5E171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D2EF4-48A7-4627-A39F-6905FB9CCF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i?id=39587639-11-72"/>
          <p:cNvPicPr/>
          <p:nvPr/>
        </p:nvPicPr>
        <p:blipFill>
          <a:blip r:embed="rId1"/>
          <a:stretch/>
        </p:blipFill>
        <p:spPr>
          <a:xfrm>
            <a:off x="380880" y="0"/>
            <a:ext cx="944892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i?id=39587639-11-72"/>
          <p:cNvPicPr/>
          <p:nvPr/>
        </p:nvPicPr>
        <p:blipFill>
          <a:blip r:embed="rId2"/>
          <a:stretch/>
        </p:blipFill>
        <p:spPr>
          <a:xfrm>
            <a:off x="0" y="5718240"/>
            <a:ext cx="1428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i?id=343954248-11-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i?id=286023908-14-72"/>
          <p:cNvPicPr/>
          <p:nvPr/>
        </p:nvPicPr>
        <p:blipFill>
          <a:blip r:embed="rId1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i?id=105674473-01-72"/>
          <p:cNvPicPr/>
          <p:nvPr/>
        </p:nvPicPr>
        <p:blipFill>
          <a:blip r:embed="rId1"/>
          <a:stretch/>
        </p:blipFill>
        <p:spPr>
          <a:xfrm>
            <a:off x="0" y="304920"/>
            <a:ext cx="876312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i?id=11843070-63-72"/>
          <p:cNvPicPr/>
          <p:nvPr/>
        </p:nvPicPr>
        <p:blipFill>
          <a:blip r:embed="rId1"/>
          <a:stretch/>
        </p:blipFill>
        <p:spPr>
          <a:xfrm>
            <a:off x="1143000" y="990720"/>
            <a:ext cx="71629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i?id=189519207-05-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i?id=39587639-11-72"/>
          <p:cNvPicPr/>
          <p:nvPr/>
        </p:nvPicPr>
        <p:blipFill>
          <a:blip r:embed="rId1"/>
          <a:stretch/>
        </p:blipFill>
        <p:spPr>
          <a:xfrm>
            <a:off x="380880" y="0"/>
            <a:ext cx="944892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i?id=39587639-11-72"/>
          <p:cNvPicPr/>
          <p:nvPr/>
        </p:nvPicPr>
        <p:blipFill>
          <a:blip r:embed="rId2"/>
          <a:stretch/>
        </p:blipFill>
        <p:spPr>
          <a:xfrm>
            <a:off x="0" y="0"/>
            <a:ext cx="1428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3520" y="228240"/>
            <a:ext cx="861048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дросф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идросфе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от гидро... и сфера), прерывистая водная оболочка Земли, располагающаяся между атмосферой и твёрдой земной корой (литосферой) и представляющая собой совокупность океанов, морей и поверхностных вод суши. В более широком смысле в состав Г. включают также подземные воды, лёд и снег Арктики и Антарктики, а также атмосферную воду и воду, содержащуюся в живых организмах. Основная масса воды Г. сосредоточена в морях и океанах, второе место по объёму водных масс занимают подземные воды, третье — лёд и снег арктических и антарктических областей. Поверхностные воды суши, атмосферные и биологически связанные воды составляют доли процента от общего объёма воды Г. (см. табл.). Химический состав Г. приближается к среднему составу морской 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i?id=330297603-49-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i?id=113316378-27-72"/>
          <p:cNvPicPr/>
          <p:nvPr/>
        </p:nvPicPr>
        <p:blipFill>
          <a:blip r:embed="rId1"/>
          <a:stretch/>
        </p:blipFill>
        <p:spPr>
          <a:xfrm>
            <a:off x="0" y="-76212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ерхностные воды, занимая сравнительно малую долю в общей массе Г., тем не менее играют важнейшую роль в жизни нашей планеты, являясь основным источником водоснабжения, орошения и обводнения. Воды Г. находятся в постоянном взаимодействии с атмосферой, земной корой и биосферой. Взаимодействие этих вод и взаимные переходы из одних видов вод в другие составляют сложный круговорот воды на земном шаре. В Г. впервые зародилась жизнь на Земле. Лишь в начале палеозойской эры началось постепенное переселение животных и растительных организмов на суш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i?id=119105949-17-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i?id=202627298-66-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рина</cp:lastModifiedBy>
  <dcterms:modified xsi:type="dcterms:W3CDTF">2012-01-19T10:32:53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