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141-23EE-4F3C-8A81-E64F3B8F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07C-1DFE-4BD6-BC12-5FF51C1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C96-E44F-4F0F-ABA3-CCD0083F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49B-DD10-4187-BF28-36C1AEB5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2CCB-3737-422D-B2C5-A5A3535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5F4C-6766-47C4-9C74-2E4C86C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47D-05B3-462D-A581-2EC2907E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83D-23E7-43B4-AD9C-86B76CC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024D-9FEF-4517-A82B-3AB2E78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B5B1-92C7-4E06-B9C7-E0921890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2801-70F2-4DB9-8B5A-9BE8CF1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20A-F255-4B30-832B-F142F11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CEE-5D28-42DC-83F4-E9FCE33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542E-329E-4AA0-A24E-153B16A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AD7C-3B30-4780-8F41-A29CB5F9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7B5-BDF0-46F5-A864-43858DBC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182-D9D7-432A-BDBA-3393881B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BDF-9184-48E1-B269-7CA55EE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27-D836-457B-A3DB-AB9DB96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C42-5489-46B1-8968-7B16034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DD8-95AE-4942-901E-9F3530C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847-60ED-425D-96DB-2533948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A05-4F03-4906-8DF9-7F5ECE2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C9E-499B-447D-82E9-6FCB1282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2722-0C48-43DD-8B74-2EC6FBECDD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EB5-1AD8-44CD-B713-C97DFA60A3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46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6000" spc="-1" strike="noStrike">
                <a:solidFill>
                  <a:srgbClr val="000099"/>
                </a:solidFill>
                <a:latin typeface="Comic Sans MS"/>
              </a:rPr>
              <a:t>Как исправить текст с неудачным повтором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(Урок развития речи  в 6 классе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по программе М.М.Разумовской)</a:t>
            </a:r>
            <a:br>
              <a:rPr sz="4000"/>
            </a:b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5280" y="6093000"/>
            <a:ext cx="8569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оронина Елена Юрьевна, учитель русского язы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У «СОШ №16 г. Сыктывкара с УИОП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исправь текс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81342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казы Носов  начал писать незадолго до войны (первая публикация – 1938 год). Но самые знаменитые,   самые светлые и запоминающиеся писались  в самые страшные годы.   С года сорок  первого по год сорок  пятый.  Тогда  Носов снимал дакуминтальные  фильмы  для фронта. А в свободнои время, когда не снимал дакуминтальные фильмы, для душы, писал те самые  истории – «мишкина каша», «Дружок», «Огородники»…. Паследняя история этого цыкла, «Тук-тук-тук», была написана в конце 1944 года, и в 1945 году у начинающего писателя вышла первая книжка -  сборник историй «Тук-тук-тук». Во всех историях у героев – детей только мамы, и мужских персанажей мало. В историях представлены носовым варенье с хлебом в качестве лакомства…    Но все-таки  войны там нет. Потому что это – для детей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60, упражнение 646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До свидани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360" y="208584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92720" y="3208320"/>
            <a:ext cx="3024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00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23.11.1908 – 26.07.197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143160" y="907920"/>
            <a:ext cx="3529080" cy="423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20185800">
            <a:off x="-181080" y="1915920"/>
            <a:ext cx="4321440" cy="34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1663800">
            <a:off x="4951080" y="3157560"/>
            <a:ext cx="4257720" cy="348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700360" y="420372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476280"/>
          <a:ext cx="7696080" cy="4789440"/>
        </p:xfrm>
        <a:graphic>
          <a:graphicData uri="http://schemas.openxmlformats.org/drawingml/2006/table">
            <a:tbl>
              <a:tblPr/>
              <a:tblGrid>
                <a:gridCol w="3814920"/>
                <a:gridCol w="388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ни вернулись на кухню, набрали из корзины картошки и стали швырять ее в шляпу. Швыряли, швыряли, наконец Вадик попал. Шляпа как подскочит кверху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Носов «Живая шляп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ни вернулись на кухню. Они набрали из корзины картошки. Они стали швырять ее в шляпу. Швыряли, швыряли в шляпу, и когда  Вадик попал, шляпа как подскочит кверху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Носов «Живая шляп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ще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лич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0"/>
          <a:ext cx="7696080" cy="6351480"/>
        </p:xfrm>
        <a:graphic>
          <a:graphicData uri="http://schemas.openxmlformats.org/drawingml/2006/table">
            <a:tbl>
              <a:tblPr/>
              <a:tblGrid>
                <a:gridCol w="3814920"/>
                <a:gridCol w="388116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ни вернулись на кухню, набрали из корзины картошки и стали швырять ее в шляпу Швыряли, швыряли, наконец Вадик попал. Шляпа как подскочит кверху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Носов «Живая шляп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ни вернулись на кухню. Они набрали из корзины картошки. Они стали швырять ее в шляпу. Швыряли, швыряли в шляпу, и когда  Вадик попал, шляпа как подскочит кверху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Носов «Живая шляп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ще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лич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ля чего нужн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ПОВТОРЫ: повтор подчеркив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е важное в высказывании, основную мысл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втор указывает на продолжительность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амятка.  Как устранить повтор-недоч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333000"/>
            <a:ext cx="3771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Что сделат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странить лишнее слово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ъединить в одно предложение с однородными членам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ъединить предложения, превратив одно в  словосочета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Заменить повторяющееся слово  местоимение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Заменить повторяющееся слово синоним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76280"/>
            <a:ext cx="3772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ы с Вовкой сидели дома, за то, что разбили сахарницу. Мама ушла, а к нам с Вовкой  пришел Котьк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.   («Находчивость»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шли мы на станцию. Спустились мы по лестнице.  И поехали мы под землей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.                                                              («Метро»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хватил Котька фанерку и покатил к дворницкой. Там - ящик с песком. Он и стал песок на горку таскать. Песок был мокрый и тяжелый. Сыпал впереди себя и так взобрался на самый верх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«На горке»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днажды Петя возвращался из детского сада. В этот день Петя научился считать до десяти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(«Ступеньки»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аз как-то зимой Федя Рыбкин пришел с катка. Дома никого не было. Младшая сестра Рина, уже успела сделать уроки, и поэтому Рина  пошла играть с подругам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«Федина задача»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Предложения для групп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Задание: найти в предложениях ошибки. Записать исправленный вариан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гр. Когда мы гладили себя по животу, мы веселили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гр. Во время физминутки нам было весело весел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гр. Мы гладили живот, мы стучали по голове, мы смеяли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гр. Нам было весело, когда мы смотрели на одноклассн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авт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повторение того же самого другими словами, не уточняющее смысл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де она, тавтологи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тенцы падают вниз на зем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чало представления в 19 часов вече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задирайте нос кверху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шибки чтеца неприятно резали слу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да была мокра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23094" t="27594" r="44220" b="35376"/>
          <a:stretch/>
        </p:blipFill>
        <p:spPr>
          <a:xfrm>
            <a:off x="4500720" y="3584520"/>
            <a:ext cx="46432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Темы текстов для каждой группы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гр.: Прогулка в осеннем лесу под дожд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гр.: Купание в апреле в холодном море (раз уж приехал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гр.: Кормление хищного зверя в зоопарке (пока не видит смотрител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гр.: Попытка донести до машины в руках 14 кактусов, купленных на 8 Марта одноклассниц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32:16Z</dcterms:created>
  <dc:creator>Елена</dc:creator>
  <dc:description/>
  <dc:language>en-US</dc:language>
  <cp:lastModifiedBy>Елена</cp:lastModifiedBy>
  <dcterms:modified xsi:type="dcterms:W3CDTF">2012-03-01T18:10:08Z</dcterms:modified>
  <cp:revision>25</cp:revision>
  <dc:subject/>
  <dc:title>Урок развития речи  в 6 классе по теме «Как исправить текст с неудачным повтором»</dc:title>
</cp:coreProperties>
</file>