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DAF0-6F04-4A53-BE01-43C75213E9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9FE9-3E08-44EA-A0EB-7C842144C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CC3-3D9D-4D87-A689-90CD6CC8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7F3-43D2-4F8F-97E2-9F6002F7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6E7-4AA5-4F17-9D19-184FEC6E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7F1-21B8-41A3-BCA2-ED57A2D6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4E1C-B0BC-471B-A4FB-E061E731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7871-22E5-4121-809C-06761D51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B131-EFF8-4037-9366-B60FA83C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8B5A-6AA6-4C3B-A979-D1E8E51A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69DD-9308-43A4-B3CB-4B87ED7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E675-DE0A-48B3-A7EC-AEAE8C0A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FFAE-786C-4EF5-89EE-4E4F0AE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549-8884-4FCB-B6DA-1EF2B872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DD35-3672-4E43-8F5A-DF3F3855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9EB6-5AB2-4485-8B82-FD0C117F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E355-55BA-43DD-B6E8-A4646B31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CB70-B83B-457F-9336-41848F1B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D232-2478-4D04-9A98-76E92ACA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EC62-BA6F-4450-A1EC-848C85E1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A216-D3F6-4CB3-BEDB-28D1D8D4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6459-8A3D-43E9-96CD-62B93992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1494-0767-4868-AF41-1651172B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118C-0EDD-4FD7-9967-EEDAA77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AFE-CD57-4AEE-B419-5007320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E004-FA2D-40A3-ABB6-7D649217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A906-FEA5-45F2-B3A8-065C4455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1742-2DD8-4A2B-A993-FADB49B8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C9D9-E03F-4517-A47A-68C3C4B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65B8-30D1-4C18-9FDC-DD4A9FD2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6723-356F-4D30-A101-1807EB99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D267-70BB-4694-9A2B-A5BA0173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8716E-9C3D-426A-BCDB-3290C031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A092C-9FAD-4EBD-9E67-3F160172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2FF0-8619-4919-90FF-9A3CE357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066-D364-4897-92EC-033273D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71E24-169F-4796-ACB0-68A38F2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961C-9E72-44B2-B759-50998BC8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29CDF-10B4-41B4-938B-3B2D6ABF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E4DE-CC22-499A-A598-A6B4F4A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2046E-A259-4D05-A100-65DD8E4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E671-933A-43ED-BC54-A6CF6E1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0991-1D31-4C64-BA0A-8CB2052D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780C-9164-4320-B00F-80098FE8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4AF0-D0C6-438F-94F3-C7E819F1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6FD6F-1274-4D4A-9A3E-35E4893F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2A7-ED16-4B84-B92C-68F23B33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1E027-F66A-4A66-8A03-C589DC72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02311-3726-4387-A1B1-188D376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C8865-C37E-4D7C-8C0A-6A7FC269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A36BD-36D7-476C-84C0-5BEB49C6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BC8FA-E03F-4AC7-8986-200D57C6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19B13-3ED2-4A10-B086-33F89D47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197FE-220B-45C6-8F63-3A63E333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96CC3-8E68-4F00-A066-85C46889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D5468-1792-4A0C-9354-6C08E6A1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3F90F-F6B6-40B6-AB47-9074080B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C14-0326-457C-B45C-5C20DC00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331A7-7AC2-46F2-A113-E6640881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C94-C155-458F-8500-B78840F4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C77-AF8B-4005-8F3D-7CFD7664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249-B350-475C-B85E-08A9B9A3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0D1D-F0F5-4679-8553-0E2362F05A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C7A-D2FD-4052-8D07-45D8E88CEC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DAFA-A6C1-422F-9338-EC6A7A9702E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DE99-4048-4CEF-956D-B282835DA8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1977-7C3B-40E0-A80E-D89101AA76B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8"/>
          <p:cNvPicPr/>
          <p:nvPr/>
        </p:nvPicPr>
        <p:blipFill>
          <a:blip r:embed="rId1"/>
          <a:stretch/>
        </p:blipFill>
        <p:spPr>
          <a:xfrm>
            <a:off x="-762120" y="-304920"/>
            <a:ext cx="10692000" cy="7559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Муниципальное бюджетное дошкольно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образовательное учреждени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детский сад общеразвивающего вида № 6</a:t>
            </a:r>
            <a:br>
              <a:rPr sz="2200"/>
            </a:br>
            <a:br>
              <a:rPr sz="22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352030 Краснодарский край, ст.Кущёвская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ул.Комсомольская, 45 тел.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8 (861-68) 5-54-71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сайт: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Rodnichokdetsad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6</a:t>
            </a: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80880" y="2666880"/>
            <a:ext cx="8763120" cy="3733920"/>
          </a:xfrm>
          <a:prstGeom prst="rect">
            <a:avLst/>
          </a:prstGeom>
          <a:solidFill>
            <a:srgbClr val="f2f2f2"/>
          </a:solidFill>
          <a:ln w="76320">
            <a:solidFill>
              <a:srgbClr val="ffff00"/>
            </a:solidFill>
            <a:miter/>
          </a:ln>
        </p:spPr>
        <p:txBody>
          <a:bodyPr lIns="182880" tIns="91440" anchor="t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Создание развивающей сред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для детей раннего возраста с нарушениями зрения в условиях неспециализированного  ДОУ</a:t>
            </a: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Конференция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«Создание адаптивной среды для детей с ограниченными возможностями здоровья, в том числе детей-инвалидов в условиях образовательных учреждений различных типов и вид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оздание развивающей среды в групповой ячейк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2" descr="C:\Documents and Settings\Пользователь\Рабочий стол\P1020314.JPG"/>
          <p:cNvPicPr/>
          <p:nvPr/>
        </p:nvPicPr>
        <p:blipFill>
          <a:blip r:embed="rId2"/>
          <a:stretch/>
        </p:blipFill>
        <p:spPr>
          <a:xfrm>
            <a:off x="533520" y="1066680"/>
            <a:ext cx="4103640" cy="273528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234" name="Picture 7" descr="C:\Users\ДетСад\Desktop\ПРАПРО\DSC01533.JPG"/>
          <p:cNvPicPr/>
          <p:nvPr/>
        </p:nvPicPr>
        <p:blipFill>
          <a:blip r:embed="rId3"/>
          <a:stretch/>
        </p:blipFill>
        <p:spPr>
          <a:xfrm>
            <a:off x="5181480" y="1066680"/>
            <a:ext cx="4176720" cy="27352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35" name="Picture 3" descr="C:\Documents and Settings\Пользователь\Рабочий стол\P1020311.JPG"/>
          <p:cNvPicPr/>
          <p:nvPr/>
        </p:nvPicPr>
        <p:blipFill>
          <a:blip r:embed="rId4"/>
          <a:stretch/>
        </p:blipFill>
        <p:spPr>
          <a:xfrm>
            <a:off x="533520" y="4294080"/>
            <a:ext cx="4103640" cy="25639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236" name="Picture 5" descr="G:\фотографии с физ\P1050353.JPG"/>
          <p:cNvPicPr/>
          <p:nvPr/>
        </p:nvPicPr>
        <p:blipFill>
          <a:blip r:embed="rId5"/>
          <a:stretch/>
        </p:blipFill>
        <p:spPr>
          <a:xfrm>
            <a:off x="5257800" y="4192560"/>
            <a:ext cx="4103640" cy="266544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sp>
        <p:nvSpPr>
          <p:cNvPr id="237" name="8-конечная звезда 7"/>
          <p:cNvSpPr/>
          <p:nvPr/>
        </p:nvSpPr>
        <p:spPr>
          <a:xfrm>
            <a:off x="3886200" y="3276720"/>
            <a:ext cx="2057400" cy="1523880"/>
          </a:xfrm>
          <a:custGeom>
            <a:avLst/>
            <a:gdLst>
              <a:gd name="textAreaLeft" fmla="*/ 483120 w 2057400"/>
              <a:gd name="textAreaRight" fmla="*/ 1574280 w 2057400"/>
              <a:gd name="textAreaTop" fmla="*/ 357840 h 1523880"/>
              <a:gd name="textAreaBottom" fmla="*/ 11660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млад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39" name="Горизонтальный свиток 11"/>
          <p:cNvSpPr/>
          <p:nvPr/>
        </p:nvSpPr>
        <p:spPr>
          <a:xfrm>
            <a:off x="228600" y="228600"/>
            <a:ext cx="8763120" cy="103356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етодическая 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хема 13" descr=""/>
          <p:cNvPicPr/>
          <p:nvPr/>
        </p:nvPicPr>
        <p:blipFill>
          <a:blip r:embed="rId2"/>
          <a:stretch/>
        </p:blipFill>
        <p:spPr>
          <a:xfrm>
            <a:off x="133200" y="1390680"/>
            <a:ext cx="8877600" cy="5016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Горизонтальный свиток 11"/>
          <p:cNvSpPr/>
          <p:nvPr/>
        </p:nvSpPr>
        <p:spPr>
          <a:xfrm>
            <a:off x="228600" y="228600"/>
            <a:ext cx="8610480" cy="103356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нсультативная 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Схема 13" descr=""/>
          <p:cNvPicPr/>
          <p:nvPr/>
        </p:nvPicPr>
        <p:blipFill>
          <a:blip r:embed="rId2"/>
          <a:stretch/>
        </p:blipFill>
        <p:spPr>
          <a:xfrm>
            <a:off x="133200" y="1390680"/>
            <a:ext cx="8858520" cy="50166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8"/>
          <p:cNvPicPr/>
          <p:nvPr/>
        </p:nvPicPr>
        <p:blipFill>
          <a:blip r:embed="rId1"/>
          <a:stretch/>
        </p:blipFill>
        <p:spPr>
          <a:xfrm>
            <a:off x="-60948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беспечение оптимальных, щадящих и комфортных условий в ДОУ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9" descr="E:\106_PANA\P1060176.JPG"/>
          <p:cNvPicPr/>
          <p:nvPr/>
        </p:nvPicPr>
        <p:blipFill>
          <a:blip r:embed="rId2"/>
          <a:stretch/>
        </p:blipFill>
        <p:spPr>
          <a:xfrm>
            <a:off x="609480" y="1295280"/>
            <a:ext cx="3810240" cy="2590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7" name="Picture 10" descr="E:\106_PANA\P1060179.JPG"/>
          <p:cNvPicPr/>
          <p:nvPr/>
        </p:nvPicPr>
        <p:blipFill>
          <a:blip r:embed="rId3"/>
          <a:stretch/>
        </p:blipFill>
        <p:spPr>
          <a:xfrm>
            <a:off x="4572000" y="1295280"/>
            <a:ext cx="3809880" cy="2590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8" name="Picture 11" descr="E:\106_PANA\P1060184.JPG"/>
          <p:cNvPicPr/>
          <p:nvPr/>
        </p:nvPicPr>
        <p:blipFill>
          <a:blip r:embed="rId4"/>
          <a:stretch/>
        </p:blipFill>
        <p:spPr>
          <a:xfrm>
            <a:off x="609480" y="3962520"/>
            <a:ext cx="3810240" cy="25905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9" name="Picture 5" descr="C:\Users\ДетСад\Desktop\DCIM\100KM753\100_5138.JPG"/>
          <p:cNvPicPr/>
          <p:nvPr/>
        </p:nvPicPr>
        <p:blipFill>
          <a:blip r:embed="rId5"/>
          <a:stretch/>
        </p:blipFill>
        <p:spPr>
          <a:xfrm>
            <a:off x="4495680" y="3962520"/>
            <a:ext cx="3886200" cy="25905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250" name="Стрелка вправо 14"/>
          <p:cNvSpPr/>
          <p:nvPr/>
        </p:nvSpPr>
        <p:spPr>
          <a:xfrm>
            <a:off x="152280" y="3200400"/>
            <a:ext cx="1663920" cy="533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гу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право 15"/>
          <p:cNvSpPr/>
          <p:nvPr/>
        </p:nvSpPr>
        <p:spPr>
          <a:xfrm>
            <a:off x="152280" y="5867280"/>
            <a:ext cx="2514600" cy="533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ы со сверст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лево 16"/>
          <p:cNvSpPr/>
          <p:nvPr/>
        </p:nvSpPr>
        <p:spPr>
          <a:xfrm>
            <a:off x="6553080" y="3200400"/>
            <a:ext cx="2438640" cy="5335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та с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лево 17"/>
          <p:cNvSpPr/>
          <p:nvPr/>
        </p:nvSpPr>
        <p:spPr>
          <a:xfrm>
            <a:off x="6477120" y="5943600"/>
            <a:ext cx="2514600" cy="45720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руппов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7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8"/>
          <p:cNvPicPr/>
          <p:nvPr/>
        </p:nvPicPr>
        <p:blipFill>
          <a:blip r:embed="rId1"/>
          <a:stretch/>
        </p:blipFill>
        <p:spPr>
          <a:xfrm>
            <a:off x="-609480" y="-45720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-360"/>
            <a:ext cx="8717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слесловие…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Вертикальный свиток 5"/>
          <p:cNvSpPr/>
          <p:nvPr/>
        </p:nvSpPr>
        <p:spPr>
          <a:xfrm>
            <a:off x="0" y="533520"/>
            <a:ext cx="9144000" cy="6095880"/>
          </a:xfrm>
          <a:prstGeom prst="verticalScroll">
            <a:avLst>
              <a:gd name="adj" fmla="val 12500"/>
            </a:avLst>
          </a:prstGeom>
          <a:solidFill>
            <a:srgbClr val="eaeae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явление в семье ребёнка, имеющего зрительный дефект, почти всегда вызывает у родителей сильный эмоциональный стресс, порождает тревогу, растерянность перед неопределённостью перспектив развития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никает большое количество вопросов: «Сможет ли ребёнок нормально развиваться?», «Как скажется снижение зрения на его умственном и физическом развитии?», «Как будут относиться к нему другие люд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этому, цель наша– помочь  ребёнку-инвалиду и его родителям понять, что они являются неотъемлемой частью нашего современного общества, которому необходимо придерживаться принципов инклюзивного образ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Ценность человека не зависит от его способностей и дости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аждый человек способен чувствовать и дума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аждый человек имеет право на общение и на то, чтобы быть услышан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се люди нуждаются друг в дру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длинное образование может осуществляться только в контексте реальных взаимо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се люди нуждаются в поддержке и дружбе ровес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ля всех обучающихся достижение прогресса скорее может быть в том, что они могут делать, чем в том, что не могу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Разнообразие усиливает все стороны жизн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ад</dc:creator>
  <dc:description/>
  <dc:language>en-US</dc:language>
  <cp:lastModifiedBy>Kramar</cp:lastModifiedBy>
  <dcterms:modified xsi:type="dcterms:W3CDTF">2012-02-29T20:49:29Z</dcterms:modified>
  <cp:revision>1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