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FAE-1608-4614-A22E-E02609FF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C87-BF3F-471C-9B9C-77BE1132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95A-3EA6-4836-82FE-CF5BA4F4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264-16B3-4AB9-B930-3CD3F25A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8260-349A-4056-B74B-17FB8A5A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F64E-24DF-46F1-8F17-53077DB7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D6BF-F9D3-4116-B31D-6FF03450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68DF-3905-41CF-AF89-79E0FEF4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ED7C-DDE6-4FA6-9D00-E3BA4F8F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A86A-432D-429E-A650-F9956E9B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E018-0EEB-4A54-B275-B81F887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266-2B4E-44C8-BD31-62EE7A14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AD13-980D-425B-B381-096BC3C5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D929-D121-484C-93B0-6F28CB9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15B8-84AF-4498-8D4A-AEE64182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C973-21AF-4389-92B6-B6F0E117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2BAB-6017-49CD-B210-B7C97158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FB0B7-19BA-4701-8E23-8CBE23C7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541C-B850-42F3-97D2-34119A7A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BC36-2E12-4ACA-BDE7-83603326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49F5-B19F-4D26-B6F3-2BC79CC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DF8A-C510-47BB-9AFF-A0CC706E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8D9-55FD-4822-8930-9588215B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06FC-EE76-482C-9DD8-F82AD0BF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D6D4-1B57-4441-AF3D-8E40FBF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3E2C-9C8E-423C-9306-E9475248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83B4-E9DB-49C8-B422-C2D9F74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3804-4998-4E1C-82AF-4AA0EC65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2DCA-F69E-4B10-8A9F-F5AABB0A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3C51-1538-41E0-A5F6-3B09239D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C2B2-E98E-42AB-936A-5A3267E5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817F-FAAE-4EC2-9B44-9665BC9A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0EE8-29D8-490D-BC54-1D8B39F1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436-143A-46C2-836B-B1516917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CF96-A952-4D7E-80F1-F278DB85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A742-390B-4A40-971C-E09B19BD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3EFD-0235-4214-9676-0F7BEA0C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55186-E2E7-4BE2-8BAA-76ACD854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95D2-531F-4ADA-97A0-EA78EB2B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5465-F2B7-47A8-8117-68FA95EC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AF444-E2C1-4CAE-932D-576B835D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0F04-0D33-4307-AB87-F4C404C5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EAA0-9E18-472A-B8B8-CCFAD4F8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D360-26F3-4603-94D4-3D545CB0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E10-1EDF-43D2-B24A-573E6E02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C476A-F52F-4479-863C-F6E2C340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06A1-1080-4EC3-95ED-C46B3B03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4949-689C-453F-BA12-8257D183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60A7-AFA7-4498-9C07-69073853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CE31C-612E-492F-8F02-2FF48A0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387AD-2CA7-4839-85F7-FA654EAB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A539F-DDDE-4B66-B66B-51A4412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083BF-F085-4C18-9386-94105DE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A485-F228-4126-9DFF-DC8B0D3E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A952-396C-4DFD-AB76-E5C7101C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9ED-7B84-4617-AE07-EFA671BD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5D6F-5A08-4E12-B483-6E9559B2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FB3-6707-433F-A22A-BF53DF0E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FC9-23FC-4101-A9C6-AEDB23E3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3E9-52DB-45CC-85FA-0F572CC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1B9D-C6FF-47CA-84D4-0B6F19D266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3070-FDD9-4EC3-B43F-CCB9148E96B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4C79-A4DC-4A95-A706-722DEDB2DB2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F554-113B-499F-B9E4-02103A49B87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F8D9-1E9D-4B9D-AA27-9A00190D75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8"/>
          <p:cNvPicPr/>
          <p:nvPr/>
        </p:nvPicPr>
        <p:blipFill>
          <a:blip r:embed="rId1"/>
          <a:stretch/>
        </p:blipFill>
        <p:spPr>
          <a:xfrm>
            <a:off x="-762120" y="-304920"/>
            <a:ext cx="10692000" cy="7559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Муниципальное бюджетное дошкольно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образовательное учреждени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детский сад общеразвивающего вида № 6</a:t>
            </a:r>
            <a:br>
              <a:rPr sz="2200"/>
            </a:br>
            <a:br>
              <a:rPr sz="22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352030 Краснодарский край, ст.Кущёвская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ул.Комсомольская, 45 тел.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8 (861-68) 5-54-71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сайт: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Rodnichokdetsad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6</a:t>
            </a: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80880" y="2666880"/>
            <a:ext cx="8763120" cy="3733920"/>
          </a:xfrm>
          <a:prstGeom prst="rect">
            <a:avLst/>
          </a:prstGeom>
          <a:solidFill>
            <a:srgbClr val="f2f2f2"/>
          </a:solidFill>
          <a:ln w="76320">
            <a:solidFill>
              <a:srgbClr val="ffff00"/>
            </a:solidFill>
            <a:miter/>
          </a:ln>
        </p:spPr>
        <p:txBody>
          <a:bodyPr lIns="182880" tIns="91440" anchor="t">
            <a:no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Создание развивающей сред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для детей раннего возраста с нарушениями зрения в условиях неспециализированного  ДОУ</a:t>
            </a: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Конференция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«Создание адаптивной среды для детей с ограниченными возможностями здоровья, в том числе детей-инвалидов в условиях образовательных учреждений различных типов и вид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едующая Крамарь Елена Александро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9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ЦЕЛЬ: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529920"/>
            <a:ext cx="8259840" cy="5870520"/>
          </a:xfrm>
          <a:prstGeom prst="rect">
            <a:avLst/>
          </a:prstGeom>
          <a:solidFill>
            <a:srgbClr val="f2f2f2"/>
          </a:solidFill>
          <a:ln w="76320">
            <a:solidFill>
              <a:srgbClr val="ffff00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тях, имеющих отклонения умственного развития, известно ещё со времён Аристотеля. Тогда такие дети просто уничтожал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, с развитием медицины, стали возникать вопросы помощи таким детям. Большой вклад в развитие данного направления внесли учёные того времени и современны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пп Пин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-Этьен-Доминик Эскиро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 Ита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В. И Е.Х. Малярев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К.Грачё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.ВыготскийТ.А.Влас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Азбук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Бехтере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П.Серб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ногие дру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32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8"/>
          <p:cNvPicPr/>
          <p:nvPr/>
        </p:nvPicPr>
        <p:blipFill>
          <a:blip r:embed="rId1"/>
          <a:stretch/>
        </p:blipFill>
        <p:spPr>
          <a:xfrm>
            <a:off x="-609480" y="-244440"/>
            <a:ext cx="10691640" cy="7559640"/>
          </a:xfrm>
          <a:prstGeom prst="rect">
            <a:avLst/>
          </a:prstGeom>
          <a:ln w="0">
            <a:noFill/>
          </a:ln>
        </p:spPr>
      </p:pic>
      <p:pic>
        <p:nvPicPr>
          <p:cNvPr id="228" name="Схема 2" descr=""/>
          <p:cNvPicPr/>
          <p:nvPr/>
        </p:nvPicPr>
        <p:blipFill>
          <a:blip r:embed="rId2"/>
          <a:stretch/>
        </p:blipFill>
        <p:spPr>
          <a:xfrm>
            <a:off x="133200" y="255600"/>
            <a:ext cx="9041040" cy="631656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2" descr=""/>
          <p:cNvPicPr/>
          <p:nvPr/>
        </p:nvPicPr>
        <p:blipFill>
          <a:blip r:embed="rId2"/>
          <a:stretch/>
        </p:blipFill>
        <p:spPr>
          <a:xfrm>
            <a:off x="1517760" y="115920"/>
            <a:ext cx="6108480" cy="1347840"/>
          </a:xfrm>
          <a:prstGeom prst="rect">
            <a:avLst/>
          </a:prstGeom>
          <a:ln w="0">
            <a:noFill/>
          </a:ln>
        </p:spPr>
      </p:pic>
      <p:pic>
        <p:nvPicPr>
          <p:cNvPr id="231" name="Горизонтальный свиток 3" descr=""/>
          <p:cNvPicPr/>
          <p:nvPr/>
        </p:nvPicPr>
        <p:blipFill>
          <a:blip r:embed="rId3"/>
          <a:stretch/>
        </p:blipFill>
        <p:spPr>
          <a:xfrm>
            <a:off x="822240" y="822240"/>
            <a:ext cx="8113680" cy="58276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23920" y="152280"/>
            <a:ext cx="4419720" cy="4572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Инклюзивное образование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800600" y="914040"/>
            <a:ext cx="4114800" cy="5715000"/>
          </a:xfrm>
          <a:prstGeom prst="rect">
            <a:avLst/>
          </a:prstGeom>
          <a:solidFill>
            <a:srgbClr val="eaeaea"/>
          </a:solidFill>
          <a:ln w="9360">
            <a:solidFill>
              <a:srgbClr val="990033"/>
            </a:solidFill>
            <a:miter/>
          </a:ln>
        </p:spPr>
        <p:txBody>
          <a:bodyPr tIns="91440" anchor="t">
            <a:normAutofit/>
          </a:bodyPr>
          <a:p>
            <a:pPr marL="17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октября 2010 года в МБДОУ д\с ОВ № 6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ервую младшую группу поступила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Есипенко Сон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ода рождения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вочка-инвалид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о зрению с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агнозо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врождённое отсутствие пигментации радужной оболочки глаз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«Альбинос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равка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33"/>
                </a:solidFill>
                <a:latin typeface="Verdana"/>
              </a:rPr>
              <a:t>Альбинизм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– от латинског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lbus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– белый, врождённое отсутствие пигментации кожи, волос, радужной оболочки глаз у человека и животных; у растений – отсутствие зелёной окраски. Организм, лишённый окраски, называется альбиносом. У человека частота рождения альбиносов – один на 20-40 тысяч челове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(Иллюстративный энциклопедический словарь, 1997 год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C:\Users\7\Desktop\Новая папка\SDC10634.JPG"/>
          <p:cNvPicPr/>
          <p:nvPr/>
        </p:nvPicPr>
        <p:blipFill>
          <a:blip r:embed="rId2"/>
          <a:stretch/>
        </p:blipFill>
        <p:spPr>
          <a:xfrm>
            <a:off x="228600" y="609480"/>
            <a:ext cx="4343400" cy="571500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p:transition spd="slow" advTm="51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8"/>
          <p:cNvPicPr/>
          <p:nvPr/>
        </p:nvPicPr>
        <p:blipFill>
          <a:blip r:embed="rId1"/>
          <a:stretch/>
        </p:blipFill>
        <p:spPr>
          <a:xfrm>
            <a:off x="-773280" y="-244440"/>
            <a:ext cx="10692000" cy="7559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заимодействие работников ДОУ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Схема 4" descr=""/>
          <p:cNvPicPr/>
          <p:nvPr/>
        </p:nvPicPr>
        <p:blipFill>
          <a:blip r:embed="rId2"/>
          <a:stretch/>
        </p:blipFill>
        <p:spPr>
          <a:xfrm>
            <a:off x="603360" y="1390680"/>
            <a:ext cx="7937280" cy="505944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ад</dc:creator>
  <dc:description/>
  <dc:language>en-US</dc:language>
  <cp:lastModifiedBy>Kramar</cp:lastModifiedBy>
  <dcterms:modified xsi:type="dcterms:W3CDTF">2012-02-29T20:37:14Z</dcterms:modified>
  <cp:revision>1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