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png" ContentType="image/png"/>
  <Override PartName="/ppt/media/image46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56.jpeg" ContentType="image/jpeg"/>
  <Override PartName="/ppt/media/image50.png" ContentType="image/png"/>
  <Override PartName="/ppt/media/image49.jpeg" ContentType="image/jpeg"/>
  <Override PartName="/ppt/media/image48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36.jpeg" ContentType="image/jpeg"/>
  <Override PartName="/ppt/media/image21.jpeg" ContentType="image/jpeg"/>
  <Override PartName="/ppt/media/image71.png" ContentType="image/png"/>
  <Override PartName="/ppt/media/image70.jpeg" ContentType="image/jpeg"/>
  <Override PartName="/ppt/media/image35.png" ContentType="image/png"/>
  <Override PartName="/ppt/media/image43.jpeg" ContentType="image/jpeg"/>
  <Override PartName="/ppt/media/image6.png" ContentType="image/png"/>
  <Override PartName="/ppt/media/image65.jpeg" ContentType="image/jpeg"/>
  <Override PartName="/ppt/media/image5.png" ContentType="image/png"/>
  <Override PartName="/ppt/media/image39.jpeg" ContentType="image/jpeg"/>
  <Override PartName="/ppt/media/image68.jpeg" ContentType="image/jpeg"/>
  <Override PartName="/ppt/media/image2.jpeg" ContentType="image/jpeg"/>
  <Override PartName="/ppt/media/image31.png" ContentType="image/png"/>
  <Override PartName="/ppt/media/image19.jpeg" ContentType="image/jpeg"/>
  <Override PartName="/ppt/media/image25.png" ContentType="image/png"/>
  <Override PartName="/ppt/media/image24.jpeg" ContentType="image/jpeg"/>
  <Override PartName="/ppt/media/image40.jpeg" ContentType="image/jpeg"/>
  <Override PartName="/ppt/media/image13.jpeg" ContentType="image/jpeg"/>
  <Override PartName="/ppt/media/image67.jpeg" ContentType="image/jpeg"/>
  <Override PartName="/ppt/media/image69.png" ContentType="image/png"/>
  <Override PartName="/ppt/media/image32.png" ContentType="image/png"/>
  <Override PartName="/ppt/media/image66.jpeg" ContentType="image/jpeg"/>
  <Override PartName="/ppt/media/image6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61.jpeg" ContentType="image/jpeg"/>
  <Override PartName="/ppt/media/image51.jpeg" ContentType="image/jpeg"/>
  <Override PartName="/ppt/media/image60.png" ContentType="image/png"/>
  <Override PartName="/ppt/media/image1.jpeg" ContentType="image/jpeg"/>
  <Override PartName="/ppt/media/image62.jpeg" ContentType="image/jpeg"/>
  <Override PartName="/ppt/media/image7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8.jpeg" ContentType="image/jpeg"/>
  <Override PartName="/ppt/media/image72.png" ContentType="image/png"/>
  <Override PartName="/ppt/media/image27.jpeg" ContentType="image/jpeg"/>
  <Override PartName="/ppt/media/image10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42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0E0-024D-4F24-B691-90767F9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FF6-7B2E-4AC7-A56F-AC9CC5A4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659-7F73-4CFB-976D-F29EDA47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0A4-BE3D-4D67-A3E3-077B5C7C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FB2E-FB54-444D-B065-7AFD2C3B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BE4D-1983-4F8D-8FD7-A2022CF0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4DA3-E85B-44C2-9E15-D4B555E8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95FF-0649-4BE1-92C3-C37E6E3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6270-5D50-436F-A0BC-8BC4A795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FC0B-33E3-44DA-86E3-DC61657C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CCF6-182E-4D04-9E68-5B54BC4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C94-7F88-454F-8A2E-13A4BF04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A433-1829-4115-8964-0BFE82FA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A829-192B-461B-9E83-902C42A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D0B8-694E-4CDC-A3AE-6BDDE170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2DA2-BF31-47B8-945B-3763CE34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0162-9D1B-4BE0-90A4-7B65B554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F42-7052-4B61-BACD-78439E15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337-DD3A-41AA-971B-27F961C4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CB7-ED42-4362-96C3-AC150B1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A25-7A75-42F5-B598-4BA26370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1DD-52A5-48CD-BD1F-B849D05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7B9-327E-4DAB-9154-C903736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850-411B-4558-B8F3-136E871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5DDC-10F1-4885-856D-3B72D229C88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AE1-2CB1-4B47-99B7-4B281802CC7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bBITOo8BYbkxk7r6GjFEALPR_400.jpg"/>
          <p:cNvPicPr/>
          <p:nvPr/>
        </p:nvPicPr>
        <p:blipFill>
          <a:blip r:embed="rId1"/>
          <a:stretch/>
        </p:blipFill>
        <p:spPr>
          <a:xfrm>
            <a:off x="2857680" y="2500200"/>
            <a:ext cx="2857320" cy="30546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-6480" y="-506520"/>
            <a:ext cx="9156960" cy="321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5786280" y="4214880"/>
            <a:ext cx="30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 5 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91 г.о. Сам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хибназаров Ник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9960" indent="-533520">
              <a:spcBef>
                <a:spcPts val="451"/>
              </a:spcBef>
              <a:buClr>
                <a:srgbClr val="ff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ращивание кристаллов дигидрофосфата аммония из насыщенного раствора, медленным испарением воды с использованием камней-«затравок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451"/>
              </a:spcBef>
              <a:buClr>
                <a:srgbClr val="ff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ращивание кристаллов дигидрофосфата аммония из насыщенного раствора, быстрым испарением воды с использованием кристаллов,  подвешенных на ни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451"/>
              </a:spcBef>
              <a:buClr>
                <a:srgbClr val="ff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следование зависимость растворимости  медного купороса от температуры растворения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451"/>
              </a:spcBef>
              <a:buClr>
                <a:srgbClr val="ff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хождение оптимальной температуры окружающей среды для выращивания кристаллов медного купороса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451"/>
              </a:spcBef>
              <a:buClr>
                <a:srgbClr val="ff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ращивание кристаллов медного купороса  с применением и без применения затрав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2" descr="CIMG0190.JPG"/>
          <p:cNvPicPr/>
          <p:nvPr/>
        </p:nvPicPr>
        <p:blipFill>
          <a:blip r:embed="rId1"/>
          <a:stretch/>
        </p:blipFill>
        <p:spPr>
          <a:xfrm>
            <a:off x="0" y="714240"/>
            <a:ext cx="3500280" cy="26258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пыт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2" descr="CIMG0064.JPG"/>
          <p:cNvPicPr/>
          <p:nvPr/>
        </p:nvPicPr>
        <p:blipFill>
          <a:blip r:embed="rId2"/>
          <a:stretch/>
        </p:blipFill>
        <p:spPr>
          <a:xfrm>
            <a:off x="392904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2" descr="CIMG0065.JPG"/>
          <p:cNvPicPr/>
          <p:nvPr/>
        </p:nvPicPr>
        <p:blipFill>
          <a:blip r:embed="rId3"/>
          <a:stretch/>
        </p:blipFill>
        <p:spPr>
          <a:xfrm>
            <a:off x="4000680" y="3714840"/>
            <a:ext cx="3904920" cy="29289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CIMG0068.JPG"/>
          <p:cNvPicPr/>
          <p:nvPr/>
        </p:nvPicPr>
        <p:blipFill>
          <a:blip r:embed="rId4"/>
          <a:stretch/>
        </p:blipFill>
        <p:spPr>
          <a:xfrm>
            <a:off x="0" y="30481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3" descr="CIMG0062.JPG"/>
          <p:cNvPicPr/>
          <p:nvPr/>
        </p:nvPicPr>
        <p:blipFill>
          <a:blip r:embed="rId1"/>
          <a:stretch/>
        </p:blipFill>
        <p:spPr>
          <a:xfrm>
            <a:off x="2857680" y="3643200"/>
            <a:ext cx="5429160" cy="29829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CIMG0057.JPG"/>
          <p:cNvPicPr/>
          <p:nvPr/>
        </p:nvPicPr>
        <p:blipFill>
          <a:blip r:embed="rId2"/>
          <a:stretch/>
        </p:blipFill>
        <p:spPr>
          <a:xfrm>
            <a:off x="0" y="18572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53964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езультаты первого опы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Рисунок 2" descr="CIMG0238.JPG"/>
          <p:cNvPicPr/>
          <p:nvPr/>
        </p:nvPicPr>
        <p:blipFill>
          <a:blip r:embed="rId3"/>
          <a:stretch/>
        </p:blipFill>
        <p:spPr>
          <a:xfrm>
            <a:off x="3857760" y="857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CIMG0071.JPG"/>
          <p:cNvPicPr/>
          <p:nvPr/>
        </p:nvPicPr>
        <p:blipFill>
          <a:blip r:embed="rId2"/>
          <a:stretch/>
        </p:blipFill>
        <p:spPr>
          <a:xfrm>
            <a:off x="0" y="1571760"/>
            <a:ext cx="4071960" cy="30528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CIMG0079.JPG"/>
          <p:cNvPicPr/>
          <p:nvPr/>
        </p:nvPicPr>
        <p:blipFill>
          <a:blip r:embed="rId3"/>
          <a:stretch/>
        </p:blipFill>
        <p:spPr>
          <a:xfrm>
            <a:off x="4214880" y="2786040"/>
            <a:ext cx="49291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5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IMG_1447"/>
          <p:cNvPicPr/>
          <p:nvPr/>
        </p:nvPicPr>
        <p:blipFill>
          <a:blip r:embed="rId2"/>
          <a:stretch/>
        </p:blipFill>
        <p:spPr>
          <a:xfrm>
            <a:off x="1547640" y="1268280"/>
            <a:ext cx="6480360" cy="48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MG_1451"/>
          <p:cNvPicPr/>
          <p:nvPr/>
        </p:nvPicPr>
        <p:blipFill>
          <a:blip r:embed="rId3"/>
          <a:stretch/>
        </p:blipFill>
        <p:spPr>
          <a:xfrm>
            <a:off x="1619280" y="907920"/>
            <a:ext cx="6553080" cy="536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IMG_1452"/>
          <p:cNvPicPr/>
          <p:nvPr/>
        </p:nvPicPr>
        <p:blipFill>
          <a:blip r:embed="rId4"/>
          <a:stretch/>
        </p:blipFill>
        <p:spPr>
          <a:xfrm>
            <a:off x="2195640" y="907920"/>
            <a:ext cx="489744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14"/>
          <p:cNvPicPr/>
          <p:nvPr/>
        </p:nvPicPr>
        <p:blipFill>
          <a:blip r:embed="rId5"/>
          <a:stretch/>
        </p:blipFill>
        <p:spPr>
          <a:xfrm>
            <a:off x="1547640" y="907920"/>
            <a:ext cx="669636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5" descr=""/>
          <p:cNvPicPr/>
          <p:nvPr/>
        </p:nvPicPr>
        <p:blipFill>
          <a:blip r:embed="rId1"/>
          <a:stretch/>
        </p:blipFill>
        <p:spPr>
          <a:xfrm>
            <a:off x="463680" y="-73080"/>
            <a:ext cx="824220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900000" y="1474920"/>
          <a:ext cx="7201080" cy="4971960"/>
        </p:xfrm>
        <a:graphic>
          <a:graphicData uri="http://schemas.openxmlformats.org/drawingml/2006/table">
            <a:tbl>
              <a:tblPr/>
              <a:tblGrid>
                <a:gridCol w="695520"/>
                <a:gridCol w="2287440"/>
                <a:gridCol w="4218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мпература (</a:t>
                      </a:r>
                      <a:r>
                        <a:rPr b="0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сса растворенного вещества (г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201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200"/>
          <p:cNvGraphicFramePr/>
          <p:nvPr/>
        </p:nvGraphicFramePr>
        <p:xfrm>
          <a:off x="324000" y="1303200"/>
          <a:ext cx="8569080" cy="518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Object 20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303200"/>
                    <a:ext cx="856908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202"/>
          <p:cNvSpPr/>
          <p:nvPr/>
        </p:nvSpPr>
        <p:spPr>
          <a:xfrm>
            <a:off x="0" y="48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55"/>
          <p:cNvGrpSpPr/>
          <p:nvPr/>
        </p:nvGrpSpPr>
        <p:grpSpPr>
          <a:xfrm>
            <a:off x="1187280" y="3860640"/>
            <a:ext cx="4248360" cy="1368720"/>
            <a:chOff x="1187280" y="3860640"/>
            <a:chExt cx="4248360" cy="1368720"/>
          </a:xfrm>
        </p:grpSpPr>
        <p:sp>
          <p:nvSpPr>
            <p:cNvPr id="172" name="Line 53"/>
            <p:cNvSpPr/>
            <p:nvPr/>
          </p:nvSpPr>
          <p:spPr>
            <a:xfrm>
              <a:off x="5435640" y="3860640"/>
              <a:ext cx="0" cy="1368720"/>
            </a:xfrm>
            <a:prstGeom prst="line">
              <a:avLst/>
            </a:prstGeom>
            <a:ln w="28440">
              <a:solidFill>
                <a:srgbClr val="e01d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1187280" y="3860640"/>
              <a:ext cx="4248360" cy="0"/>
            </a:xfrm>
            <a:prstGeom prst="line">
              <a:avLst/>
            </a:prstGeom>
            <a:ln w="28440">
              <a:solidFill>
                <a:srgbClr val="e01d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2407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324000" y="2055960"/>
          <a:ext cx="8820000" cy="4806720"/>
        </p:xfrm>
        <a:graphic>
          <a:graphicData uri="http://schemas.openxmlformats.org/drawingml/2006/table">
            <a:tbl>
              <a:tblPr/>
              <a:tblGrid>
                <a:gridCol w="1187280"/>
                <a:gridCol w="2505240"/>
                <a:gridCol w="2751120"/>
                <a:gridCol w="23763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тура окружающей среды, в которой находится раство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ём и температура воды, и масса соли в раствор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ившийся кристалл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стак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р. ср. = 20 °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ы = 50 м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ь = 22 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вора = 19 °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сталл вырос чуть-чуть больш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стак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р. ср. = 6 °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ы = 50 мл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ь = 2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вора = 7 °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ился небольшой поликристал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33" descr="11"/>
          <p:cNvPicPr/>
          <p:nvPr/>
        </p:nvPicPr>
        <p:blipFill>
          <a:blip r:embed="rId2"/>
          <a:stretch/>
        </p:blipFill>
        <p:spPr>
          <a:xfrm>
            <a:off x="6516720" y="111240"/>
            <a:ext cx="2376360" cy="174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5" descr="13"/>
          <p:cNvPicPr/>
          <p:nvPr/>
        </p:nvPicPr>
        <p:blipFill>
          <a:blip r:embed="rId3"/>
          <a:stretch/>
        </p:blipFill>
        <p:spPr>
          <a:xfrm>
            <a:off x="539640" y="189000"/>
            <a:ext cx="1944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2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IMG_1467"/>
          <p:cNvPicPr/>
          <p:nvPr/>
        </p:nvPicPr>
        <p:blipFill>
          <a:blip r:embed="rId2"/>
          <a:stretch/>
        </p:blipFill>
        <p:spPr>
          <a:xfrm>
            <a:off x="684360" y="1052640"/>
            <a:ext cx="4479840" cy="522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MG_1484"/>
          <p:cNvPicPr/>
          <p:nvPr/>
        </p:nvPicPr>
        <p:blipFill>
          <a:blip r:embed="rId3"/>
          <a:stretch/>
        </p:blipFill>
        <p:spPr>
          <a:xfrm>
            <a:off x="4356000" y="1052640"/>
            <a:ext cx="4788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CIMG0177"/>
          <p:cNvPicPr/>
          <p:nvPr/>
        </p:nvPicPr>
        <p:blipFill>
          <a:blip r:embed="rId1"/>
          <a:stretch/>
        </p:blipFill>
        <p:spPr>
          <a:xfrm>
            <a:off x="2214720" y="3135240"/>
            <a:ext cx="5219640" cy="3722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кристаллы медного купороса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318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8"/>
          <p:cNvPicPr/>
          <p:nvPr/>
        </p:nvPicPr>
        <p:blipFill>
          <a:blip r:embed="rId3"/>
          <a:stretch/>
        </p:blipFill>
        <p:spPr>
          <a:xfrm>
            <a:off x="0" y="0"/>
            <a:ext cx="5580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IMG0197"/>
          <p:cNvPicPr/>
          <p:nvPr/>
        </p:nvPicPr>
        <p:blipFill>
          <a:blip r:embed="rId2"/>
          <a:stretch/>
        </p:blipFill>
        <p:spPr>
          <a:xfrm>
            <a:off x="0" y="1052640"/>
            <a:ext cx="9180360" cy="4591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0" y="5661000"/>
            <a:ext cx="42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стал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гидрофосфата аммо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572000" y="5661000"/>
            <a:ext cx="42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стал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ного купоро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m-get_6Uk-1"/>
          <p:cNvPicPr/>
          <p:nvPr/>
        </p:nvPicPr>
        <p:blipFill>
          <a:blip r:embed="rId1"/>
          <a:stretch/>
        </p:blipFill>
        <p:spPr>
          <a:xfrm>
            <a:off x="324000" y="231840"/>
            <a:ext cx="3400200" cy="3316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ВИЛЛИОМИТ"/>
          <p:cNvPicPr/>
          <p:nvPr/>
        </p:nvPicPr>
        <p:blipFill>
          <a:blip r:embed="rId2"/>
          <a:stretch/>
        </p:blipFill>
        <p:spPr>
          <a:xfrm>
            <a:off x="1042920" y="3141720"/>
            <a:ext cx="2067120" cy="2432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572000" y="255240"/>
            <a:ext cx="414324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расота и блеск кристаллов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сем и каждому понятны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еглый взгляд они чаруют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рмы их уму занятны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скушённый наблюдател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зглядит их жизни тайны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по полочкам разложит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сё, что кажется случайным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колько их,  - неповторимых,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осхитительных кристаллов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ожьим промыслом рождённых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де-то были - и не стало!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160" y="915840"/>
            <a:ext cx="269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Прямоугольник 8" descr=""/>
          <p:cNvPicPr/>
          <p:nvPr/>
        </p:nvPicPr>
        <p:blipFill>
          <a:blip r:embed="rId3"/>
          <a:stretch/>
        </p:blipFill>
        <p:spPr>
          <a:xfrm>
            <a:off x="6681960" y="5705640"/>
            <a:ext cx="1888920" cy="32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-perid_Pk1"/>
          <p:cNvPicPr/>
          <p:nvPr/>
        </p:nvPicPr>
        <p:blipFill>
          <a:blip r:embed="rId4"/>
          <a:stretch/>
        </p:blipFill>
        <p:spPr>
          <a:xfrm>
            <a:off x="4716360" y="4135320"/>
            <a:ext cx="22734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учился работать с источниками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знал что такое  кристаллы, какие они могут быть, почему они растут и зачем они нужн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воил некоторые способы выращивания кристаллов разных  вещест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блюдал рост кристалла в разных условия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учился вести дневник наблю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539640" y="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53964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исталлы различных веществ имеют разную форм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форму кристаллов соли влияет температура при которой выращивали кристалл: повышение или понижение температуры раствора ускоряет образование кристаллов, увеличивается их количество, но их величина уменьшаетс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воримость вещества  возрастает с повышением температуры сильно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исталл, выращенный при медленном охлаждении, имеет более крупные гра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ни кристаллы яркого цвета, другие – бесцвет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ни растут хорошо, другие – медлен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6840" y="1599840"/>
            <a:ext cx="8472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ся с многоообразием кристаллов, вырастить кристаллы разных веществ из растворов и сравнить их свойства, определить условия для выращивания кристал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964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14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ипотеза работы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7120" indent="-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предположили, что кристаллы соли могут появляться при создании определенных условий; значит, если изменять условия кристаллизации и растворять различные вещества, то можно получать кристаллы разной формы, цвета и разме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-243000"/>
            <a:ext cx="8242560" cy="200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360" y="1052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514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литературу по данной тем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514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накомиться  и использовать необходимые меры безопасности и защиты при проведении эксперимента;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514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стить кристаллы различных веществ  из раствор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514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условия образования кристаллов, их формы, цв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514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анализировать полученные результа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тоды исследова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514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с источниками информ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514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дение эксперимен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514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блюд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514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ализ полученных результатов и соотнесение его с гипотез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M:\кристаллы\page6_files\image066.jpg"/>
          <p:cNvPicPr/>
          <p:nvPr/>
        </p:nvPicPr>
        <p:blipFill>
          <a:blip r:embed="rId1"/>
          <a:stretch/>
        </p:blipFill>
        <p:spPr>
          <a:xfrm>
            <a:off x="3500280" y="214200"/>
            <a:ext cx="2571840" cy="186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M:\кристаллы\page6_files\image038.jpg"/>
          <p:cNvPicPr/>
          <p:nvPr/>
        </p:nvPicPr>
        <p:blipFill>
          <a:blip r:embed="rId2"/>
          <a:stretch/>
        </p:blipFill>
        <p:spPr>
          <a:xfrm>
            <a:off x="6500880" y="28584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:\кристаллы\page6_files\15.jpg"/>
          <p:cNvPicPr/>
          <p:nvPr/>
        </p:nvPicPr>
        <p:blipFill>
          <a:blip r:embed="rId3"/>
          <a:stretch/>
        </p:blipFill>
        <p:spPr>
          <a:xfrm>
            <a:off x="6245280" y="2500200"/>
            <a:ext cx="289872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:\кристаллы\page6_files\921001775.jpg"/>
          <p:cNvPicPr/>
          <p:nvPr/>
        </p:nvPicPr>
        <p:blipFill>
          <a:blip r:embed="rId4"/>
          <a:stretch/>
        </p:blipFill>
        <p:spPr>
          <a:xfrm>
            <a:off x="0" y="4305240"/>
            <a:ext cx="1905120" cy="2552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:\кристаллы\page6_files\1000332895.jpg"/>
          <p:cNvPicPr/>
          <p:nvPr/>
        </p:nvPicPr>
        <p:blipFill>
          <a:blip r:embed="rId5"/>
          <a:stretch/>
        </p:blipFill>
        <p:spPr>
          <a:xfrm>
            <a:off x="2428920" y="4268880"/>
            <a:ext cx="1785960" cy="2589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M:\кристаллы\page6_files\1001462628.jpg"/>
          <p:cNvPicPr/>
          <p:nvPr/>
        </p:nvPicPr>
        <p:blipFill>
          <a:blip r:embed="rId6"/>
          <a:stretch/>
        </p:blipFill>
        <p:spPr>
          <a:xfrm>
            <a:off x="4929120" y="4294080"/>
            <a:ext cx="1643040" cy="256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M:\кристаллы\page6_files\image094-003.jpg"/>
          <p:cNvPicPr/>
          <p:nvPr/>
        </p:nvPicPr>
        <p:blipFill>
          <a:blip r:embed="rId7"/>
          <a:stretch/>
        </p:blipFill>
        <p:spPr>
          <a:xfrm>
            <a:off x="285840" y="2571840"/>
            <a:ext cx="2071440" cy="1382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8"/>
          <a:stretch/>
        </p:blipFill>
        <p:spPr>
          <a:xfrm>
            <a:off x="7429680" y="4243320"/>
            <a:ext cx="1714320" cy="2614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алмаз3"/>
          <p:cNvPicPr/>
          <p:nvPr/>
        </p:nvPicPr>
        <p:blipFill>
          <a:blip r:embed="rId9"/>
          <a:stretch/>
        </p:blipFill>
        <p:spPr>
          <a:xfrm>
            <a:off x="3357720" y="2286000"/>
            <a:ext cx="2172960" cy="1805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гранат1"/>
          <p:cNvPicPr/>
          <p:nvPr/>
        </p:nvPicPr>
        <p:blipFill>
          <a:blip r:embed="rId10"/>
          <a:stretch/>
        </p:blipFill>
        <p:spPr>
          <a:xfrm>
            <a:off x="428760" y="285840"/>
            <a:ext cx="2071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Безымянный"/>
          <p:cNvPicPr/>
          <p:nvPr/>
        </p:nvPicPr>
        <p:blipFill>
          <a:blip r:embed="rId2"/>
          <a:stretch/>
        </p:blipFill>
        <p:spPr>
          <a:xfrm>
            <a:off x="611280" y="1700280"/>
            <a:ext cx="3311280" cy="2354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друза медного купороса"/>
          <p:cNvPicPr/>
          <p:nvPr/>
        </p:nvPicPr>
        <p:blipFill>
          <a:blip r:embed="rId3"/>
          <a:stretch/>
        </p:blipFill>
        <p:spPr>
          <a:xfrm>
            <a:off x="4788000" y="162864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" descr="id16060_w190"/>
          <p:cNvPicPr/>
          <p:nvPr/>
        </p:nvPicPr>
        <p:blipFill>
          <a:blip r:embed="rId4"/>
          <a:stretch/>
        </p:blipFill>
        <p:spPr>
          <a:xfrm>
            <a:off x="684360" y="4365720"/>
            <a:ext cx="3311280" cy="2004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21"/>
          <p:cNvPicPr/>
          <p:nvPr/>
        </p:nvPicPr>
        <p:blipFill>
          <a:blip r:embed="rId5"/>
          <a:stretch/>
        </p:blipFill>
        <p:spPr>
          <a:xfrm>
            <a:off x="4859280" y="4365720"/>
            <a:ext cx="28814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Скругленный прямоугольник 6"/>
          <p:cNvGrpSpPr/>
          <p:nvPr/>
        </p:nvGrpSpPr>
        <p:grpSpPr>
          <a:xfrm>
            <a:off x="55440" y="2054160"/>
            <a:ext cx="2249640" cy="4681440"/>
            <a:chOff x="55440" y="2054160"/>
            <a:chExt cx="2249640" cy="4681440"/>
          </a:xfrm>
        </p:grpSpPr>
        <p:pic>
          <p:nvPicPr>
            <p:cNvPr id="113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5440" y="2054160"/>
              <a:ext cx="22496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79280" y="2179800"/>
              <a:ext cx="1998720" cy="44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ИОН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онные кристаллы построены из положительных и отрицательных ионов, которые удерживаются силами электростатического притяжения и отталкива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Галени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Поваренная со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Карналли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4"/>
          <p:cNvSpPr/>
          <p:nvPr/>
        </p:nvSpPr>
        <p:spPr>
          <a:xfrm>
            <a:off x="142920" y="0"/>
            <a:ext cx="85010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ТРОЕНИЕ КРИСТАЛ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висимости от элементов, которые находятся в узлах кристаллической решетки, все кристаллы делятся на 4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Скругленный прямоугольник 7"/>
          <p:cNvGrpSpPr/>
          <p:nvPr/>
        </p:nvGrpSpPr>
        <p:grpSpPr>
          <a:xfrm>
            <a:off x="2266920" y="2054160"/>
            <a:ext cx="2249640" cy="4681440"/>
            <a:chOff x="2266920" y="2054160"/>
            <a:chExt cx="2249640" cy="4681440"/>
          </a:xfrm>
        </p:grpSpPr>
        <p:pic>
          <p:nvPicPr>
            <p:cNvPr id="117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266920" y="2054160"/>
              <a:ext cx="22496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394000" y="2179800"/>
              <a:ext cx="1998720" cy="44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АТОМ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 узлах кристаллической решетки находятся атомы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овалентные связи прочны и направлены под определёнными угла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Алмаз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Квар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Сфалери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8"/>
          <p:cNvGrpSpPr/>
          <p:nvPr/>
        </p:nvGrpSpPr>
        <p:grpSpPr>
          <a:xfrm>
            <a:off x="4479840" y="2054160"/>
            <a:ext cx="2396880" cy="4681440"/>
            <a:chOff x="4479840" y="2054160"/>
            <a:chExt cx="2396880" cy="4681440"/>
          </a:xfrm>
        </p:grpSpPr>
        <p:pic>
          <p:nvPicPr>
            <p:cNvPr id="120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79840" y="2054160"/>
              <a:ext cx="239688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4616280" y="2179800"/>
              <a:ext cx="2124000" cy="44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0000"/>
                  </a:solidFill>
                  <a:latin typeface="Times New Roman"/>
                </a:rPr>
                <a:t>МОЛЕКУЛЯР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ристаллы построены из изолированных молекул, между которыми действуют сравнительно слабые силы притяжения..Такие кристаллы имеют низкую температуру плавления и кипения, твёрдость их мал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Нафталин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Водород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Азо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9"/>
          <p:cNvGrpSpPr/>
          <p:nvPr/>
        </p:nvGrpSpPr>
        <p:grpSpPr>
          <a:xfrm>
            <a:off x="6699240" y="2054160"/>
            <a:ext cx="2249640" cy="4681440"/>
            <a:chOff x="6699240" y="2054160"/>
            <a:chExt cx="2249640" cy="4681440"/>
          </a:xfrm>
        </p:grpSpPr>
        <p:pic>
          <p:nvPicPr>
            <p:cNvPr id="123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6699240" y="2054160"/>
              <a:ext cx="22496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823080" y="2179800"/>
              <a:ext cx="1998720" cy="44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МЕТАЛЛИЧЕСК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 узлах решетки – катионы, которые связаны подвижными электронами («электронным газом»)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акое строение обуславливает электропроводность, ковкость, металлический блеск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Серебр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Золото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</a:rPr>
                <a:t>Мед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" name="Picture 2" descr="kristal"/>
          <p:cNvPicPr/>
          <p:nvPr/>
        </p:nvPicPr>
        <p:blipFill>
          <a:blip r:embed="rId5"/>
          <a:stretch/>
        </p:blipFill>
        <p:spPr>
          <a:xfrm>
            <a:off x="2286000" y="4643280"/>
            <a:ext cx="2220840" cy="207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kristal"/>
          <p:cNvPicPr/>
          <p:nvPr/>
        </p:nvPicPr>
        <p:blipFill>
          <a:blip r:embed="rId6"/>
          <a:stretch/>
        </p:blipFill>
        <p:spPr>
          <a:xfrm>
            <a:off x="2286000" y="250020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kristal"/>
          <p:cNvPicPr/>
          <p:nvPr/>
        </p:nvPicPr>
        <p:blipFill>
          <a:blip r:embed="rId7"/>
          <a:stretch/>
        </p:blipFill>
        <p:spPr>
          <a:xfrm>
            <a:off x="71280" y="4643280"/>
            <a:ext cx="2214720" cy="207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8"/>
          <a:stretch/>
        </p:blipFill>
        <p:spPr>
          <a:xfrm>
            <a:off x="71280" y="2500200"/>
            <a:ext cx="2214720" cy="21621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4" descr=""/>
          <p:cNvPicPr/>
          <p:nvPr/>
        </p:nvPicPr>
        <p:blipFill>
          <a:blip r:embed="rId9"/>
          <a:stretch/>
        </p:blipFill>
        <p:spPr>
          <a:xfrm>
            <a:off x="4500720" y="4643280"/>
            <a:ext cx="2214360" cy="2071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6" descr=""/>
          <p:cNvPicPr/>
          <p:nvPr/>
        </p:nvPicPr>
        <p:blipFill>
          <a:blip r:embed="rId10"/>
          <a:stretch/>
        </p:blipFill>
        <p:spPr>
          <a:xfrm>
            <a:off x="6643800" y="4500720"/>
            <a:ext cx="2286000" cy="2214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7" descr=""/>
          <p:cNvPicPr/>
          <p:nvPr/>
        </p:nvPicPr>
        <p:blipFill>
          <a:blip r:embed="rId11"/>
          <a:stretch/>
        </p:blipFill>
        <p:spPr>
          <a:xfrm>
            <a:off x="6715080" y="250020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8" descr=""/>
          <p:cNvPicPr/>
          <p:nvPr/>
        </p:nvPicPr>
        <p:blipFill>
          <a:blip r:embed="rId12"/>
          <a:stretch/>
        </p:blipFill>
        <p:spPr>
          <a:xfrm>
            <a:off x="4500720" y="2500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lavaKTE.jpg"/>
          <p:cNvPicPr/>
          <p:nvPr/>
        </p:nvPicPr>
        <p:blipFill>
          <a:blip r:embed="rId2"/>
          <a:stretch/>
        </p:blipFill>
        <p:spPr>
          <a:xfrm>
            <a:off x="928800" y="1428840"/>
            <a:ext cx="1944720" cy="1428840"/>
          </a:xfrm>
          <a:prstGeom prst="rect">
            <a:avLst/>
          </a:prstGeom>
          <a:ln w="0">
            <a:noFill/>
          </a:ln>
        </p:spPr>
      </p:pic>
      <p:sp>
        <p:nvSpPr>
          <p:cNvPr id="135" name="Стрелка вправо 3"/>
          <p:cNvSpPr/>
          <p:nvPr/>
        </p:nvSpPr>
        <p:spPr>
          <a:xfrm>
            <a:off x="3348000" y="2143080"/>
            <a:ext cx="2081160" cy="64296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4" descr="столбчатый базальт.jpg"/>
          <p:cNvPicPr/>
          <p:nvPr/>
        </p:nvPicPr>
        <p:blipFill>
          <a:blip r:embed="rId3"/>
          <a:stretch/>
        </p:blipFill>
        <p:spPr>
          <a:xfrm>
            <a:off x="5857920" y="1428840"/>
            <a:ext cx="2286000" cy="15714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2928960" y="32828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епенное удаление воды из насыщенного раств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трелка вправо 6"/>
          <p:cNvSpPr/>
          <p:nvPr/>
        </p:nvSpPr>
        <p:spPr>
          <a:xfrm>
            <a:off x="3348000" y="4076640"/>
            <a:ext cx="2071800" cy="642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7" descr="поваренная соль.jpg"/>
          <p:cNvPicPr/>
          <p:nvPr/>
        </p:nvPicPr>
        <p:blipFill>
          <a:blip r:embed="rId4"/>
          <a:stretch/>
        </p:blipFill>
        <p:spPr>
          <a:xfrm>
            <a:off x="5857920" y="3214800"/>
            <a:ext cx="2357280" cy="14904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2987640" y="5084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денсация па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Стрелка вправо 9"/>
          <p:cNvSpPr/>
          <p:nvPr/>
        </p:nvSpPr>
        <p:spPr>
          <a:xfrm>
            <a:off x="3348000" y="5516640"/>
            <a:ext cx="2071800" cy="642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11" descr="иней.jpg"/>
          <p:cNvPicPr/>
          <p:nvPr/>
        </p:nvPicPr>
        <p:blipFill>
          <a:blip r:embed="rId5"/>
          <a:stretch/>
        </p:blipFill>
        <p:spPr>
          <a:xfrm>
            <a:off x="5857920" y="4929120"/>
            <a:ext cx="2357280" cy="15001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"/>
          <p:cNvPicPr/>
          <p:nvPr/>
        </p:nvPicPr>
        <p:blipFill>
          <a:blip r:embed="rId6"/>
          <a:stretch/>
        </p:blipFill>
        <p:spPr>
          <a:xfrm>
            <a:off x="928800" y="3214800"/>
            <a:ext cx="1944720" cy="1428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7"/>
          <a:stretch/>
        </p:blipFill>
        <p:spPr>
          <a:xfrm>
            <a:off x="928800" y="4986360"/>
            <a:ext cx="1944720" cy="1428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2786040" y="14288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хлаждение насыщенного горячего раствора  или распл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3:31:29Z</dcterms:created>
  <dc:creator>Admin</dc:creator>
  <dc:description/>
  <dc:language>en-US</dc:language>
  <cp:lastModifiedBy>user</cp:lastModifiedBy>
  <dcterms:modified xsi:type="dcterms:W3CDTF">2012-03-01T18:06:11Z</dcterms:modified>
  <cp:revision>47</cp:revision>
  <dc:subject/>
  <dc:title>КРИСТАЛЛЫ</dc:title>
</cp:coreProperties>
</file>