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9BE6-529C-4B9D-AA1B-A023FED2E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7081-1E30-4405-AF27-CA545797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97A2-10D8-49F2-94B0-FF0BA1F5C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C2C9-FCDE-4501-A2F4-2B7CEAC2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8192-A939-456B-B54D-14531A65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1B28-EF9D-452B-8513-38C59FC1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0335-8485-49DA-920A-25803DFC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D684-F6DC-4D8D-9F68-74AC886C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6801-3706-4930-AA2D-CC026E85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14C8-1C52-4440-B1E4-E55ABB07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3C71-14C3-4D0F-8195-83CDAE66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2003-560A-4CE4-B24A-0D267209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1BD2-53C2-416F-96E4-286FDA4AE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ook.kbsu.ru/theory/chapter2/neumann.html" TargetMode="Externa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book.kbsu.ru/theory/chapter6/1_6_10.html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nformatika.sch880.ru/p6aa1.html" TargetMode="External"/><Relationship Id="rId2" Type="http://schemas.openxmlformats.org/officeDocument/2006/relationships/hyperlink" Target="http://informatika.sch880.ru/p7aa1.html" TargetMode="External"/><Relationship Id="rId3" Type="http://schemas.openxmlformats.org/officeDocument/2006/relationships/hyperlink" Target="http://informatika.sch880.ru/p8aa1.html" TargetMode="External"/><Relationship Id="rId4" Type="http://schemas.openxmlformats.org/officeDocument/2006/relationships/hyperlink" Target="http://informatika.sch880.ru/p9aa1.html" TargetMode="External"/><Relationship Id="rId5" Type="http://schemas.openxmlformats.org/officeDocument/2006/relationships/hyperlink" Target="http://informatika.sch880.ru/p10aa1.html" TargetMode="External"/><Relationship Id="rId6" Type="http://schemas.openxmlformats.org/officeDocument/2006/relationships/hyperlink" Target="http://informatika.sch880.ru/p11aa1.html" TargetMode="Externa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IBM_PC/AT" TargetMode="External"/><Relationship Id="rId2" Type="http://schemas.openxmlformats.org/officeDocument/2006/relationships/hyperlink" Target="http://ru.wikipedia.org/wiki/IBM_PC" TargetMode="External"/><Relationship Id="rId3" Type="http://schemas.openxmlformats.org/officeDocument/2006/relationships/hyperlink" Target="http://ru.wikipedia.org/wiki/IBM_PC/XT" TargetMode="Externa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66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6192720" cy="4105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МОЙ КОМПЬЮТЕР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нципы работы компьют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3883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основу построения подавляющего большинства компьютеров положены следующие общие принципы, сформулированные в 1945 г. американским ученым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Джоном фон Нейман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Принцип программного управлен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з него следует, что программа состоит из набора команд, которые выполняются процессором автоматически друг за другом в определенной последователь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борка программы из памяти осуществляется с помощью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счетчика коман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Этот регистр процессор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следовательно увеличивает хранимый в нем адрес очередной команды на длину команд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 так как команды программы расположены в памяти друг за другом, то тем самым организуется выборка цепочки команд из последовательно расположенных ячеек памя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сли же нужно после выполнения команды перейти не к следующей, а к какой-то другой, используются команды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условног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безусловного переходов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которы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носят в счетчик команд номер ячейки памяти, содержащей следующую команд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Выборка команд из памяти прекращается после достижения и выполнения команды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“стоп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аким образом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цессор исполняет программу автоматически, без вмешательства челове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" dur="2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инцип однородности памят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Программы и данные хранятся в одной и той же памяти. Поэтому компьютер не различает, что хранится в данной ячейке памяти — число, текст или команда. Над командами можно выполнять такие же действия, как и над данными. Это открывает целый ряд возможностей. Например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грамма в процессе своего выполнения также может подвергаться переработке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что позволяет задавать в самой программе правила получения некоторых ее частей (так в программе организуется выполнение циклов и подпрограмм). Более того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манды одной программы могут быть получены как результаты исполнения другой программы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На этом принципе основаны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етоды </a:t>
            </a:r>
            <a:r>
              <a:rPr b="1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трансляции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— перевода текста программы с языка программирования высокого уровня на язык конкретной машины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инцип адресност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Структурно основная память состоит из перенумерованных ячеек; процессору в произвольный момент времени доступна любая ячейка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Отсюда следует возможность давать имена областям памяти, так, чтобы к запомненным в них значениям можно было впоследствии обращаться или менять их в процессе выполнения программ с использованием присвоенных им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мпьютеры, построенные на этих принципах, относятся к типу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он-неймановски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Но существуют компьютеры, принципиально отличающиеся от фон-неймановских. Для них, например, может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е выполняться принцип программного управлен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т.е. они могут работать без “счетчика команд”, указывающего текущую выполняемую команду программы. Для обращения к какой-либо переменной, хранящейся в памяти, этим компьютерам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е обязательно давать ей им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Такие компьютеры называютс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е-фон-неймановским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УСТРОЙСТВО КОМПЬЮТЕР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новные устройства компьюте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икропроцесс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память компьютера (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внутренняя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и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внешняя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устройства ввода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устройства вывода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устройства передачи и приема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истемный бло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одержит такие основный устройства ПК как системная плата с процессором и ОП, накопители на магнитных дисках, CD-ROM, блок пит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Материнская (системная) плат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основной аппаратный компонент где находятся разъемы для установки микропроцессора, оперативной памяти, кварцевый резонатор, базовая система ввода-вывода BIOS, вспомогательные микросхемы, интерфейс ввода-вывода (последовательный порт, параллельный порт, интерфейс клавиатуры, дисковый интерфейс и тд.) и ши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асть технического обеспечения, конструктивно отделенных от основного блока компьютера называют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ериферийным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устройства ввода-вывод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цессор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вляется «сердцем» компьютера и служит для обработки информации по заданной програм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еративная память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спользуется для работы операционной системы, программ и для временного хранения текущих данных. Она выполнена в виде модулей, установленных на системную плату, и может хранить информацию только при включенном пита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деоадаптер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бычно выполняется в виде платы расширения и служит для формирования изображения, которое потом выводится на монитор. Современные видеоадаптеры содержат мощный видеопроцессор и большие объемы видеопамяти, что позволяет формировать трехмерное изображение с высоким разрешением. Для недорогих компьютеров выпускаются системные платы с интегрированным видеоадаптером, и его не нужно устанавливать дополните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есткий диск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сновное устройство для храпения информации в компьютер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000" y="620640"/>
            <a:ext cx="43909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нито́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устройство, предназначенное для визуального отображения информации. Современный монитор состоит из корпуса, блока питания, плат управления и экрана. Информация (видеосигнал) для вывода на монитор поступает с компьютера посредством видеокарты, либо с другого устройства, формирующего видеосигн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932360" y="1557360"/>
            <a:ext cx="3816360" cy="298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5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635280" y="549360"/>
            <a:ext cx="50515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— одно из основных устройств ввода информации от пользователя в компьютер. Стандартная компьютерная клавиатура, также называемая клавиатурой PC/AT или AT-клавиатурой (поскольку она начала поставляться вместе с компьютерами серии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BM PC/AT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), имеет 101 или 102 клавиши. Клавиатуры, которые поставлялись вместе с предыдущими сериями —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BM PC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и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BM PC/XT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, — имели 86 клавиш. Расположение клавиш на AT-клавиатуре подчиняется единой общепринятой схеме, спроектированной в расчёте на английский алфав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 своему назначению клавиши на клавиатуре делятся на шесть групп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функциональны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лфавитно-цифровы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правления курсором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цифровая панель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пециализированны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дификатор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венадцать функциональных клавиш расположены в самом верхнем ряду клавиатуры. Ниже располагается блок алфавитно-цифровых клавиш. Правее этого блока находятся клавиши управления курсором, а с самого правого края клавиатуры — цифровая панел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39640" y="1557360"/>
            <a:ext cx="2962440" cy="33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17:11:29Z</dcterms:created>
  <dc:creator>комп</dc:creator>
  <dc:description/>
  <dc:language>en-US</dc:language>
  <cp:lastModifiedBy>комп</cp:lastModifiedBy>
  <dcterms:modified xsi:type="dcterms:W3CDTF">2011-03-03T17:57:47Z</dcterms:modified>
  <cp:revision>2</cp:revision>
  <dc:subject/>
  <dc:title>«МОЙ КОМПЬЮТЕР»</dc:title>
</cp:coreProperties>
</file>