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9FE-9D90-4906-9970-3C7211A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D2D-8E07-456F-BE1C-3C4B5E1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176-7E57-41E4-B9D0-5E8B49D6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A99-541F-4777-BB7A-5F5ADDD0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9FB-550C-4801-B027-17E18E5E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DF3-42F6-453D-8431-4902B2FC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F20-6DB8-4E9E-865A-1A683C20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3BC-4CFC-4C45-91A2-346DF96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E3A-362A-46F5-906B-71AADC7D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4ED-0F12-4F6F-81FB-C06C276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205-C7FE-480E-8455-161864F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F21-6BD5-44DB-AA50-D476F2A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579-CD77-42ED-9A18-36A590E53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Начертательная геометр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14560" y="4786200"/>
            <a:ext cx="3900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ученица 11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енко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: Кашина О. 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«Гимназия №83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Иже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5"/>
          <p:cNvPicPr/>
          <p:nvPr/>
        </p:nvPicPr>
        <p:blipFill>
          <a:blip r:embed="rId1"/>
          <a:srcRect l="0" t="0" r="52540" b="0"/>
          <a:stretch/>
        </p:blipFill>
        <p:spPr>
          <a:xfrm>
            <a:off x="285840" y="1571760"/>
            <a:ext cx="3894120" cy="50227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50920" y="2736000"/>
            <a:ext cx="4392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ями двух параллельных        прямых я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параллельные прям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8"/>
          <p:cNvPicPr/>
          <p:nvPr/>
        </p:nvPicPr>
        <p:blipFill>
          <a:blip r:embed="rId1"/>
          <a:srcRect l="8212" t="0" r="30598" b="0"/>
          <a:stretch/>
        </p:blipFill>
        <p:spPr>
          <a:xfrm>
            <a:off x="3995640" y="1339920"/>
            <a:ext cx="4965840" cy="4968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195640" y="17715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0" y="2156040"/>
            <a:ext cx="439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я между отрезками прямой равны соответствующим отношениям между их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С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|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"/>
          <p:cNvPicPr/>
          <p:nvPr/>
        </p:nvPicPr>
        <p:blipFill>
          <a:blip r:embed="rId1"/>
          <a:srcRect l="25343" t="0" r="19866" b="0"/>
          <a:stretch/>
        </p:blipFill>
        <p:spPr>
          <a:xfrm>
            <a:off x="-46080" y="907920"/>
            <a:ext cx="483408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6156360" y="148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"/>
          <p:cNvPicPr/>
          <p:nvPr/>
        </p:nvPicPr>
        <p:blipFill>
          <a:blip r:embed="rId1"/>
          <a:srcRect l="11855" t="0" r="20573" b="0"/>
          <a:stretch/>
        </p:blipFill>
        <p:spPr>
          <a:xfrm>
            <a:off x="3822840" y="765000"/>
            <a:ext cx="5319720" cy="5472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-108000" y="1411920"/>
            <a:ext cx="4932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отрезка равна длине его проекции, делённой на косинус угла наклона отрезка к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С| : |АВ| =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В| = 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: cos </a:t>
            </a:r>
            <a:r>
              <a:rPr b="1" i="1" lang="ru-RU" sz="2000" spc="-1" strike="noStrike">
                <a:solidFill>
                  <a:srgbClr val="000000"/>
                </a:solidFill>
                <a:latin typeface="GreekC_IV50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. к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| = |АС|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0509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364000" y="5157360"/>
            <a:ext cx="41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│=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α = 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 │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│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1г"/>
          <p:cNvPicPr/>
          <p:nvPr/>
        </p:nvPicPr>
        <p:blipFill>
          <a:blip r:embed="rId2"/>
          <a:srcRect l="0" t="26402" r="43346" b="4074"/>
          <a:stretch/>
        </p:blipFill>
        <p:spPr>
          <a:xfrm>
            <a:off x="3708360" y="549360"/>
            <a:ext cx="5473800" cy="47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324000" y="4676760"/>
            <a:ext cx="50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атуральная величина) является гипотенузой  прямоуголь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С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дин катет которого является проекцией этого отрезка, а второй приращением координат точек А и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11"/>
          <p:cNvPicPr/>
          <p:nvPr/>
        </p:nvPicPr>
        <p:blipFill>
          <a:blip r:embed="rId1"/>
          <a:srcRect l="15561" t="5428" r="27019" b="4566"/>
          <a:stretch/>
        </p:blipFill>
        <p:spPr>
          <a:xfrm>
            <a:off x="-15840" y="1197000"/>
            <a:ext cx="480384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етрическ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462560" y="1987920"/>
            <a:ext cx="46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хотя бы одна сторона прямого угла параллельна плоскости проекций, а вторая ей не перпендикулярна, то угол на эту плоскость проецируется в натуральную величи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804000" y="6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356000" y="4724280"/>
            <a:ext cx="4498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прямой угол проецируется ортогонально в виде прямого угла, то он имеет сторону, расположенную параллельно плоскости про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643280" y="119700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еорема о проецировании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ямого угл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145840" y="4221000"/>
            <a:ext cx="312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братная теор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afff88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мость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24000" y="479628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онный чертеж становится обратимым при добавлении дополнительной информац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ведение второй плоскости проекции или числовой отметки, указывающей расстояние от точки в пространстве до плоскости прое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4360" y="9810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приведенные чертежи называю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84360" y="1484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нные методы проецирования позволяют однозначно  решить прямую задачу – построить проекцию (чертеж)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84360" y="2565360"/>
            <a:ext cx="824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тная задача начертательной геометрии – по данному чертежу реконструировать геометрический образ – решается неоднозначно (может быть несколько или бесчисленное множество решени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84360" y="4005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этого следует, ч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картинный чертеж не обладает свойством обратим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12а"/>
          <p:cNvPicPr/>
          <p:nvPr/>
        </p:nvPicPr>
        <p:blipFill>
          <a:blip r:embed="rId1"/>
          <a:srcRect l="77361" t="22779" r="13883" b="21801"/>
          <a:stretch/>
        </p:blipFill>
        <p:spPr>
          <a:xfrm>
            <a:off x="3592440" y="836640"/>
            <a:ext cx="1411200" cy="540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2а"/>
          <p:cNvPicPr/>
          <p:nvPr/>
        </p:nvPicPr>
        <p:blipFill>
          <a:blip r:embed="rId2"/>
          <a:srcRect l="45450" t="22779" r="32222" b="21801"/>
          <a:stretch/>
        </p:blipFill>
        <p:spPr>
          <a:xfrm>
            <a:off x="179280" y="836640"/>
            <a:ext cx="355284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030560" y="619560"/>
            <a:ext cx="493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ым чертежом  называется чертеж, составленный из двух или более связанных между соб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ртогональн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ц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ображаемого геометрического об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859280" y="285264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образования: геометрический образ ортогонально проецируется минимум на две взаимно перпендикулярные плоскости проекций, которые затем соответствующим образом совмещаются с одной плос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12а"/>
          <p:cNvPicPr/>
          <p:nvPr/>
        </p:nvPicPr>
        <p:blipFill>
          <a:blip r:embed="rId3"/>
          <a:srcRect l="14347" t="22779" r="54553" b="21801"/>
          <a:stretch/>
        </p:blipFill>
        <p:spPr>
          <a:xfrm>
            <a:off x="0" y="763560"/>
            <a:ext cx="4835520" cy="5329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250920" y="59500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чертеж   называется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лексным чертеж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859280" y="5661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на К.Ч. заданы две проекции точки, можно утверждать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чка однозначно задана на К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fda"/>
            </a:gs>
            <a:gs pos="100000">
              <a:srgbClr val="cc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-181080" y="5804640"/>
            <a:ext cx="98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гда проецирование осуществляется на три взаимно перпендикулярных плоскости проекций, и тогда они все совмещаются с 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1а"/>
          <p:cNvPicPr/>
          <p:nvPr/>
        </p:nvPicPr>
        <p:blipFill>
          <a:blip r:embed="rId1"/>
          <a:srcRect l="16439" t="0" r="50096" b="40574"/>
          <a:stretch/>
        </p:blipFill>
        <p:spPr>
          <a:xfrm>
            <a:off x="28440" y="981000"/>
            <a:ext cx="4516560" cy="46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б"/>
          <p:cNvPicPr/>
          <p:nvPr/>
        </p:nvPicPr>
        <p:blipFill>
          <a:blip r:embed="rId2"/>
          <a:srcRect l="13393" t="15588" r="51304" b="11427"/>
          <a:stretch/>
        </p:blipFill>
        <p:spPr>
          <a:xfrm>
            <a:off x="60480" y="549360"/>
            <a:ext cx="4295520" cy="518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1в"/>
          <p:cNvPicPr/>
          <p:nvPr/>
        </p:nvPicPr>
        <p:blipFill>
          <a:blip r:embed="rId3"/>
          <a:srcRect l="29832" t="9337" r="30611" b="35403"/>
          <a:stretch/>
        </p:blipFill>
        <p:spPr>
          <a:xfrm>
            <a:off x="0" y="1316160"/>
            <a:ext cx="4356000" cy="3552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4788000" y="828720"/>
            <a:ext cx="435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В,С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1,2,3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 – точки в пространст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фронтальная) плоскость 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ертикальная (профильная) плоскость про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горизонтальная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фронта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офильная  проекция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,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линии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2"/>
          <p:cNvPicPr/>
          <p:nvPr/>
        </p:nvPicPr>
        <p:blipFill>
          <a:blip r:embed="rId1"/>
          <a:srcRect l="0" t="11935" r="57110" b="14992"/>
          <a:stretch/>
        </p:blipFill>
        <p:spPr>
          <a:xfrm>
            <a:off x="-252360" y="620640"/>
            <a:ext cx="3686040" cy="4537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Образование комплексного чертежа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линии</a:t>
            </a:r>
            <a:r>
              <a:rPr b="1" lang="ru-RU" sz="20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0920" y="5013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геометрический образ, сформированный последовательным перемещением точ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6165720"/>
            <a:ext cx="83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однозначно задана на комплексном чертеже, если заданы две ее про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2"/>
          <p:cNvPicPr/>
          <p:nvPr/>
        </p:nvPicPr>
        <p:blipFill>
          <a:blip r:embed="rId2"/>
          <a:srcRect l="43822" t="11935" r="26973" b="14992"/>
          <a:stretch/>
        </p:blipFill>
        <p:spPr>
          <a:xfrm>
            <a:off x="3276720" y="44280"/>
            <a:ext cx="3590640" cy="532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12"/>
          <p:cNvPicPr/>
          <p:nvPr/>
        </p:nvPicPr>
        <p:blipFill>
          <a:blip r:embed="rId3"/>
          <a:srcRect l="73958" t="11935" r="0" b="14992"/>
          <a:stretch/>
        </p:blipFill>
        <p:spPr>
          <a:xfrm>
            <a:off x="6488280" y="-27000"/>
            <a:ext cx="3268440" cy="5543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55240" y="558972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– одномерный геометрический об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50920" y="5877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лини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…   и  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b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араллельные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076720" y="198900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две прямые параллельны между собой, то их одноименные проекции тоже паралл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572800" y="4148280"/>
            <a:ext cx="3095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Рис"/>
          <p:cNvPicPr/>
          <p:nvPr/>
        </p:nvPicPr>
        <p:blipFill>
          <a:blip r:embed="rId1"/>
          <a:srcRect l="16596" t="17236" r="36149" b="3200"/>
          <a:stretch/>
        </p:blipFill>
        <p:spPr>
          <a:xfrm>
            <a:off x="0" y="692280"/>
            <a:ext cx="5905440" cy="5424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Рис"/>
          <p:cNvPicPr/>
          <p:nvPr/>
        </p:nvPicPr>
        <p:blipFill>
          <a:blip r:embed="rId2"/>
          <a:srcRect l="13417" t="9033" r="38712" b="6711"/>
          <a:stretch/>
        </p:blipFill>
        <p:spPr>
          <a:xfrm>
            <a:off x="324000" y="776160"/>
            <a:ext cx="5760720" cy="553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Рис"/>
          <p:cNvPicPr/>
          <p:nvPr/>
        </p:nvPicPr>
        <p:blipFill>
          <a:blip r:embed="rId3"/>
          <a:srcRect l="10222" t="7869" r="56576" b="0"/>
          <a:stretch/>
        </p:blipFill>
        <p:spPr>
          <a:xfrm>
            <a:off x="0" y="576360"/>
            <a:ext cx="4262400" cy="6453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d2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356000" y="620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ересекающиеся прямые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076720" y="1989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пересекаются между собой, если точки пересечения одноименных проекций прямых лежат на одной линии свя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60400" y="3965040"/>
            <a:ext cx="246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Рис"/>
          <p:cNvPicPr/>
          <p:nvPr/>
        </p:nvPicPr>
        <p:blipFill>
          <a:blip r:embed="rId1"/>
          <a:srcRect l="39029" t="32608" r="36248" b="17153"/>
          <a:stretch/>
        </p:blipFill>
        <p:spPr>
          <a:xfrm>
            <a:off x="-252360" y="765000"/>
            <a:ext cx="5794200" cy="5758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Рис"/>
          <p:cNvPicPr/>
          <p:nvPr/>
        </p:nvPicPr>
        <p:blipFill>
          <a:blip r:embed="rId2"/>
          <a:srcRect l="9755" t="10806" r="37539" b="4674"/>
          <a:stretch/>
        </p:blipFill>
        <p:spPr>
          <a:xfrm>
            <a:off x="0" y="1773360"/>
            <a:ext cx="5364000" cy="4566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Рис"/>
          <p:cNvPicPr/>
          <p:nvPr/>
        </p:nvPicPr>
        <p:blipFill>
          <a:blip r:embed="rId3"/>
          <a:srcRect l="23812" t="11679" r="17967" b="8906"/>
          <a:stretch/>
        </p:blipFill>
        <p:spPr>
          <a:xfrm>
            <a:off x="0" y="1341360"/>
            <a:ext cx="4789440" cy="46292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658b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4"/>
          <p:cNvSpPr/>
          <p:nvPr/>
        </p:nvSpPr>
        <p:spPr>
          <a:xfrm>
            <a:off x="108000" y="4221000"/>
            <a:ext cx="417672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4643280" y="4292640"/>
            <a:ext cx="4464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11280" y="2781360"/>
            <a:ext cx="4032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основные задачи Н.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684360" y="3213000"/>
            <a:ext cx="1368360" cy="8654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6948360" y="3141720"/>
            <a:ext cx="1368720" cy="865080"/>
          </a:xfrm>
          <a:custGeom>
            <a:avLst/>
            <a:gdLst>
              <a:gd name="textAreaLeft" fmla="*/ 183240 w 1368720"/>
              <a:gd name="textAreaRight" fmla="*/ 1185480 w 1368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мет «Начертательная геометрия» (Н.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8086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.Г. изучает законы отображения трехмерного пространства на  двумерную плоскость методами проекций и с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Основоположником начертательной геометрии и метода ортогонального проецирования является французский математик, геометр Гаспар Монж (1746-1818г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-36360" y="40514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изображение пространственного предмета на чертеж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859280" y="42926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 пространственного предмета по черте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00000" y="5805360"/>
            <a:ext cx="70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Построение любого изображения выполняется с помощью опер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цирования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c0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заимное расположение двух прям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211640" y="620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Скрещивающиеся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(не имеют общих точ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076720" y="170028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прямые  скрещиваются между собой, если точки пересечения их одноименных проекций лежат на разных линиях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518080" y="3356640"/>
            <a:ext cx="1250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Рис"/>
          <p:cNvPicPr/>
          <p:nvPr/>
        </p:nvPicPr>
        <p:blipFill>
          <a:blip r:embed="rId1"/>
          <a:srcRect l="41399" t="7325" r="6871" b="0"/>
          <a:stretch/>
        </p:blipFill>
        <p:spPr>
          <a:xfrm>
            <a:off x="395280" y="765000"/>
            <a:ext cx="5676840" cy="609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Рис"/>
          <p:cNvPicPr/>
          <p:nvPr/>
        </p:nvPicPr>
        <p:blipFill>
          <a:blip r:embed="rId2"/>
          <a:srcRect l="17647" t="3673" r="30127" b="0"/>
          <a:stretch/>
        </p:blipFill>
        <p:spPr>
          <a:xfrm>
            <a:off x="-108000" y="476280"/>
            <a:ext cx="5983200" cy="6610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Рис"/>
          <p:cNvPicPr/>
          <p:nvPr/>
        </p:nvPicPr>
        <p:blipFill>
          <a:blip r:embed="rId3"/>
          <a:srcRect l="22846" t="0" r="18932" b="0"/>
          <a:stretch/>
        </p:blipFill>
        <p:spPr>
          <a:xfrm>
            <a:off x="244440" y="692280"/>
            <a:ext cx="4614840" cy="561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3"/>
          <p:cNvSpPr/>
          <p:nvPr/>
        </p:nvSpPr>
        <p:spPr>
          <a:xfrm>
            <a:off x="5289120" y="4149720"/>
            <a:ext cx="31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 1 и 2, 3 и 4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146200" y="5084640"/>
            <a:ext cx="34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ирующие точк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, лежащие на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е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оложение прямых линий относительно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плоскостей прое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50920" y="119700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зависимости от своего положения относительно плоскостей проекций прямые разделяют на прямые общего положения и прямые частного 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24000" y="291312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ая обще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ямая, которая имеет углы, отличные от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дновременно со всеми тремя плоскостями проекции 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2400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, параллельные  плоскостям проекций или перпендикулярные к ним, называются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рямыми частного по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Рис"/>
          <p:cNvPicPr/>
          <p:nvPr/>
        </p:nvPicPr>
        <p:blipFill>
          <a:blip r:embed="rId1"/>
          <a:srcRect l="24342" t="7241" r="22705" b="5172"/>
          <a:stretch/>
        </p:blipFill>
        <p:spPr>
          <a:xfrm>
            <a:off x="4390920" y="1216080"/>
            <a:ext cx="4753080" cy="4589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Рис"/>
          <p:cNvPicPr/>
          <p:nvPr/>
        </p:nvPicPr>
        <p:blipFill>
          <a:blip r:embed="rId2"/>
          <a:srcRect l="27702" t="7578" r="33498" b="0"/>
          <a:stretch/>
        </p:blipFill>
        <p:spPr>
          <a:xfrm>
            <a:off x="5005440" y="1197000"/>
            <a:ext cx="3814560" cy="57610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2e2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932360" y="1125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координат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апплик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003640" y="1989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 параллельна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005440" y="2852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горизонта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Рис"/>
          <p:cNvPicPr/>
          <p:nvPr/>
        </p:nvPicPr>
        <p:blipFill>
          <a:blip r:embed="rId1"/>
          <a:srcRect l="21914" t="28453" r="47050" b="25806"/>
          <a:stretch/>
        </p:blipFill>
        <p:spPr>
          <a:xfrm>
            <a:off x="-36360" y="1628640"/>
            <a:ext cx="5113080" cy="451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Рис"/>
          <p:cNvPicPr/>
          <p:nvPr/>
        </p:nvPicPr>
        <p:blipFill>
          <a:blip r:embed="rId2"/>
          <a:srcRect l="20075" t="7122" r="48392" b="45141"/>
          <a:stretch/>
        </p:blipFill>
        <p:spPr>
          <a:xfrm>
            <a:off x="-324000" y="1557360"/>
            <a:ext cx="5256360" cy="476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Рис"/>
          <p:cNvPicPr/>
          <p:nvPr/>
        </p:nvPicPr>
        <p:blipFill>
          <a:blip r:embed="rId3"/>
          <a:srcRect l="23739" t="7706" r="38529" b="43912"/>
          <a:stretch/>
        </p:blipFill>
        <p:spPr>
          <a:xfrm>
            <a:off x="4572000" y="3429000"/>
            <a:ext cx="446400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Рис"/>
          <p:cNvPicPr/>
          <p:nvPr/>
        </p:nvPicPr>
        <p:blipFill>
          <a:blip r:embed="rId4"/>
          <a:srcRect l="21914" t="28473" r="42178" b="22764"/>
          <a:stretch/>
        </p:blipFill>
        <p:spPr>
          <a:xfrm>
            <a:off x="4645080" y="335772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Рис"/>
          <p:cNvPicPr/>
          <p:nvPr/>
        </p:nvPicPr>
        <p:blipFill>
          <a:blip r:embed="rId5"/>
          <a:srcRect l="7300" t="7325" r="0" b="12410"/>
          <a:stretch/>
        </p:blipFill>
        <p:spPr>
          <a:xfrm>
            <a:off x="4788000" y="3573360"/>
            <a:ext cx="4484520" cy="2325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84360" y="4149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Рис"/>
          <p:cNvPicPr/>
          <p:nvPr/>
        </p:nvPicPr>
        <p:blipFill>
          <a:blip r:embed="rId6"/>
          <a:srcRect l="18867" t="10369" r="44606" b="24966"/>
          <a:stretch/>
        </p:blipFill>
        <p:spPr>
          <a:xfrm>
            <a:off x="1042920" y="1052640"/>
            <a:ext cx="3065400" cy="280800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0f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24000" y="112536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все точки которой имеют одинаковую 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рдинат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24000" y="19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 параллельна фронтальной плоскости проекц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256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фронта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788000" y="4365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для всех точек прям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Рис"/>
          <p:cNvPicPr/>
          <p:nvPr/>
        </p:nvPicPr>
        <p:blipFill>
          <a:blip r:embed="rId1"/>
          <a:srcRect l="37762" t="38043" r="34295" b="25631"/>
          <a:stretch/>
        </p:blipFill>
        <p:spPr>
          <a:xfrm>
            <a:off x="3419640" y="981000"/>
            <a:ext cx="5724360" cy="528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Рис"/>
          <p:cNvPicPr/>
          <p:nvPr/>
        </p:nvPicPr>
        <p:blipFill>
          <a:blip r:embed="rId2"/>
          <a:srcRect l="36233" t="14530" r="37356" b="50861"/>
          <a:stretch/>
        </p:blipFill>
        <p:spPr>
          <a:xfrm>
            <a:off x="3635280" y="907920"/>
            <a:ext cx="5400720" cy="502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Рис"/>
          <p:cNvPicPr/>
          <p:nvPr/>
        </p:nvPicPr>
        <p:blipFill>
          <a:blip r:embed="rId3"/>
          <a:srcRect l="48526" t="10392" r="21391" b="54139"/>
          <a:stretch/>
        </p:blipFill>
        <p:spPr>
          <a:xfrm>
            <a:off x="216000" y="2971800"/>
            <a:ext cx="4572000" cy="382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Рис"/>
          <p:cNvPicPr/>
          <p:nvPr/>
        </p:nvPicPr>
        <p:blipFill>
          <a:blip r:embed="rId4"/>
          <a:srcRect l="45103" t="30972" r="23856" b="31828"/>
          <a:stretch/>
        </p:blipFill>
        <p:spPr>
          <a:xfrm>
            <a:off x="0" y="2844720"/>
            <a:ext cx="4716360" cy="401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Рис"/>
          <p:cNvPicPr/>
          <p:nvPr/>
        </p:nvPicPr>
        <p:blipFill>
          <a:blip r:embed="rId5"/>
          <a:srcRect l="38072" t="34272" r="33687" b="39781"/>
          <a:stretch/>
        </p:blipFill>
        <p:spPr>
          <a:xfrm>
            <a:off x="-252360" y="3429000"/>
            <a:ext cx="4392720" cy="2865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Рис"/>
          <p:cNvPicPr/>
          <p:nvPr/>
        </p:nvPicPr>
        <p:blipFill>
          <a:blip r:embed="rId6"/>
          <a:srcRect l="19042" t="16712" r="48150" b="13917"/>
          <a:stretch/>
        </p:blipFill>
        <p:spPr>
          <a:xfrm>
            <a:off x="5353200" y="692280"/>
            <a:ext cx="2714400" cy="37465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9e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Линии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1125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линия  – линия, все точки которой имеют одинаковую координ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абсцисс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24000" y="22971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ьная  линия  параллельна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24000" y="32925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профильную линию букв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║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24000" y="396072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оекции профильной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впадают с линией связи. Для  описания профильной линии (прямой) на комплексном чертеже необходимо вводить  профильную плоскость проекц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708360" y="5445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туральная   величина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 наклона прям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7" descr="Рис"/>
          <p:cNvPicPr/>
          <p:nvPr/>
        </p:nvPicPr>
        <p:blipFill>
          <a:blip r:embed="rId1"/>
          <a:srcRect l="50976" t="0" r="24452" b="62801"/>
          <a:stretch/>
        </p:blipFill>
        <p:spPr>
          <a:xfrm>
            <a:off x="3664080" y="576360"/>
            <a:ext cx="5265720" cy="5661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Рис"/>
          <p:cNvPicPr/>
          <p:nvPr/>
        </p:nvPicPr>
        <p:blipFill>
          <a:blip r:embed="rId2"/>
          <a:srcRect l="50040" t="39625" r="25091" b="26358"/>
          <a:stretch/>
        </p:blipFill>
        <p:spPr>
          <a:xfrm>
            <a:off x="3484440" y="981000"/>
            <a:ext cx="5561280" cy="540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Рис"/>
          <p:cNvPicPr/>
          <p:nvPr/>
        </p:nvPicPr>
        <p:blipFill>
          <a:blip r:embed="rId3"/>
          <a:srcRect l="16574" t="13523" r="53740" b="27673"/>
          <a:stretch/>
        </p:blipFill>
        <p:spPr>
          <a:xfrm>
            <a:off x="4500720" y="1268280"/>
            <a:ext cx="2968560" cy="4175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0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e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а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 flipH="1">
            <a:off x="4642560" y="1125360"/>
            <a:ext cx="43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Гориз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горизонта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716360" y="23097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изонтально-проец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параллельна фронт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фильной плоскостям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716360" y="35082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гориз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16360" y="41832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риз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71636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Рис"/>
          <p:cNvPicPr/>
          <p:nvPr/>
        </p:nvPicPr>
        <p:blipFill>
          <a:blip r:embed="rId1"/>
          <a:srcRect l="35609" t="15235" r="23856" b="30263"/>
          <a:stretch/>
        </p:blipFill>
        <p:spPr>
          <a:xfrm>
            <a:off x="34920" y="105264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Рис"/>
          <p:cNvPicPr/>
          <p:nvPr/>
        </p:nvPicPr>
        <p:blipFill>
          <a:blip r:embed="rId2"/>
          <a:srcRect l="36879" t="8215" r="43723" b="39752"/>
          <a:stretch/>
        </p:blipFill>
        <p:spPr>
          <a:xfrm>
            <a:off x="1136520" y="1341360"/>
            <a:ext cx="2570400" cy="551664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dede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280" y="260280"/>
            <a:ext cx="8893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рямые частного положения. Проецирующие пря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 flipH="1">
            <a:off x="325440" y="119700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Фронтально-проецирующая пря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линия, перпендикулярная фронтальной плоскости прое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24000" y="2276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ально-проецирующая прямая параллельна горизонтальной и профильной плоскости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33577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им фронтально-проецирующую пря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╨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24000" y="418320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ронтально-проецирующая прямая проецируется в точку (теряет одно измер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287880" y="34279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24000" y="5380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туральная велич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Рис"/>
          <p:cNvPicPr/>
          <p:nvPr/>
        </p:nvPicPr>
        <p:blipFill>
          <a:blip r:embed="rId1"/>
          <a:srcRect l="43301" t="22483" r="24765" b="32533"/>
          <a:stretch/>
        </p:blipFill>
        <p:spPr>
          <a:xfrm>
            <a:off x="4248000" y="944640"/>
            <a:ext cx="5077080" cy="507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Рис"/>
          <p:cNvPicPr/>
          <p:nvPr/>
        </p:nvPicPr>
        <p:blipFill>
          <a:blip r:embed="rId2"/>
          <a:srcRect l="78361" t="28101" r="7295" b="13013"/>
          <a:stretch/>
        </p:blipFill>
        <p:spPr>
          <a:xfrm>
            <a:off x="5940360" y="692280"/>
            <a:ext cx="1805040" cy="55162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0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38836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Линейное центра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rcRect l="13457" t="9952" r="40288" b="14336"/>
          <a:stretch/>
        </p:blipFill>
        <p:spPr>
          <a:xfrm>
            <a:off x="-757080" y="119700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4211640" y="1391760"/>
            <a:ext cx="485928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центр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плоскость проекций или картинная плоск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проецирующий л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ые  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356000" y="1197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4643280" y="458136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4643280" y="544500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167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54936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араллельное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4000" y="2017080"/>
            <a:ext cx="4464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и точек А и В на плоскость 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"/>
          <p:cNvPicPr/>
          <p:nvPr/>
        </p:nvPicPr>
        <p:blipFill>
          <a:blip r:embed="rId1"/>
          <a:srcRect l="26932" t="5949" r="35628" b="20978"/>
          <a:stretch/>
        </p:blipFill>
        <p:spPr>
          <a:xfrm>
            <a:off x="4522680" y="907920"/>
            <a:ext cx="4521240" cy="5400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39640" y="1484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11280" y="422100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11280" y="5300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закономерных отношений между   линейными размерами геометрического образа (Г.О.) и его  прое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65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ды проец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92000" y="549360"/>
            <a:ext cx="7451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ртогональное  прое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067280" y="1507320"/>
            <a:ext cx="489564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- направление проец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скость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 - точки простран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тогональные проекции точек А и В на плоскость П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3"/>
          <p:cNvPicPr/>
          <p:nvPr/>
        </p:nvPicPr>
        <p:blipFill>
          <a:blip r:embed="rId1"/>
          <a:srcRect l="6181" t="11242" r="50911" b="15715"/>
          <a:stretch/>
        </p:blipFill>
        <p:spPr>
          <a:xfrm>
            <a:off x="-28440" y="1125360"/>
            <a:ext cx="4628880" cy="482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500720" y="378936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екцией фигуры называется множество проекций всех ее т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573440" y="112536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парат прое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500720" y="479736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т определенные закономерности между геометрическим образом (Г.О.) и его ортогональной проекцией: позиционные и метрические свойства ортогонального прое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00720" y="2296080"/>
            <a:ext cx="410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ой точке проецируемого Г.О. соответствует одна точка на плоскости проек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rcRect l="53403" t="16401" r="0" b="14992"/>
          <a:stretch/>
        </p:blipFill>
        <p:spPr>
          <a:xfrm>
            <a:off x="-36360" y="1135080"/>
            <a:ext cx="5435280" cy="4900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300720" y="1555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003640" y="4724280"/>
            <a:ext cx="28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братная зависимость неоднознач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5"/>
          <p:cNvPicPr/>
          <p:nvPr/>
        </p:nvPicPr>
        <p:blipFill>
          <a:blip r:embed="rId1"/>
          <a:srcRect l="0" t="0" r="52540" b="0"/>
          <a:stretch/>
        </p:blipFill>
        <p:spPr>
          <a:xfrm>
            <a:off x="34920" y="1197000"/>
            <a:ext cx="4411800" cy="568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932360" y="2569320"/>
            <a:ext cx="40323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прямой лин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является прям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цирующая плоскость </a:t>
            </a:r>
            <a:r>
              <a:rPr b="1" lang="ru-RU" sz="2000" spc="-1" strike="noStrike">
                <a:solidFill>
                  <a:srgbClr val="000000"/>
                </a:solidFill>
                <a:latin typeface="GreekC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659640" y="1484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8360" y="2353320"/>
            <a:ext cx="3600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очка принадлежит линии, то ее проекция принадлежит проекции данной ли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АВ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С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6"/>
          <p:cNvPicPr/>
          <p:nvPr/>
        </p:nvPicPr>
        <p:blipFill>
          <a:blip r:embed="rId1"/>
          <a:srcRect l="26471" t="0" r="19665" b="0"/>
          <a:stretch/>
        </p:blipFill>
        <p:spPr>
          <a:xfrm>
            <a:off x="4052880" y="1052640"/>
            <a:ext cx="4811760" cy="5472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1909440" y="1528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новные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войства ортогонального проец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716360" y="2288160"/>
            <a:ext cx="4248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цией точки пересечения двух прямых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а пересечения проекций данных прям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Arial"/>
              </a:rPr>
              <a:t>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7"/>
          <p:cNvPicPr/>
          <p:nvPr/>
        </p:nvPicPr>
        <p:blipFill>
          <a:blip r:embed="rId1"/>
          <a:srcRect l="11855" t="0" r="33355" b="0"/>
          <a:stretch/>
        </p:blipFill>
        <p:spPr>
          <a:xfrm>
            <a:off x="19080" y="1268280"/>
            <a:ext cx="4768920" cy="5329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6516720" y="155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ipe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9:43:36Z</dcterms:created>
  <dc:creator>Маришка</dc:creator>
  <dc:description/>
  <dc:language>en-US</dc:language>
  <cp:lastModifiedBy>тима</cp:lastModifiedBy>
  <dcterms:modified xsi:type="dcterms:W3CDTF">2012-03-01T18:07:49Z</dcterms:modified>
  <cp:revision>71</cp:revision>
  <dc:subject/>
  <dc:title>Начертательная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30000000000010243000207f6000400038000</vt:lpwstr>
  </property>
</Properties>
</file>