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1981-F203-4C13-AF9D-9C547C543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C2A-39EE-401D-A49B-9F8FA0FCDC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A01-5EFA-4EF9-A6E3-D7244198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B7E-5360-4F52-AD78-D721640C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E4DEC-FF71-4E19-A1D0-E144B2E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F4F61-72E2-4808-98A8-D9B1D831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89697-BF26-4F78-9420-24BE1ACA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6CD5B-B93A-4CB6-B8CC-2E6BC89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5DC3-8FE5-44F7-AF67-622A575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BDF6-C454-40FF-95E1-9810B0F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2BD3-C1B8-4091-BB28-19C82A82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7E105-423F-4828-9F16-6F06E19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FA153-7560-4FB9-8175-8D92C0CE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ED04-49E5-4E41-A1AA-52C794C7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BC4-A85D-4E19-97C3-71061B16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3516-2DFD-4B3D-9C24-8B37664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BC77B-2DC8-47C8-9C3F-E914EA7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143D7-693E-4039-ADF5-C3FBA3D3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C93B-500D-493F-93E9-CF514966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CD69F-CAE0-4C59-A9F4-ED67A55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D2CDC-8F2F-4A9D-83EE-DFD8814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9DDE-FA45-462E-ABDF-B758E06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8F3B9-83E4-43D5-8DFE-2E7BA0F7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40A9D-E1BB-43B5-9211-D91F4CD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7D013-B866-4F0C-BE53-A0939FB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A88-B3E8-42E5-A3E4-CEF56BB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65C44-BC40-4C53-8CEC-8CF7DD99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BAA11-C371-4DE0-B98F-400626D4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CDFB4-C69F-42D0-A020-522FD9F8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4D272-97E1-4225-8FC7-AF50FD6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BEA99-D3A1-4286-B674-CE29B7E2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670F8-E895-4743-B412-9A566F5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535A0-BD39-4F6E-85F8-FAE3030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0EE8-0DB8-4BB9-9FFB-3CEA364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6AD2D-4036-4D30-A4CA-491F2A4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7BAA4-75E1-47CC-B4EE-74B3D26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EE7F-FDEF-4AC3-A7A3-069E8894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8467-3081-42F7-AA86-3375A56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DD10-BDD0-48CC-A150-63182033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DDE2A-6A63-4CE1-AAB4-6062E20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D5614-834E-4448-AA54-65572D68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1CB63-F790-4238-BA4D-0F2F7455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BDE1-AE70-4F71-B335-6CBD6B96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B63F0-A087-4588-93FB-D156539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A6DE-FF99-47D7-BE62-E33503C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34E7F-4E79-4E42-BDC5-B4446D8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99F2D-7E8D-4A17-8C78-6BEF6E9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0E0-7278-42A0-A47A-EFA35DF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E21B9-CF6F-4D53-A361-2A46612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AE05-8CDB-4A99-806A-C825AFB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B677C-4AE1-4587-A22E-3127C862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B1688-A0DA-4534-AE66-FC811C4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C63F6-9341-49DB-A80C-0C1C7DC5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0DF54-BE60-450A-AC4A-1753EE22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9EF75-E88B-49F2-B5FE-DEC8A66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561EE-5F1D-4013-9053-365B5A0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35EA7-596F-4FA9-89EE-5060C30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E4967-6733-4440-8D32-F1979C05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EE4B-D298-4F78-9F3D-FBC36626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D80CF-BEEF-4C07-A381-1223DB5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FBA77-153C-4B66-B2F9-1322C9A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2EF0F-9A00-49BA-96C0-46BCB9C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011AD-CFCA-465D-A8D1-B3C6E99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698B-1AC4-4DB5-9AE3-18ECD72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BBCC4-B33D-4E7E-81A0-5DAA106D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A8465-6900-4EDD-94C0-323330D5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7FCDA-91EA-4CF0-8871-EC111470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982E0-987A-438C-9155-40FB3E2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002C2-5441-4BCE-84BB-4DF90B8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3103-7DEC-444C-8008-C9E0FC3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7DCC4-AC33-4E4A-A03A-A611798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726E0-68CC-4131-9C2A-2AC4C85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8BABA-736C-4014-90DB-D47D87AB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D1F69-2E69-45CC-91A5-D0950F5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9BDEF-7D1C-4FD8-A0C8-C3036AA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8C6AE-2E7D-4DEC-9410-DF85D24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F0BBE-35A3-40A4-8C37-368BCAA7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979A3-4F30-4B8B-989B-A6DACFE3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E1DB6-1ECA-4803-8286-8884F947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3EF7C-AC85-416C-849F-C4146DA8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85C-D5F1-4B88-B4FB-819335CC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9E12C-5312-46F7-B544-D9B7490B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F0630-DA31-4DCB-B1A4-A6B88687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C72AB-9BFB-4F6D-AE1A-E6279B0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61ED0-16BA-4640-A43B-51480D86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1642D-E40A-4EDF-B1B6-FB2C84A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F01A4-ADB7-47A6-B5FC-2603CB3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DA0FC-69C0-444E-B247-103759A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7A658-FC32-4650-AE32-A36FB13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A5E14-A955-4D5F-AB29-9017911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56EEE-87E6-4EDE-85C3-E1B07E38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A574-E794-4D00-8448-4D8F3FB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4C700-0560-4856-840A-28310D8A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24AD77-B5E8-4CE1-91A2-51A4C75C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CD01F7-24D1-4EBC-B5E6-5F85759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1B3CA0-5090-4CF5-8804-8AF66240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D65B3B-E0FE-40A8-9EBE-708A2B8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012FF6-11C3-4481-B7C5-3583807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775CBA-C2E2-48AD-8B33-ABD22A8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E5DAE4-5500-4C26-A391-C5BE733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CFC678-C47D-45F5-AD8A-5A36FB5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FB6FB8-8E88-4693-81D1-A61FD2C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0E45-EB6F-4964-A0A8-FD9A5D9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588A61-C285-4466-A958-8F549F9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34D5C8-2027-4FD0-9CCA-FB01D21A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D49031-4D9B-4B11-8941-8344F582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A0E35-EACE-49D5-8655-BC34BB68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0BD62-498D-413B-97C3-BA6FD7C0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8BD3B-F529-498C-BC61-616A525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8D434-01A1-4B42-9AAC-85CDF38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849C9-C4E8-4A47-8C01-E0DCEFC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AC13A-F727-425E-A636-2FF7919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B4D43-EBD5-4F75-B771-D974B37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6A0-9DD3-4BC8-9DE6-5A2CFAF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850-A25E-4A15-8443-9226318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D558E-3123-4C23-BA0E-2B8F8D7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02585-D13F-424D-8E51-BA415C4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92DCF-B205-4199-86FE-ECADCDE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CC903-BE33-4A0C-8096-4A6FBEE4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20A44-2579-457C-9FD2-F0DBD4E5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381CB-8F37-4A2F-82D2-4A45682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8DF9B-7744-42C5-B85E-6578412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2AA19-6BC6-48F4-8149-2A8F9B8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DF4D3-9FDB-41AA-8623-0938894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6BBA9-E181-424E-84F3-95DA6471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08A-14B3-41A2-AE7D-42D0242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A2894-6CD4-4A5B-A9CE-48EB0593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10E55-045B-4E13-9212-51B931F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18402-72CE-4774-99E0-2DED780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CAC61-10D0-4363-BB93-5725439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6A5E7-7AA6-48E3-9D2A-4CBE9B33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B1D13-C20F-4CC5-A2D5-EE174EF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7840C-2F6F-4374-B28A-D02E6231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AFB1F-3AFB-40DC-A82F-56E142F5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D9A81-179D-466F-83AA-BD23E77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039EF-9127-4B21-B7CE-240E359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443-FE88-40EE-893D-2DAB876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28956-B0AF-4F03-8EA9-6CAC07DC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8A56B-E5BF-450A-84C1-4778CF8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C10F3-B877-486C-9B10-22D2FF46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338DF-485A-400F-850F-533E9FC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D7B53-FD58-40F0-B62D-CD5AC92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FEC74-9BA8-4D42-8175-70FD3317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24854-CDE1-410B-92C0-29BA31CC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973A1-82AE-4503-BB71-ACEAEE29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7977A-2113-4940-BD28-8309D0D9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5A341-34C3-444F-B858-4BDB5A48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E144-66D3-4BC9-AA99-16D6934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2A556-5249-429A-B4AB-D657C5B0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FBC7E-01B5-49CF-9281-2423B36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2146B-1251-4F4B-A4A5-36A2621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BD465-3DB1-40B9-B9B0-57D210B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AB908-D76A-4C1C-A262-3A36211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0CD92-ACA4-4024-9B4C-2D9DFB8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14C2C-FB7E-43BA-A7DE-BB0124B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5C563-49D8-49CA-8AE0-D884606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DAC3C-3257-4D6E-A6C6-EC2DB2A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11B21-CA08-4F1D-9320-668C973A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826-E81E-47A9-A3C5-F4A1C11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6CBD8-46C3-4456-B3A9-B494B709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4C79-F789-43BA-8068-C9ECE336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A4F1-AEFD-4F67-93A9-9B969B4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C723-4F54-4687-B560-61780BDD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3036-F9BF-4BBF-BC39-F486FBC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3D56-67D3-44E9-AEBD-C686A0B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264-BBF8-4D4E-828C-627EA44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1E85-C57B-4E96-AB1C-12B5BB97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9C6F-3842-4E8C-B5B6-CB0CB82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71D9-1BB9-4041-90EF-A5F5B7F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8A9C-32DA-491E-B900-ABC0920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8BC6-B503-473D-A55F-9CC70726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C83E-23E2-428E-AAD0-C08B8252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81D2-4379-4251-873C-C41D3938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C915-F014-4207-B7DB-6F7F806C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7F64-5B4F-4960-9807-7DE6069E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69AA-46F1-41B9-97D8-4A972B3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7C9-AED4-484E-B7F5-D455E43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CF4C-63DF-4D63-BC0C-46EC00E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04F6-875D-426A-8500-DBC91662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7915-5901-42B8-B694-960C030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8E3F-0AFE-4FBD-A185-2F20B96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FF5F-8937-487B-9BAE-F37F0B9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5212-A21D-4164-B077-6C746CD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4728-3497-4D10-8D3C-3C78DD6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1FA6-F83E-4355-8945-F2545715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C11C-1B72-4A7B-99E7-5693646D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91D6-3A82-4371-8E7D-A9E6E18C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04C-97DD-47CF-B6A0-9BEBDAE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79E2-5CF3-4DDA-B4B5-F5FFA18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E6AA-164D-4CA9-9B37-F11CD18C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D72C-5A0E-49CC-81B9-1D02ADD9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F8F5-6C9C-40BF-9530-4B93E7D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913F-0F72-458D-BA2F-2840A7F9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8167-B50C-43E5-8477-65BA5E7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CC9C-18AF-44E0-A8E2-7EEB430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7EE5-B5CB-40D2-9FEF-703796D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F6EB-1B15-4966-9691-C6521F1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94350-B073-43AC-8E65-F08AD1BD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D64-BF3E-49F8-ABB2-DFA0A695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A412-5CF5-4DD1-B331-36EABE34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6466-E368-445E-80B4-6CA44108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F690-3CF2-4963-8820-D605FD7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A954-FA3C-437E-ACC9-BD8B74C3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B3823-1CEE-411B-A00E-1502F32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CAC36-57BC-40D1-A82D-9335E9D0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36CC-2BE5-4C35-973E-D5545206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1004-F5F9-403F-B7EE-33ACCF4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238A-34F1-4CAA-ADC4-4F9391B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2AF0F-C1C7-45E8-AE3A-8FBDD80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B35-53BE-47A1-AFEE-4F9A197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F950-8BFB-46F0-B7A8-735FD2A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1313-67B2-4483-94D8-C9270946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2280-FA8B-47C8-98B6-781C66D6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2BC0-C123-4EC1-9A37-D2641007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4317-BC6E-4381-B107-9037FADE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A4077-724E-4BA0-A12E-0A3F3A5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6C1E-8F9E-4B6B-BCAD-7070A6B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A9F32-75BE-4580-9829-F97CD93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B6C5-4E75-4891-B79F-7EEC29C2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B68F7-2349-4E0A-AE53-BDA97B6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E4A-A9B3-4526-AD6C-BBB211E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69DB-5BA4-4AD1-BAE2-33244F3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613F-403C-42FE-B607-3BB256F9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BAF9-4BF8-445A-A543-8E217FB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869B-5209-4F09-8498-9285488C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AF502-B364-4079-838F-BB0A0591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3877-7089-42AE-BEA3-DF47C12C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4236-2059-4ABA-9DE2-CAB681F6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F56CA-1662-4855-8F65-9C8DC84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1698-3B31-4011-A118-9E28AA94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DCA9-C012-449D-9E56-4C4A2154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0F4-B2B6-4D7C-815C-910518F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F8C7-41FB-4B77-A081-20A65FC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5F14-A475-410F-85DF-3CB68E7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A49F-0D8E-4E43-BEBD-B902352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BC15-C285-4707-BC2E-8E6A8B4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0E0D-660F-4930-BE07-4E1EF0E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1917-AAD4-4AAA-8320-7D03AE31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B20BC-9617-46C0-9CD1-C8808D6E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CE26D-B920-4139-A64A-23C961E1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C78FC-D586-4D9A-9F3D-1321D22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010B1-CD69-49C7-9878-6D45387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46D-69A4-455E-8B84-578A59A5AD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7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7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B206-15E6-403E-82AC-B9243D1E39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C202-7BE6-4778-9D5E-71E5487D24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6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083-5A36-423C-AFE8-4A8C812A8EF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4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EF6-F989-480E-AA7D-075EBBAF8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89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89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4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95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896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9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9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9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0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01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02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03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04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05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06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07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08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0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1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1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12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1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1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15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1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17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1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19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2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21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22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23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24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2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2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27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28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2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0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1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32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3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3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6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3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3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44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4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8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1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2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53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4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5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56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5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62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964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966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67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8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9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70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1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73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4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5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76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7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79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0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81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82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84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85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6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87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88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9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0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91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2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94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5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9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999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00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0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2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5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7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00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009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010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F48C-21BF-4784-B549-3B6D3747CC2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66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B2B-6454-463E-A8A8-E093315368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55B-D320-4CCD-B2C1-B265BEC6C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6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7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7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7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7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7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18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9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1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BCC-AA07-4851-8A59-76645E7E55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6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7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8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44F-106D-480A-9F11-B2B14191D8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CDA-7453-4BF4-B6A6-3B6CA2C081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CE88-E3AB-44DD-A338-0C789A713B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7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7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7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7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7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5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5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5D2-D7D8-4238-8AA4-49DC3AB874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974-ECAA-4529-9C52-CFEFEC4EA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5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8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249-4547-4286-9AA5-4C8FBE060C1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5B7F-C2C2-4629-8A71-18E074D99A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02F-C386-4D4E-9179-DE46C83D3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B86-5D28-42C7-8D87-9C2A46D1A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9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9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9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50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1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3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31CC-9EB8-4C36-B231-9205392B37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4BC-A50C-40AF-A6E7-3B968593CB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6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2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133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ff0000"/>
                </a:solidFill>
                <a:latin typeface="Comic Sans MS"/>
              </a:rPr>
              <a:t>Портфолио классного руководителя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7" name="Picture 9" descr="j0292020"/>
          <p:cNvPicPr/>
          <p:nvPr/>
        </p:nvPicPr>
        <p:blipFill>
          <a:blip r:embed="rId1"/>
          <a:stretch/>
        </p:blipFill>
        <p:spPr>
          <a:xfrm>
            <a:off x="3733920" y="396252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казатель правонарушений среди учащихся класс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451" name="Object 5"/>
          <p:cNvGraphicFramePr/>
          <p:nvPr/>
        </p:nvGraphicFramePr>
        <p:xfrm>
          <a:off x="301680" y="1676520"/>
          <a:ext cx="850428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676520"/>
                    <a:ext cx="850428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тепень удовлетворённости учащихся воспитательными мероприятиями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(Рейтинг воспитательных мероприятий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457200" y="1600200"/>
          <a:ext cx="8229600" cy="494028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1219320"/>
                <a:gridCol w="1371600"/>
                <a:gridCol w="1371600"/>
                <a:gridCol w="1371600"/>
              </a:tblGrid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енний б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чему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очу всё 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рской 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сс Октяб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ахматный турн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5" name="Rectangle 169"/>
          <p:cNvSpPr/>
          <p:nvPr/>
        </p:nvSpPr>
        <p:spPr>
          <a:xfrm>
            <a:off x="6095880" y="2286000"/>
            <a:ext cx="106704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Rectangle 170"/>
          <p:cNvSpPr/>
          <p:nvPr/>
        </p:nvSpPr>
        <p:spPr>
          <a:xfrm>
            <a:off x="7467480" y="2971800"/>
            <a:ext cx="9907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Rectangle 171"/>
          <p:cNvSpPr/>
          <p:nvPr/>
        </p:nvSpPr>
        <p:spPr>
          <a:xfrm>
            <a:off x="6095880" y="3505320"/>
            <a:ext cx="99072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Rectangle 174"/>
          <p:cNvSpPr/>
          <p:nvPr/>
        </p:nvSpPr>
        <p:spPr>
          <a:xfrm>
            <a:off x="4724280" y="5410080"/>
            <a:ext cx="114300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Rectangle 175"/>
          <p:cNvSpPr/>
          <p:nvPr/>
        </p:nvSpPr>
        <p:spPr>
          <a:xfrm>
            <a:off x="7391520" y="4800600"/>
            <a:ext cx="121896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нализ успеваемости и качество знаний учащихся класс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1" name=""/>
          <p:cNvGraphicFramePr/>
          <p:nvPr/>
        </p:nvGraphicFramePr>
        <p:xfrm>
          <a:off x="457200" y="1523880"/>
          <a:ext cx="8229600" cy="2743200"/>
        </p:xfrm>
        <a:graphic>
          <a:graphicData uri="http://schemas.openxmlformats.org/drawingml/2006/table">
            <a:tbl>
              <a:tblPr/>
              <a:tblGrid>
                <a:gridCol w="1752480"/>
                <a:gridCol w="914400"/>
                <a:gridCol w="914400"/>
                <a:gridCol w="990720"/>
                <a:gridCol w="914400"/>
                <a:gridCol w="990720"/>
                <a:gridCol w="914400"/>
                <a:gridCol w="838080"/>
              </a:tblGrid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п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качества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2" name="Picture 76" descr="j0301076"/>
          <p:cNvPicPr/>
          <p:nvPr/>
        </p:nvPicPr>
        <p:blipFill>
          <a:blip r:embed="rId1"/>
          <a:stretch/>
        </p:blipFill>
        <p:spPr>
          <a:xfrm>
            <a:off x="335268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епень удовлетворённости родителей воспитательными мероприятиями в класс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685800" y="1981080"/>
          <a:ext cx="777240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079280"/>
                <a:gridCol w="1152720"/>
                <a:gridCol w="1150920"/>
                <a:gridCol w="1079280"/>
                <a:gridCol w="10796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звание мероприят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 бал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 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7000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частие школьников в мероприятиях класса и школы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228600" y="1600200"/>
          <a:ext cx="8153280" cy="4626000"/>
        </p:xfrm>
        <a:graphic>
          <a:graphicData uri="http://schemas.openxmlformats.org/drawingml/2006/table">
            <a:tbl>
              <a:tblPr/>
              <a:tblGrid>
                <a:gridCol w="1359000"/>
                <a:gridCol w="2527200"/>
                <a:gridCol w="1905120"/>
                <a:gridCol w="2361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милия и имя уче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епень участия школьника в мероприят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7000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4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свед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амилия, имя, отчество классного руководител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______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разование: 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пециальность: 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валификация: 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ж педагогической деятельности: 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нимаемая должность: 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ж работы в качестве классного руководителя 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0" name="Picture 4" descr="j0301252"/>
          <p:cNvPicPr/>
          <p:nvPr/>
        </p:nvPicPr>
        <p:blipFill>
          <a:blip r:embed="rId1"/>
          <a:stretch/>
        </p:blipFill>
        <p:spPr>
          <a:xfrm>
            <a:off x="2819520" y="4419720"/>
            <a:ext cx="2514600" cy="2151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амообразование классного руководител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самообразования ___________________________________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ы повышения квалификации ___________________________________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семинарах, МО классных руководителей 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остижения классного руководител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Грамоты 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лагодарности 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грады 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вания ______________________________________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35" name="Picture 4" descr="j0291984"/>
          <p:cNvPicPr/>
          <p:nvPr/>
        </p:nvPicPr>
        <p:blipFill>
          <a:blip r:embed="rId5"/>
          <a:stretch/>
        </p:blipFill>
        <p:spPr>
          <a:xfrm>
            <a:off x="5715000" y="15228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ическая рабо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астие в метод. Объединении классных руководителей 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етодические разработки на тему: 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езентации и мультимедийные разработки на тему: 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нализы проведённых мероприятий (см.приложение №1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8" name="Picture 7" descr="j0299125"/>
          <p:cNvPicPr/>
          <p:nvPr/>
        </p:nvPicPr>
        <p:blipFill>
          <a:blip r:embed="rId1"/>
          <a:stretch/>
        </p:blipFill>
        <p:spPr>
          <a:xfrm>
            <a:off x="5978520" y="1951200"/>
            <a:ext cx="1890720" cy="289368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спространение передового педагогического опыта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40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мероприятия на тему: 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 выступлений: 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кации материалов по ВР на тему: 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ценарии внеклассных мероприятий на тему (см. приложение №2)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5" descr="j0205466"/>
          <p:cNvPicPr/>
          <p:nvPr/>
        </p:nvPicPr>
        <p:blipFill>
          <a:blip r:embed="rId1"/>
          <a:stretch/>
        </p:blipFill>
        <p:spPr>
          <a:xfrm>
            <a:off x="6705720" y="2432160"/>
            <a:ext cx="2066760" cy="2625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стижения  учащихс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 участия в школьных и городских меропри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762120" y="2666880"/>
          <a:ext cx="7848360" cy="29718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ропри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ое место(1,2,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5" name="Picture 76" descr="j0297551"/>
          <p:cNvPicPr/>
          <p:nvPr/>
        </p:nvPicPr>
        <p:blipFill>
          <a:blip r:embed="rId1"/>
          <a:stretch/>
        </p:blipFill>
        <p:spPr>
          <a:xfrm>
            <a:off x="6781680" y="0"/>
            <a:ext cx="1195560" cy="1824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казатель занятости учащихся в дополнительном образовани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457200" y="1600200"/>
          <a:ext cx="8229600" cy="4854600"/>
        </p:xfrm>
        <a:graphic>
          <a:graphicData uri="http://schemas.openxmlformats.org/drawingml/2006/table">
            <a:tbl>
              <a:tblPr/>
              <a:tblGrid>
                <a:gridCol w="1828800"/>
                <a:gridCol w="838080"/>
                <a:gridCol w="838440"/>
                <a:gridCol w="914400"/>
                <a:gridCol w="990360"/>
                <a:gridCol w="838440"/>
                <a:gridCol w="952560"/>
                <a:gridCol w="102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кружка и с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ейб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кетб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ое сло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ая 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еографический круж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вая студ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7000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казатель уровня воспитанности учащихс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457200" y="1600200"/>
          <a:ext cx="8229600" cy="4830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 уровень воспитанности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л-во учащихс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уровень воспитанност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ол-во учащихс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зкий уровень воспитанност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ол-во учащихс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7000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1T14:26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