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4.gif" ContentType="image/gif"/>
  <Override PartName="/ppt/media/image32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8.gif" ContentType="image/gif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BB9-985D-4D98-AE69-6B7CFA67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AAC-867C-4585-A6A0-A5E01322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B4F-AD44-4F8B-963E-00D84132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066-B2B0-411F-85B0-13BF390B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D9E5-96C9-4FA8-8EF9-7ABE57D6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527F-B075-4F7D-BAD8-064B213B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2DEE-EC1B-4772-AD9B-BA08E18B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E0B7-681F-40F0-B75C-8AD6E117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3AB-1363-4AA9-90CA-7662CA32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58A3-8086-47B1-8B4D-36BFB33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7CCC-780B-4264-8E84-435996E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1BA-9F43-44D5-BE08-BA281EE1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06C1-B73A-4E47-9E36-64B1439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4359-D0CC-42E0-9E94-C2BACF5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B108-F31E-4C5C-8818-ACEE887F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9D2D-3170-4AB2-9E3B-B11CC968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0F9B-6FF8-42BE-B41E-56FFC08E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1FD-DD0C-4900-A590-14EF26E0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818-4F44-4A8F-8B9A-2FC3FB78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C17-7E12-4050-B9FA-1641D169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7FC-B0FD-4F12-82A1-B279D2D3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8FF-DF96-4D5E-8FAF-280E4957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D92-EC57-4C89-809E-F9AB7731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81D-E3BE-437D-AA80-B8840170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F2BD-B062-4CA6-911F-F0EB20E602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6CF1-BA44-4C22-9BAC-9EC15D35B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931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Презентация к уроку «Абиотические факторы окружающей среды»</a:t>
            </a:r>
            <a:br>
              <a:rPr sz="3200"/>
            </a:b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9640" y="3573000"/>
            <a:ext cx="46800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лена учителем биологии 1 квалификационной категории Сафьяновой Лидией Петров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«Лахденпохская средняя общеобразовательная школа № 1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803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Эрозия почв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5" name="Picture 4" descr="resBB0E846F-FC5B-4530-8D14-174648BE5DB2"/>
          <p:cNvPicPr/>
          <p:nvPr/>
        </p:nvPicPr>
        <p:blipFill>
          <a:blip r:embed="rId1"/>
          <a:stretch/>
        </p:blipFill>
        <p:spPr>
          <a:xfrm>
            <a:off x="0" y="620640"/>
            <a:ext cx="4362480" cy="19782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27160" y="285192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. 1. Основные виды эрозии поч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res8E27E0B2-C7AE-492C-BF82-DF80D8947D59"/>
          <p:cNvPicPr/>
          <p:nvPr/>
        </p:nvPicPr>
        <p:blipFill>
          <a:blip r:embed="rId2"/>
          <a:stretch/>
        </p:blipFill>
        <p:spPr>
          <a:xfrm>
            <a:off x="4568760" y="692280"/>
            <a:ext cx="4337280" cy="5545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7"/>
          <p:cNvSpPr/>
          <p:nvPr/>
        </p:nvSpPr>
        <p:spPr>
          <a:xfrm>
            <a:off x="324000" y="4149360"/>
            <a:ext cx="38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ная эрозия распространена на Земле значительно шире, чем ветровая. Приносимый ею вред более существенный (рис.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ВЛИЯНИЕ СОЛЁНОСТИ НА ОРГАНИЗМ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11" name="Picture 6" descr="рыба-7"/>
          <p:cNvPicPr/>
          <p:nvPr/>
        </p:nvPicPr>
        <p:blipFill>
          <a:blip r:embed="rId1"/>
          <a:stretch/>
        </p:blipFill>
        <p:spPr>
          <a:xfrm>
            <a:off x="250920" y="765000"/>
            <a:ext cx="3529080" cy="2240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900000" y="2997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зёрный лосос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8" descr="нерпа-11"/>
          <p:cNvPicPr/>
          <p:nvPr/>
        </p:nvPicPr>
        <p:blipFill>
          <a:blip r:embed="rId2"/>
          <a:stretch/>
        </p:blipFill>
        <p:spPr>
          <a:xfrm>
            <a:off x="4788000" y="765000"/>
            <a:ext cx="3759120" cy="22352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9"/>
          <p:cNvSpPr/>
          <p:nvPr/>
        </p:nvSpPr>
        <p:spPr>
          <a:xfrm>
            <a:off x="5867280" y="3068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дожская нер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0" descr="коралловый риф экосистема"/>
          <p:cNvPicPr/>
          <p:nvPr/>
        </p:nvPicPr>
        <p:blipFill>
          <a:blip r:embed="rId3"/>
          <a:stretch/>
        </p:blipFill>
        <p:spPr>
          <a:xfrm>
            <a:off x="826920" y="3645000"/>
            <a:ext cx="2426040" cy="2830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соляноколосники"/>
          <p:cNvPicPr/>
          <p:nvPr/>
        </p:nvPicPr>
        <p:blipFill>
          <a:blip r:embed="rId4"/>
          <a:stretch/>
        </p:blipFill>
        <p:spPr>
          <a:xfrm>
            <a:off x="5364000" y="3500280"/>
            <a:ext cx="3267360" cy="30132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2"/>
          <p:cNvSpPr/>
          <p:nvPr/>
        </p:nvSpPr>
        <p:spPr>
          <a:xfrm>
            <a:off x="5580000" y="645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ляноколосн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971640" y="645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ралловый ри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4">
            <a:hlinkClick r:id="" action="ppaction://hlinkshowjump?jump=previousslide"/>
          </p:cNvPr>
          <p:cNvSpPr/>
          <p:nvPr/>
        </p:nvSpPr>
        <p:spPr>
          <a:xfrm>
            <a:off x="0" y="6426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64" h="21600">
                <a:moveTo>
                  <a:pt x="13676" y="7493"/>
                </a:moveTo>
                <a:lnTo>
                  <a:pt x="17183" y="7493"/>
                </a:lnTo>
                <a:lnTo>
                  <a:pt x="17183" y="12828"/>
                </a:lnTo>
                <a:cubicBezTo>
                  <a:pt x="17183" y="13751"/>
                  <a:pt x="17984" y="14482"/>
                  <a:pt x="19020" y="14482"/>
                </a:cubicBezTo>
                <a:lnTo>
                  <a:pt x="20682" y="14482"/>
                </a:lnTo>
                <a:cubicBezTo>
                  <a:pt x="21718" y="14482"/>
                  <a:pt x="22518" y="13751"/>
                  <a:pt x="22518" y="12828"/>
                </a:cubicBezTo>
                <a:lnTo>
                  <a:pt x="22518" y="7493"/>
                </a:lnTo>
                <a:lnTo>
                  <a:pt x="20682" y="7493"/>
                </a:lnTo>
                <a:lnTo>
                  <a:pt x="24190" y="3985"/>
                </a:lnTo>
                <a:lnTo>
                  <a:pt x="27863" y="7493"/>
                </a:lnTo>
                <a:lnTo>
                  <a:pt x="26026" y="7493"/>
                </a:lnTo>
                <a:lnTo>
                  <a:pt x="26026" y="12828"/>
                </a:lnTo>
                <a:cubicBezTo>
                  <a:pt x="26026" y="15596"/>
                  <a:pt x="23450" y="18155"/>
                  <a:pt x="20682" y="18155"/>
                </a:cubicBezTo>
                <a:lnTo>
                  <a:pt x="19020" y="18155"/>
                </a:lnTo>
                <a:cubicBezTo>
                  <a:pt x="16252" y="18155"/>
                  <a:pt x="13676" y="15596"/>
                  <a:pt x="13676" y="12828"/>
                </a:cubicBez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вет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елиоф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елиосциф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циоф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влаг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рмоф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сихроф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влажнос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идроф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гигроф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езоф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сероф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64"/>
          <p:cNvSpPr/>
          <p:nvPr/>
        </p:nvSpPr>
        <p:spPr>
          <a:xfrm flipV="1">
            <a:off x="0" y="6595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ыполните задание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79280" y="925200"/>
            <a:ext cx="896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йте экологическое объяснение следующим факт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животные коралловые полипы, образующие рифы, живут только в тропиках, так как для них необходима температура воды не ниже + 20 граду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сь обитает в Скандинавии на 100 севернее, чем в Сибири, где средняя годовая температура выше, однако зимы более суровы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ьте схему, которая демонстрирует различные приспособления обитателей водной среды к таким её особенностям, как насыщение кислородом, показател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корость те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ясните биологическое действие ионизирующих излуч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машнее задание: Подберите материал о действии магнитного поля Земли на живые орган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 биология О.В. Саблина Г.М. Дымшиц «Рабочая тетрадь 10 – 11 классы» Просвещение 2005 год. Задание 1 стр.5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 Д.К. Беляева  «Общая биология», Просвещение 2005 год, параграф 67 стр. 24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Абиотические фактор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5" name="Picture 4" descr="абиотические факторы"/>
          <p:cNvPicPr/>
          <p:nvPr/>
        </p:nvPicPr>
        <p:blipFill>
          <a:blip r:embed="rId1"/>
          <a:stretch/>
        </p:blipFill>
        <p:spPr>
          <a:xfrm>
            <a:off x="324000" y="1197000"/>
            <a:ext cx="59767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к све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к темпера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к 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ва, как экологический фа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к солё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вет, как экологический фактор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0" name="Picture 4" descr="свет эколог фактор"/>
          <p:cNvPicPr/>
          <p:nvPr/>
        </p:nvPicPr>
        <p:blipFill>
          <a:blip r:embed="rId1"/>
          <a:stretch/>
        </p:blipFill>
        <p:spPr>
          <a:xfrm>
            <a:off x="0" y="1052640"/>
            <a:ext cx="4286160" cy="523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свет для растения"/>
          <p:cNvPicPr/>
          <p:nvPr/>
        </p:nvPicPr>
        <p:blipFill>
          <a:blip r:embed="rId2"/>
          <a:stretch/>
        </p:blipFill>
        <p:spPr>
          <a:xfrm>
            <a:off x="4356000" y="981000"/>
            <a:ext cx="4643640" cy="2260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572000" y="3223440"/>
            <a:ext cx="42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т (освещенность) представляет собой мощный стимул активности организмов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топериодизм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жизни растений (рост, цветение, опадание листвы) и животных (линька, накопление жира, миграции и размножение птиц и млекопитающих, наступление стадии покоя — диапаузы, поведенческие реакции и др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тношение растений к свету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5" name="Picture 4" descr="свет для растения"/>
          <p:cNvPicPr/>
          <p:nvPr/>
        </p:nvPicPr>
        <p:blipFill>
          <a:blip r:embed="rId1"/>
          <a:stretch/>
        </p:blipFill>
        <p:spPr>
          <a:xfrm>
            <a:off x="0" y="1125360"/>
            <a:ext cx="165888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6"/>
          <p:cNvGrpSpPr/>
          <p:nvPr/>
        </p:nvGrpSpPr>
        <p:grpSpPr>
          <a:xfrm>
            <a:off x="0" y="1052640"/>
            <a:ext cx="8531280" cy="3166920"/>
            <a:chOff x="0" y="1052640"/>
            <a:chExt cx="8531280" cy="3166920"/>
          </a:xfrm>
        </p:grpSpPr>
        <p:sp>
          <p:nvSpPr>
            <p:cNvPr id="137" name="AutoShape 7"/>
            <p:cNvSpPr/>
            <p:nvPr/>
          </p:nvSpPr>
          <p:spPr>
            <a:xfrm>
              <a:off x="0" y="1052640"/>
              <a:ext cx="853128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>
              <a:off x="5520240" y="1052640"/>
              <a:ext cx="66960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 flipH="1">
              <a:off x="2509200" y="1052640"/>
              <a:ext cx="66960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349520" y="1052640"/>
              <a:ext cx="720" cy="8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1754640" y="1932120"/>
              <a:ext cx="1337760" cy="153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1672920" y="1932120"/>
              <a:ext cx="1672920" cy="21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линноволновые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Молодил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Бел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Хлебные злаки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3679920" y="1932120"/>
              <a:ext cx="1504800" cy="21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3679920" y="1932120"/>
              <a:ext cx="1672920" cy="21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ротковолновые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аба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ос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нопл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5687280" y="1932120"/>
              <a:ext cx="1672920" cy="21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687280" y="1932120"/>
              <a:ext cx="1672920" cy="21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Нейтральные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Гречих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Горо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онник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Люцер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дуванчи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17"/>
          <p:cNvSpPr/>
          <p:nvPr/>
        </p:nvSpPr>
        <p:spPr>
          <a:xfrm>
            <a:off x="2411280" y="7246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акция растений на длину д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9" descr="растения и озон"/>
          <p:cNvPicPr/>
          <p:nvPr/>
        </p:nvPicPr>
        <p:blipFill>
          <a:blip r:embed="rId2"/>
          <a:stretch/>
        </p:blipFill>
        <p:spPr>
          <a:xfrm>
            <a:off x="7302600" y="1125360"/>
            <a:ext cx="1841400" cy="245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страусник"/>
          <p:cNvPicPr/>
          <p:nvPr/>
        </p:nvPicPr>
        <p:blipFill>
          <a:blip r:embed="rId3"/>
          <a:stretch/>
        </p:blipFill>
        <p:spPr>
          <a:xfrm>
            <a:off x="0" y="4005360"/>
            <a:ext cx="1770120" cy="2349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печёночница благородная"/>
          <p:cNvPicPr/>
          <p:nvPr/>
        </p:nvPicPr>
        <p:blipFill>
          <a:blip r:embed="rId4"/>
          <a:stretch/>
        </p:blipFill>
        <p:spPr>
          <a:xfrm>
            <a:off x="2050920" y="4076640"/>
            <a:ext cx="1785960" cy="237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сныть и иван-чай"/>
          <p:cNvPicPr/>
          <p:nvPr/>
        </p:nvPicPr>
        <p:blipFill>
          <a:blip r:embed="rId5"/>
          <a:stretch/>
        </p:blipFill>
        <p:spPr>
          <a:xfrm>
            <a:off x="6588000" y="4275000"/>
            <a:ext cx="2413080" cy="180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земляника"/>
          <p:cNvPicPr/>
          <p:nvPr/>
        </p:nvPicPr>
        <p:blipFill>
          <a:blip r:embed="rId6"/>
          <a:stretch/>
        </p:blipFill>
        <p:spPr>
          <a:xfrm>
            <a:off x="3995640" y="4292640"/>
            <a:ext cx="2449440" cy="1836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4"/>
          <p:cNvSpPr/>
          <p:nvPr/>
        </p:nvSpPr>
        <p:spPr>
          <a:xfrm>
            <a:off x="468360" y="6453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невыносливые 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5219640" y="6237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толюбивые 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7"/>
          <p:cNvSpPr/>
          <p:nvPr/>
        </p:nvSpPr>
        <p:spPr>
          <a:xfrm>
            <a:off x="838836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61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лияние температур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8" name="Picture 4" descr="влиян темпер"/>
          <p:cNvPicPr/>
          <p:nvPr/>
        </p:nvPicPr>
        <p:blipFill>
          <a:blip r:embed="rId1"/>
          <a:stretch/>
        </p:blipFill>
        <p:spPr>
          <a:xfrm>
            <a:off x="179280" y="836640"/>
            <a:ext cx="3889440" cy="35672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324000" y="4508640"/>
            <a:ext cx="83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личают организмы с непостоянной температурой тела - пойкилотермные (от греч. poikilos - различный, переменчивый и therme - тепло) и организмы с постоянной температурой тела - гомойотермные (от греч. homoios - подобный и therme - тепло). Температура тела пойкилотермных организмов зависит от температуры окружающей среды. Ее повышение вызывает у них интенсификацию жизненных процессов и, в известных пределах, ускорение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" descr="пустыня8"/>
          <p:cNvPicPr/>
          <p:nvPr/>
        </p:nvPicPr>
        <p:blipFill>
          <a:blip r:embed="rId2"/>
          <a:stretch/>
        </p:blipFill>
        <p:spPr>
          <a:xfrm>
            <a:off x="4140360" y="2924280"/>
            <a:ext cx="2412720" cy="160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степь"/>
          <p:cNvPicPr/>
          <p:nvPr/>
        </p:nvPicPr>
        <p:blipFill>
          <a:blip r:embed="rId3"/>
          <a:stretch/>
        </p:blipFill>
        <p:spPr>
          <a:xfrm>
            <a:off x="6516720" y="907920"/>
            <a:ext cx="262728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геккон"/>
          <p:cNvPicPr/>
          <p:nvPr/>
        </p:nvPicPr>
        <p:blipFill>
          <a:blip r:embed="rId4"/>
          <a:stretch/>
        </p:blipFill>
        <p:spPr>
          <a:xfrm>
            <a:off x="6804000" y="2781360"/>
            <a:ext cx="2160720" cy="1609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песчанки"/>
          <p:cNvPicPr/>
          <p:nvPr/>
        </p:nvPicPr>
        <p:blipFill>
          <a:blip r:embed="rId5"/>
          <a:stretch/>
        </p:blipFill>
        <p:spPr>
          <a:xfrm>
            <a:off x="4140360" y="1125360"/>
            <a:ext cx="2376360" cy="1451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4"/>
          <p:cNvSpPr/>
          <p:nvPr/>
        </p:nvSpPr>
        <p:spPr>
          <a:xfrm>
            <a:off x="4859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сч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7308720" y="429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кк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7493"/>
                </a:moveTo>
                <a:lnTo>
                  <a:pt x="12812" y="7493"/>
                </a:lnTo>
                <a:lnTo>
                  <a:pt x="12812" y="12828"/>
                </a:lnTo>
                <a:cubicBezTo>
                  <a:pt x="12812" y="13751"/>
                  <a:pt x="13612" y="14482"/>
                  <a:pt x="14648" y="14482"/>
                </a:cubicBezTo>
                <a:lnTo>
                  <a:pt x="16310" y="14482"/>
                </a:lnTo>
                <a:cubicBezTo>
                  <a:pt x="17346" y="14482"/>
                  <a:pt x="18147" y="13751"/>
                  <a:pt x="18147" y="12828"/>
                </a:cubicBezTo>
                <a:lnTo>
                  <a:pt x="18147" y="7493"/>
                </a:lnTo>
                <a:lnTo>
                  <a:pt x="16310" y="7493"/>
                </a:lnTo>
                <a:lnTo>
                  <a:pt x="19818" y="3985"/>
                </a:lnTo>
                <a:lnTo>
                  <a:pt x="23491" y="7493"/>
                </a:lnTo>
                <a:lnTo>
                  <a:pt x="21654" y="7493"/>
                </a:lnTo>
                <a:lnTo>
                  <a:pt x="21654" y="12828"/>
                </a:lnTo>
                <a:cubicBezTo>
                  <a:pt x="21654" y="15596"/>
                  <a:pt x="19078" y="18155"/>
                  <a:pt x="16310" y="18155"/>
                </a:cubicBezTo>
                <a:lnTo>
                  <a:pt x="14648" y="18155"/>
                </a:lnTo>
                <a:cubicBezTo>
                  <a:pt x="11880" y="18155"/>
                  <a:pt x="9304" y="15596"/>
                  <a:pt x="9304" y="12828"/>
                </a:cubicBez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Влияние температуры на жизнь животных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0" name="Picture 4" descr="тритон-8"/>
          <p:cNvPicPr/>
          <p:nvPr/>
        </p:nvPicPr>
        <p:blipFill>
          <a:blip r:embed="rId1"/>
          <a:stretch/>
        </p:blipFill>
        <p:spPr>
          <a:xfrm>
            <a:off x="179280" y="1125360"/>
            <a:ext cx="2808360" cy="23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бобр-12"/>
          <p:cNvPicPr/>
          <p:nvPr/>
        </p:nvPicPr>
        <p:blipFill>
          <a:blip r:embed="rId2"/>
          <a:stretch/>
        </p:blipFill>
        <p:spPr>
          <a:xfrm>
            <a:off x="179280" y="4076640"/>
            <a:ext cx="3484800" cy="2176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лет"/>
          <p:cNvPicPr/>
          <p:nvPr/>
        </p:nvPicPr>
        <p:blipFill>
          <a:blip r:embed="rId3"/>
          <a:stretch/>
        </p:blipFill>
        <p:spPr>
          <a:xfrm>
            <a:off x="3780000" y="4094280"/>
            <a:ext cx="2808000" cy="2155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Frog_57"/>
          <p:cNvPicPr/>
          <p:nvPr/>
        </p:nvPicPr>
        <p:blipFill>
          <a:blip r:embed="rId4"/>
          <a:stretch/>
        </p:blipFill>
        <p:spPr>
          <a:xfrm>
            <a:off x="3252960" y="1341360"/>
            <a:ext cx="153972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Rept10"/>
          <p:cNvPicPr/>
          <p:nvPr/>
        </p:nvPicPr>
        <p:blipFill>
          <a:blip r:embed="rId5"/>
          <a:stretch/>
        </p:blipFill>
        <p:spPr>
          <a:xfrm>
            <a:off x="7164360" y="765000"/>
            <a:ext cx="1766880" cy="244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3203640" y="3645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йкилотермные живо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3348000" y="5950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мойотермные живо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4" descr="утка-9"/>
          <p:cNvPicPr/>
          <p:nvPr/>
        </p:nvPicPr>
        <p:blipFill>
          <a:blip r:embed="rId6"/>
          <a:stretch/>
        </p:blipFill>
        <p:spPr>
          <a:xfrm>
            <a:off x="6732720" y="4149720"/>
            <a:ext cx="2266920" cy="2157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черепаха"/>
          <p:cNvPicPr/>
          <p:nvPr/>
        </p:nvPicPr>
        <p:blipFill>
          <a:blip r:embed="rId7"/>
          <a:stretch/>
        </p:blipFill>
        <p:spPr>
          <a:xfrm>
            <a:off x="4932360" y="1341360"/>
            <a:ext cx="2160720" cy="18306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8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792360" cy="289080"/>
          </a:xfrm>
          <a:custGeom>
            <a:avLst/>
            <a:gdLst>
              <a:gd name="textAreaLeft" fmla="*/ 18720 w 792360"/>
              <a:gd name="textAreaRight" fmla="*/ 773640 w 79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58" h="21600">
                <a:moveTo>
                  <a:pt x="0" y="0"/>
                </a:moveTo>
                <a:lnTo>
                  <a:pt x="59158" y="0"/>
                </a:lnTo>
                <a:lnTo>
                  <a:pt x="59158" y="21600"/>
                </a:lnTo>
                <a:lnTo>
                  <a:pt x="0" y="21600"/>
                </a:lnTo>
                <a:close/>
              </a:path>
              <a:path fill="lightenLess" w="59158" h="21600">
                <a:moveTo>
                  <a:pt x="0" y="0"/>
                </a:moveTo>
                <a:lnTo>
                  <a:pt x="59158" y="0"/>
                </a:lnTo>
                <a:lnTo>
                  <a:pt x="57758" y="1400"/>
                </a:lnTo>
                <a:lnTo>
                  <a:pt x="1400" y="1400"/>
                </a:lnTo>
                <a:close/>
              </a:path>
              <a:path fill="darken" w="59158" h="21600">
                <a:moveTo>
                  <a:pt x="59158" y="0"/>
                </a:moveTo>
                <a:lnTo>
                  <a:pt x="59158" y="21600"/>
                </a:lnTo>
                <a:lnTo>
                  <a:pt x="57758" y="20200"/>
                </a:lnTo>
                <a:lnTo>
                  <a:pt x="57758" y="1400"/>
                </a:lnTo>
                <a:close/>
              </a:path>
              <a:path fill="darkenLess" w="59158" h="21600">
                <a:moveTo>
                  <a:pt x="59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58" y="20200"/>
                </a:lnTo>
                <a:close/>
              </a:path>
              <a:path fill="lighten" w="59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58" h="21600">
                <a:moveTo>
                  <a:pt x="22573" y="7493"/>
                </a:moveTo>
                <a:lnTo>
                  <a:pt x="26080" y="7493"/>
                </a:lnTo>
                <a:lnTo>
                  <a:pt x="26080" y="12828"/>
                </a:lnTo>
                <a:cubicBezTo>
                  <a:pt x="26080" y="13751"/>
                  <a:pt x="26881" y="14482"/>
                  <a:pt x="27917" y="14482"/>
                </a:cubicBezTo>
                <a:lnTo>
                  <a:pt x="29579" y="14482"/>
                </a:lnTo>
                <a:cubicBezTo>
                  <a:pt x="30615" y="14482"/>
                  <a:pt x="31416" y="13751"/>
                  <a:pt x="31416" y="12828"/>
                </a:cubicBezTo>
                <a:lnTo>
                  <a:pt x="31416" y="7493"/>
                </a:lnTo>
                <a:lnTo>
                  <a:pt x="29579" y="7493"/>
                </a:lnTo>
                <a:lnTo>
                  <a:pt x="33087" y="3985"/>
                </a:lnTo>
                <a:lnTo>
                  <a:pt x="36760" y="7493"/>
                </a:lnTo>
                <a:lnTo>
                  <a:pt x="34923" y="7493"/>
                </a:lnTo>
                <a:lnTo>
                  <a:pt x="34923" y="12828"/>
                </a:lnTo>
                <a:cubicBezTo>
                  <a:pt x="34923" y="15596"/>
                  <a:pt x="32347" y="18155"/>
                  <a:pt x="29579" y="18155"/>
                </a:cubicBezTo>
                <a:lnTo>
                  <a:pt x="27917" y="18155"/>
                </a:lnTo>
                <a:cubicBezTo>
                  <a:pt x="25149" y="18155"/>
                  <a:pt x="22573" y="15596"/>
                  <a:pt x="22573" y="12828"/>
                </a:cubicBez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Отношение растений и животных к воде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2" name="Picture 4" descr="водные кувшинки"/>
          <p:cNvPicPr/>
          <p:nvPr/>
        </p:nvPicPr>
        <p:blipFill>
          <a:blip r:embed="rId1"/>
          <a:stretch/>
        </p:blipFill>
        <p:spPr>
          <a:xfrm>
            <a:off x="395280" y="62064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635280" y="728640"/>
            <a:ext cx="55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да играет исключительно важную роль в жизнедеятельности клетки и организма в целом. Поддержание количества воды на достаточном уровне составляет одну из основных физиологических функций любого организм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635280" y="222228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организмов в процессе эволюции сформировались различные приспособления к добыванию и экономному расходованию влаг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7" descr="пустыня3"/>
          <p:cNvPicPr/>
          <p:nvPr/>
        </p:nvPicPr>
        <p:blipFill>
          <a:blip r:embed="rId2"/>
          <a:stretch/>
        </p:blipFill>
        <p:spPr>
          <a:xfrm>
            <a:off x="324000" y="3068640"/>
            <a:ext cx="2952720" cy="19843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539640" y="278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дные 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50920" y="494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ения пусты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k4"/>
          <p:cNvPicPr/>
          <p:nvPr/>
        </p:nvPicPr>
        <p:blipFill>
          <a:blip r:embed="rId3"/>
          <a:stretch/>
        </p:blipFill>
        <p:spPr>
          <a:xfrm>
            <a:off x="0" y="5578560"/>
            <a:ext cx="984240" cy="1279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тушканчик"/>
          <p:cNvPicPr/>
          <p:nvPr/>
        </p:nvPicPr>
        <p:blipFill>
          <a:blip r:embed="rId4"/>
          <a:stretch/>
        </p:blipFill>
        <p:spPr>
          <a:xfrm>
            <a:off x="3635280" y="3213000"/>
            <a:ext cx="2592360" cy="1737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животное пустыни"/>
          <p:cNvPicPr/>
          <p:nvPr/>
        </p:nvPicPr>
        <p:blipFill>
          <a:blip r:embed="rId5"/>
          <a:stretch/>
        </p:blipFill>
        <p:spPr>
          <a:xfrm>
            <a:off x="6299280" y="3284640"/>
            <a:ext cx="2844720" cy="331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тропический лес"/>
          <p:cNvPicPr/>
          <p:nvPr/>
        </p:nvPicPr>
        <p:blipFill>
          <a:blip r:embed="rId6"/>
          <a:stretch/>
        </p:blipFill>
        <p:spPr>
          <a:xfrm>
            <a:off x="2195640" y="5097600"/>
            <a:ext cx="1760400" cy="17604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9"/>
          <p:cNvSpPr/>
          <p:nvPr/>
        </p:nvSpPr>
        <p:spPr>
          <a:xfrm>
            <a:off x="694836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рблю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067280" y="4941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шк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4">
            <a:hlinkClick r:id="" action="ppaction://hlinkshowjump?jump=previousslide"/>
          </p:cNvPr>
          <p:cNvSpPr/>
          <p:nvPr/>
        </p:nvSpPr>
        <p:spPr>
          <a:xfrm>
            <a:off x="8244000" y="6497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7493"/>
                </a:moveTo>
                <a:lnTo>
                  <a:pt x="13757" y="7493"/>
                </a:lnTo>
                <a:lnTo>
                  <a:pt x="13757" y="12828"/>
                </a:lnTo>
                <a:cubicBezTo>
                  <a:pt x="13757" y="13751"/>
                  <a:pt x="14558" y="14482"/>
                  <a:pt x="15594" y="14482"/>
                </a:cubicBezTo>
                <a:lnTo>
                  <a:pt x="17256" y="14482"/>
                </a:lnTo>
                <a:cubicBezTo>
                  <a:pt x="18292" y="14482"/>
                  <a:pt x="19093" y="13751"/>
                  <a:pt x="19093" y="12828"/>
                </a:cubicBezTo>
                <a:lnTo>
                  <a:pt x="19093" y="7493"/>
                </a:lnTo>
                <a:lnTo>
                  <a:pt x="17256" y="7493"/>
                </a:lnTo>
                <a:lnTo>
                  <a:pt x="20764" y="3985"/>
                </a:lnTo>
                <a:lnTo>
                  <a:pt x="24437" y="7493"/>
                </a:lnTo>
                <a:lnTo>
                  <a:pt x="22600" y="7493"/>
                </a:lnTo>
                <a:lnTo>
                  <a:pt x="22600" y="12828"/>
                </a:lnTo>
                <a:cubicBezTo>
                  <a:pt x="22600" y="15596"/>
                  <a:pt x="20024" y="18155"/>
                  <a:pt x="17256" y="18155"/>
                </a:cubicBezTo>
                <a:lnTo>
                  <a:pt x="15594" y="18155"/>
                </a:lnTo>
                <a:cubicBezTo>
                  <a:pt x="12826" y="18155"/>
                  <a:pt x="10250" y="15596"/>
                  <a:pt x="10250" y="12828"/>
                </a:cubicBez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фьянова Л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Почва, как экологический фактор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79280" y="7092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ва 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слой вещества, лежащий поверх горных пород земной коры, особое природное образование, играющее очень важную роль в наземных экосистем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12010303"/>
          <p:cNvPicPr/>
          <p:nvPr/>
        </p:nvPicPr>
        <p:blipFill>
          <a:blip r:embed="rId1"/>
          <a:stretch/>
        </p:blipFill>
        <p:spPr>
          <a:xfrm>
            <a:off x="250920" y="1557360"/>
            <a:ext cx="3889440" cy="388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12010301"/>
          <p:cNvPicPr/>
          <p:nvPr/>
        </p:nvPicPr>
        <p:blipFill>
          <a:blip r:embed="rId2"/>
          <a:stretch/>
        </p:blipFill>
        <p:spPr>
          <a:xfrm>
            <a:off x="4427640" y="1628640"/>
            <a:ext cx="4537080" cy="37832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4718160" y="573336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угольная диаграмма классов поч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826920" y="5733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ва и её обитат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824400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7493"/>
                </a:moveTo>
                <a:lnTo>
                  <a:pt x="13757" y="7493"/>
                </a:lnTo>
                <a:lnTo>
                  <a:pt x="13757" y="12828"/>
                </a:lnTo>
                <a:cubicBezTo>
                  <a:pt x="13757" y="13751"/>
                  <a:pt x="14558" y="14482"/>
                  <a:pt x="15594" y="14482"/>
                </a:cubicBezTo>
                <a:lnTo>
                  <a:pt x="17256" y="14482"/>
                </a:lnTo>
                <a:cubicBezTo>
                  <a:pt x="18292" y="14482"/>
                  <a:pt x="19093" y="13751"/>
                  <a:pt x="19093" y="12828"/>
                </a:cubicBezTo>
                <a:lnTo>
                  <a:pt x="19093" y="7493"/>
                </a:lnTo>
                <a:lnTo>
                  <a:pt x="17256" y="7493"/>
                </a:lnTo>
                <a:lnTo>
                  <a:pt x="20764" y="3985"/>
                </a:lnTo>
                <a:lnTo>
                  <a:pt x="24437" y="7493"/>
                </a:lnTo>
                <a:lnTo>
                  <a:pt x="22600" y="7493"/>
                </a:lnTo>
                <a:lnTo>
                  <a:pt x="22600" y="12828"/>
                </a:lnTo>
                <a:cubicBezTo>
                  <a:pt x="22600" y="15596"/>
                  <a:pt x="20024" y="18155"/>
                  <a:pt x="17256" y="18155"/>
                </a:cubicBezTo>
                <a:lnTo>
                  <a:pt x="15594" y="18155"/>
                </a:lnTo>
                <a:cubicBezTo>
                  <a:pt x="12826" y="18155"/>
                  <a:pt x="10250" y="15596"/>
                  <a:pt x="10250" y="12828"/>
                </a:cubicBez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3:06:36Z</dcterms:created>
  <dc:creator>Лидия Петровна</dc:creator>
  <dc:description/>
  <dc:language>en-US</dc:language>
  <cp:lastModifiedBy>Лидия</cp:lastModifiedBy>
  <dcterms:modified xsi:type="dcterms:W3CDTF">2012-02-29T22:09:23Z</dcterms:modified>
  <cp:revision>36</cp:revision>
  <dc:subject/>
  <dc:title>Презентация к уроку «Абиотические факторы окружающей среды» </dc:title>
</cp:coreProperties>
</file>