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DA37-25C5-43CE-B7BB-623310BE3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898E-72CB-466D-B58C-EF66BB6F7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9296-C65D-415D-B2B4-4E619D46B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F3F0-CC49-4D88-9D62-050AD26FA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25F8B-D262-45AE-9720-34443926D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E5B3C-B35C-45EA-AD13-0C84A4784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A3934-5860-4A7F-A862-A48242860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AD6E4-A53E-4BE9-91B3-8A7E136FA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16A16-4242-48D6-9D04-A5563EC3C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77BA1-17A3-4F1E-8634-3B70D2241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5E598-137F-48FB-90DA-2EA6A945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4CFB-C70B-4F32-AE46-DA0CB2D02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B5579-199A-46A3-8F0A-0CC44894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D60B6-8684-4D39-AFE1-74BBEFD3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0FBB8-9AC8-4FBC-97F5-FCF05B170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F67E2-6CC6-4659-9E39-A394E6BCC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2C4CC-75F8-49D5-BFF6-A432333E3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5434-657B-4567-9B42-14BD8DD6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5A6F-2E64-4879-AFC8-6B38A3A89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D554-0D54-431C-B4E3-2E90DEC98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03B0-D8CE-4273-ABA7-B6DA900B2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F0A7-2A45-44C7-85F2-F91639C1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709B-87B5-4E57-8ECC-E769AA95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F032-12B9-4617-8AA6-470A89DF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2a6066">
                  <a:alpha val="45098"/>
                </a:srgbClr>
              </a:gs>
              <a:gs pos="100000">
                <a:srgbClr val="a52fa9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d2c80">
                  <a:alpha val="45098"/>
                </a:srgbClr>
              </a:gs>
              <a:gs pos="100000">
                <a:srgbClr val="2e7a8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04da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465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405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4052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405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A350C-6555-46FD-AB9E-27F968164BBB}" type="slidenum">
              <a:rPr b="0" lang="ru-RU" sz="1200" spc="-1" strike="noStrike">
                <a:solidFill>
                  <a:srgbClr val="3f405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2a6066">
                  <a:alpha val="45098"/>
                </a:srgbClr>
              </a:gs>
              <a:gs pos="100000">
                <a:srgbClr val="a52fa9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d2c80">
                  <a:alpha val="45098"/>
                </a:srgbClr>
              </a:gs>
              <a:gs pos="100000">
                <a:srgbClr val="2e7a8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04da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465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405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4052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405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68291-F32E-4938-AC91-CB569008C39D}" type="slidenum">
              <a:rPr b="0" lang="ru-RU" sz="1200" spc="-1" strike="noStrike">
                <a:solidFill>
                  <a:srgbClr val="3f405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5" descr=""/>
          <p:cNvPicPr/>
          <p:nvPr/>
        </p:nvPicPr>
        <p:blipFill>
          <a:blip r:embed="rId1"/>
          <a:stretch/>
        </p:blipFill>
        <p:spPr>
          <a:xfrm>
            <a:off x="444600" y="957240"/>
            <a:ext cx="8334360" cy="555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Заголовок 5" descr=""/>
          <p:cNvPicPr/>
          <p:nvPr/>
        </p:nvPicPr>
        <p:blipFill>
          <a:blip r:embed="rId1"/>
          <a:stretch/>
        </p:blipFill>
        <p:spPr>
          <a:xfrm>
            <a:off x="444600" y="219240"/>
            <a:ext cx="8254800" cy="866520"/>
          </a:xfrm>
          <a:prstGeom prst="rect">
            <a:avLst/>
          </a:prstGeom>
          <a:ln w="0">
            <a:noFill/>
          </a:ln>
        </p:spPr>
      </p:pic>
      <p:pic>
        <p:nvPicPr>
          <p:cNvPr id="118" name="Содержимое 3" descr=""/>
          <p:cNvPicPr/>
          <p:nvPr/>
        </p:nvPicPr>
        <p:blipFill>
          <a:blip r:embed="rId2"/>
          <a:stretch/>
        </p:blipFill>
        <p:spPr>
          <a:xfrm>
            <a:off x="268200" y="1054080"/>
            <a:ext cx="8680680" cy="546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5" descr=""/>
          <p:cNvPicPr/>
          <p:nvPr/>
        </p:nvPicPr>
        <p:blipFill>
          <a:blip r:embed="rId1"/>
          <a:stretch/>
        </p:blipFill>
        <p:spPr>
          <a:xfrm>
            <a:off x="444600" y="219240"/>
            <a:ext cx="8254800" cy="8665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285480" y="1071360"/>
            <a:ext cx="8643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451"/>
              </a:spcBef>
              <a:buClr>
                <a:srgbClr val="a04da3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Должностной и численный состав предприятия с указанием фонда заработной платы закрепляется в штатном расписании. Штатное расписание составляется на бланке предприятия и содержит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Штатное расписание подписывается заведующей учреждения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Согласовывается с главным бухгалтером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Утверждается руководителем управления образования, при этом в грифе утверждения указываются общая штатная численность учреждения и месячный фонд заработной платы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00"/>
              </a:spcBef>
              <a:buClr>
                <a:srgbClr val="a04da3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 соответствии с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пунктом 46 Типового положения о дошкольном образовательном учреждении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определено, что в каждом ДОУ устанавливаются штатное расписание и должностные обязанности. Руководитель ДОУ самостоятелен в подборе и расстановке кадров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(ст. 32 Закона РФ «Об образовании»)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00"/>
              </a:spcBef>
              <a:buClr>
                <a:srgbClr val="a04da3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Штатное расписание составляется плановым отделом централизованной бухгалтерии, согласовывается с заведующим детским садом и утверждается начальником районного управления образованием. Штатное расписание утверждается также заведующим детским садом, заверяется печатью и согласовывается с учредителем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Стрелка вправо 4"/>
          <p:cNvSpPr/>
          <p:nvPr/>
        </p:nvSpPr>
        <p:spPr>
          <a:xfrm>
            <a:off x="214200" y="2000160"/>
            <a:ext cx="1643040" cy="121464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53548a"/>
          </a:solidFill>
          <a:ln w="255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Сведения должнос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трелка вправо 6"/>
          <p:cNvSpPr/>
          <p:nvPr/>
        </p:nvSpPr>
        <p:spPr>
          <a:xfrm>
            <a:off x="1643040" y="2000160"/>
            <a:ext cx="2143080" cy="121464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53548a"/>
          </a:solidFill>
          <a:ln w="255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Количество штатных едини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трелка вправо 7"/>
          <p:cNvSpPr/>
          <p:nvPr/>
        </p:nvSpPr>
        <p:spPr>
          <a:xfrm>
            <a:off x="3643200" y="2000160"/>
            <a:ext cx="1785960" cy="121464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53548a"/>
          </a:solidFill>
          <a:ln w="255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Должностные окла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трелка вправо 8"/>
          <p:cNvSpPr/>
          <p:nvPr/>
        </p:nvSpPr>
        <p:spPr>
          <a:xfrm>
            <a:off x="5286240" y="2000160"/>
            <a:ext cx="1714680" cy="121464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53548a"/>
          </a:solidFill>
          <a:ln w="255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надбав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трелка вправо 9"/>
          <p:cNvSpPr/>
          <p:nvPr/>
        </p:nvSpPr>
        <p:spPr>
          <a:xfrm>
            <a:off x="6858000" y="2000160"/>
            <a:ext cx="2071800" cy="121464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53548a"/>
          </a:solidFill>
          <a:ln w="255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Месячный фонд зарпла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5" descr=""/>
          <p:cNvPicPr/>
          <p:nvPr/>
        </p:nvPicPr>
        <p:blipFill>
          <a:blip r:embed="rId1"/>
          <a:stretch/>
        </p:blipFill>
        <p:spPr>
          <a:xfrm>
            <a:off x="378000" y="444600"/>
            <a:ext cx="8375400" cy="6411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285480" y="1071360"/>
            <a:ext cx="8643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ctr">
              <a:spcBef>
                <a:spcPts val="601"/>
              </a:spcBef>
              <a:buClr>
                <a:srgbClr val="a04da3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это нормативный акт, определяющий трудовой распорядок на предприятиях, в учреждениях, организациях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тверждается трудовым коллективом по представлению администрации и профкома на основе типовых правил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spcBef>
                <a:spcPts val="601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Это один из важнейших документов, регламентирующих жизнь ДОУ, который должен сочетаться с положениями Устава детского сада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spcBef>
                <a:spcPts val="601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рганизация работы учреждения, взаимные обязанности работников и администрации, предоставление отпусков, внутренний режим и другие вопросы отражаются в правилах внутреннего трудового распорядка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5" descr=""/>
          <p:cNvPicPr/>
          <p:nvPr/>
        </p:nvPicPr>
        <p:blipFill>
          <a:blip r:embed="rId1"/>
          <a:stretch/>
        </p:blipFill>
        <p:spPr>
          <a:xfrm>
            <a:off x="444600" y="219240"/>
            <a:ext cx="8254800" cy="866520"/>
          </a:xfrm>
          <a:prstGeom prst="rect">
            <a:avLst/>
          </a:prstGeom>
          <a:ln w="0">
            <a:noFill/>
          </a:ln>
        </p:spPr>
      </p:pic>
      <p:pic>
        <p:nvPicPr>
          <p:cNvPr id="106" name="Содержимое 3" descr=""/>
          <p:cNvPicPr/>
          <p:nvPr/>
        </p:nvPicPr>
        <p:blipFill>
          <a:blip r:embed="rId2"/>
          <a:stretch/>
        </p:blipFill>
        <p:spPr>
          <a:xfrm>
            <a:off x="268200" y="1011240"/>
            <a:ext cx="8680680" cy="551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Заголовок 5" descr=""/>
          <p:cNvPicPr/>
          <p:nvPr/>
        </p:nvPicPr>
        <p:blipFill>
          <a:blip r:embed="rId1"/>
          <a:stretch/>
        </p:blipFill>
        <p:spPr>
          <a:xfrm>
            <a:off x="244440" y="530280"/>
            <a:ext cx="8643960" cy="5554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285480" y="1071360"/>
            <a:ext cx="8643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just">
              <a:spcBef>
                <a:spcPts val="49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nstantia"/>
              </a:rPr>
              <a:t>«</a:t>
            </a:r>
            <a:r>
              <a:rPr b="1" lang="ru-RU" sz="2000" spc="-1" strike="noStrike">
                <a:solidFill>
                  <a:srgbClr val="ff0000"/>
                </a:solidFill>
                <a:latin typeface="Constantia"/>
              </a:rPr>
              <a:t>правила внутреннего трудового распорядка </a:t>
            </a:r>
            <a:r>
              <a:rPr b="0" lang="ru-RU" sz="2000" spc="-1" strike="noStrike">
                <a:solidFill>
                  <a:srgbClr val="ff0000"/>
                </a:solidFill>
                <a:latin typeface="Constantia"/>
              </a:rPr>
              <a:t>— локальный нормативный акт организации, регламентирующий в соответствии с настоящим Кодексом и иными федеральными законами порядок приема и увольнения работников, основные права, обязанности и ответственность сторон трудового договора, режим работы, время отдыха, применяемые к работникам меры поощрения и взыскания, а также иные вопросы регулирования трудовых отношений в организации»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9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огласно Уставу дошкольного образовательного учреждения, правила внутреннего трудового распорядка, равно как и изменения к ним, принимаются общим собранием коллектива в начале каждого учебного года и утверждаются заведующим детским садом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9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и приеме на работу заведующий детским садом обязан ознакомить каждого работника с указанным документом под роспись в приказе о назначении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9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Храниться этот документ должен в доступном для каждого работника месте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5" descr=""/>
          <p:cNvPicPr/>
          <p:nvPr/>
        </p:nvPicPr>
        <p:blipFill>
          <a:blip r:embed="rId1"/>
          <a:stretch/>
        </p:blipFill>
        <p:spPr>
          <a:xfrm>
            <a:off x="444600" y="444600"/>
            <a:ext cx="8254800" cy="6411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285480" y="1071360"/>
            <a:ext cx="8643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onstantia"/>
              </a:rPr>
              <a:t>    — </a:t>
            </a:r>
            <a:r>
              <a:rPr b="0" lang="ru-RU" sz="1600" spc="-1" strike="noStrike">
                <a:solidFill>
                  <a:srgbClr val="ff0000"/>
                </a:solidFill>
                <a:latin typeface="Constantia"/>
              </a:rPr>
              <a:t>правовой акт, издаваемый органом государственного управления (или утверждаемый его руководителем) в целях установления правил, регулирующих организационные, научно-технические, технологические, финансовые и иные специальные стороны деятельности учреждений, организаций, предприятий (их подразделений и служб), должностных лиц и граждан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3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подписывается или утверждается руководителем организации. 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3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В инструкции излагается порядок осуществления какой-либо деятельности или применения положений законодательных и нормативных актов.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3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Текст излагается от третьего лица единственного или множественного числа. В тексте используются слова «должен», « следует », « необходимо », «запрещается», «не допускается». Заголовок к инструкции, содержащей должностные требования и порядок проведения работ (должностная инструкция), отвечает на вопрос: «Кому?» Например: «Должностная инструкция главному специалисту»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3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Текст инструкции разбивается по определенной логической схеме на разделы, пункты и подпункты. Инструкция начинается, как правило, с раздела «Общие положения», в котором указываются цель ее издания, область распространения, порядок пользования и другие сведения общего характера. Она является документом постоянного длительного действия (до замены ее новой инструкцией)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3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Все сотрудники ДОУ должны быть под роспись ознакомлены со своими инструкциями, один экземпляр которых находится в личном деле, другой — у сотрудника. Одной из задач оперативного контроля заведующего над данным процессом является проверка наличия подписи ответственного лица на каждой инструкции. Должностные обязанности администрации должны быть тоже доведены до сведения педагогического коллектива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Заголовок 5" descr=""/>
          <p:cNvPicPr/>
          <p:nvPr/>
        </p:nvPicPr>
        <p:blipFill>
          <a:blip r:embed="rId1"/>
          <a:stretch/>
        </p:blipFill>
        <p:spPr>
          <a:xfrm>
            <a:off x="444600" y="291960"/>
            <a:ext cx="8254800" cy="793800"/>
          </a:xfrm>
          <a:prstGeom prst="rect">
            <a:avLst/>
          </a:prstGeom>
          <a:ln w="0">
            <a:noFill/>
          </a:ln>
        </p:spPr>
      </p:pic>
      <p:pic>
        <p:nvPicPr>
          <p:cNvPr id="112" name="Содержимое 7" descr=""/>
          <p:cNvPicPr/>
          <p:nvPr/>
        </p:nvPicPr>
        <p:blipFill>
          <a:blip r:embed="rId2"/>
          <a:stretch/>
        </p:blipFill>
        <p:spPr>
          <a:xfrm>
            <a:off x="268200" y="1047600"/>
            <a:ext cx="8680680" cy="545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Заголовок 5" descr=""/>
          <p:cNvPicPr/>
          <p:nvPr/>
        </p:nvPicPr>
        <p:blipFill>
          <a:blip r:embed="rId1"/>
          <a:stretch/>
        </p:blipFill>
        <p:spPr>
          <a:xfrm>
            <a:off x="444600" y="219240"/>
            <a:ext cx="8254800" cy="866520"/>
          </a:xfrm>
          <a:prstGeom prst="rect">
            <a:avLst/>
          </a:prstGeom>
          <a:ln w="0">
            <a:noFill/>
          </a:ln>
        </p:spPr>
      </p:pic>
      <p:pic>
        <p:nvPicPr>
          <p:cNvPr id="114" name="Содержимое 4" descr=""/>
          <p:cNvPicPr/>
          <p:nvPr/>
        </p:nvPicPr>
        <p:blipFill>
          <a:blip r:embed="rId2"/>
          <a:stretch/>
        </p:blipFill>
        <p:spPr>
          <a:xfrm>
            <a:off x="268200" y="1066680"/>
            <a:ext cx="8680680" cy="543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Заголовок 5" descr=""/>
          <p:cNvPicPr/>
          <p:nvPr/>
        </p:nvPicPr>
        <p:blipFill>
          <a:blip r:embed="rId1"/>
          <a:stretch/>
        </p:blipFill>
        <p:spPr>
          <a:xfrm>
            <a:off x="444600" y="291960"/>
            <a:ext cx="8254800" cy="793800"/>
          </a:xfrm>
          <a:prstGeom prst="rect">
            <a:avLst/>
          </a:prstGeom>
          <a:ln w="0">
            <a:noFill/>
          </a:ln>
        </p:spPr>
      </p:pic>
      <p:pic>
        <p:nvPicPr>
          <p:cNvPr id="116" name="Содержимое 9" descr=""/>
          <p:cNvPicPr/>
          <p:nvPr/>
        </p:nvPicPr>
        <p:blipFill>
          <a:blip r:embed="rId2"/>
          <a:stretch/>
        </p:blipFill>
        <p:spPr>
          <a:xfrm>
            <a:off x="268200" y="1036800"/>
            <a:ext cx="8686800" cy="5497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ramar</cp:lastModifiedBy>
  <dcterms:modified xsi:type="dcterms:W3CDTF">2012-02-29T20:10:28Z</dcterms:modified>
  <cp:revision>37</cp:revision>
  <dc:subject/>
  <dc:title>Слайд 1</dc:title>
</cp:coreProperties>
</file>