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0AE-6437-4785-80F3-DF2CC0B8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01B-763A-4CF0-83AF-DD0572E4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BC2-A19E-4278-B3C6-C9A8FA3F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72A-4ED1-4346-867C-98DA37B3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40A8-0176-4AD4-A9AB-8ECC6A48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1960-F2AD-43EC-9C6D-C4D4AE1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9E78-20CD-441F-BB81-7F1FEC5A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1224-BC39-462D-A95A-32E9B0A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6175-B98E-4F9D-A56A-F4E39708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8ECF-9C96-4C04-AE08-7D145961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589F-74C3-4135-A8C7-AA56269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2A7-E8D4-4CD0-9CCF-3EAA34BB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B1EF-AD6C-411D-BD96-6A8B2D60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7307-54BB-43F4-AB73-4522E68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28FB-24C4-45C6-A336-5976F8DC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CD8-BDB5-470B-A702-29D88C4F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F363-ECF2-45AA-A5CB-D2408DD5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D82-2D2F-4089-9556-EA0D4B1C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457-F76A-4CDB-8D33-BA1A212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109-4880-43D6-A693-34E59BF1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6D6-DF5D-4C68-8F0C-0034B9B7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14B-DF21-443F-BD1F-924B581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46C-F882-454F-90B5-DD24567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CF7-36C3-4AF7-A6A3-E26093B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70E8-C58E-4445-BF81-8BF3C0D7E25D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645-8C7B-4205-820D-80CD640C8F94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5" descr=""/>
          <p:cNvPicPr/>
          <p:nvPr/>
        </p:nvPicPr>
        <p:blipFill>
          <a:blip r:embed="rId1"/>
          <a:stretch/>
        </p:blipFill>
        <p:spPr>
          <a:xfrm>
            <a:off x="444600" y="957240"/>
            <a:ext cx="8334360" cy="55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548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гласно Трудовому кодексу РФ (ст. 66), является основным документом о трудовой деятельности и трудовом стаже работника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рудовые книжки ведутся на всех сотрудников, проработавших свыше пяти дней, если работа в этой организации является основно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ем на работу без трудовой книжки не допускаетс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боте с трудовыми книжками заведующий ДОУ дол жен руководствоваться Правилами ведения и хранения трудовых книжек, изготовления бланков трудовой книжки и обеспечения ими работодателей, утвержденными Поста-новлени ем Правительства РФ от 16.04.2003 № 225, а также Инструкцией по заполнению трудовых книжек (приложение № 1 к постановлению Минтруда РФ от 10.10.2003 № 6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этой же Инструкции предусматривается ведение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ниги учета движения трудовых книжек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вкладышей к ним. В указанной книге регистрируются все трудовые книжки работников при поступлении на работу с записью серии и номера книже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а книги учета движения трудовых книжек и вкладышей к ним прилагается к Инструкц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5" descr=""/>
          <p:cNvPicPr/>
          <p:nvPr/>
        </p:nvPicPr>
        <p:blipFill>
          <a:blip r:embed="rId1"/>
          <a:stretch/>
        </p:blipFill>
        <p:spPr>
          <a:xfrm>
            <a:off x="444600" y="560520"/>
            <a:ext cx="8254800" cy="52524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3" descr=""/>
          <p:cNvPicPr/>
          <p:nvPr/>
        </p:nvPicPr>
        <p:blipFill>
          <a:blip r:embed="rId2"/>
          <a:stretch/>
        </p:blipFill>
        <p:spPr>
          <a:xfrm>
            <a:off x="122400" y="1122480"/>
            <a:ext cx="8826480" cy="53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5" descr=""/>
          <p:cNvPicPr/>
          <p:nvPr/>
        </p:nvPicPr>
        <p:blipFill>
          <a:blip r:embed="rId1"/>
          <a:stretch/>
        </p:blipFill>
        <p:spPr>
          <a:xfrm>
            <a:off x="444600" y="444600"/>
            <a:ext cx="8254800" cy="641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став  дошкольного образовательного учрежд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оговор с учредителем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ложения о подразделения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олжностные инструкции сотруд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арификационные списк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татное расписа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авила внутреннего трудового распоряд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5" descr=""/>
          <p:cNvPicPr/>
          <p:nvPr/>
        </p:nvPicPr>
        <p:blipFill>
          <a:blip r:embed="rId1"/>
          <a:stretch/>
        </p:blipFill>
        <p:spPr>
          <a:xfrm>
            <a:off x="328680" y="444600"/>
            <a:ext cx="8480520" cy="64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свод правил, регулирующих деятельность организаций, учреждений, их взаимоотношения с другими организациями и гражданами, их права и обязанности в определенной сфере государственного управления или хозяйствен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Уставе закрепляются структура, функции, права и обязанности ДОУ, вытекающие из Закона РФ «Об образовании» и Типового положения о дошкольном образовательном учреждении, полномочия, дополнительно переданные ДОУ учредителем, а также иные необходимые вопросы, не противоречащие действующему законодательству и необходимые для осуществления деятельности ДО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рабатывается  самостоятельно и утверждается его учредителем (ст. 13 Закона РФ «Об образовании»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каждого ДОУ Устав является индивидуальным документом, действующим в течение длитель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написанию Устава предъявляются особые требования, изложенные в статье 13 Закона РФ «Об образовании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готовка Устава — очень ответственная и трудоемкая работа, т.к. важно сконцентрировать в нем все юридические аспекты, отражающие организационную, финансовую, хозяйственную деятельность и задачи ДОУ, права и обязанности участников образовательного процесса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этому составление Устава рекомендуется проводить с участием юрис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3" descr=""/>
          <p:cNvPicPr/>
          <p:nvPr/>
        </p:nvPicPr>
        <p:blipFill>
          <a:blip r:embed="rId2"/>
          <a:stretch/>
        </p:blipFill>
        <p:spPr>
          <a:xfrm>
            <a:off x="268200" y="969840"/>
            <a:ext cx="8680680" cy="55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егистрация Уста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ле регистрации Устава образовательного учреждения в межрайонной инспекции Федеральной налоговой службы выдается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видетельство о государственной регистрации дошкольного образовательного учреждения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аким образом, уставы всех ДОУ должны быть внесены в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диный реестр юридических лиц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е дальнейшие изменения, касающиеся жизнедеятельности ДОУ, должны быть отражены в Уставе в виде внесения поправок и дополнений и зарегистрированы в территориальных налоговых органа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 ДОУ должно быть свидетельство о постановке на учет в налоговой инспекци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став образовательного учреждения должен соответствовать Письму Минобразования РФ от 17.02.97 № 150/14-12 «О наименованиях государственных и муниципальных образовательных учреждений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ичие свидетельства о регистрации позволяет образовательному учреждению открывать счета в банковских учреждениях, в том числе и валютные, иметь самостоятельный баланс, круглую печать, штампы со своим наименованием и бланки с реквизитами, т. е. приобрести права юридического лица (ст. 12 Закона РФ «Об Образовании»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5" descr=""/>
          <p:cNvPicPr/>
          <p:nvPr/>
        </p:nvPicPr>
        <p:blipFill>
          <a:blip r:embed="rId1"/>
          <a:stretch/>
        </p:blipFill>
        <p:spPr>
          <a:xfrm>
            <a:off x="444600" y="646200"/>
            <a:ext cx="82548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- процесс создания документ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и последующей работы с ним. Это деятельность, охватывающая документирование и организацию работы с документам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5" descr=""/>
          <p:cNvPicPr/>
          <p:nvPr/>
        </p:nvPicPr>
        <p:blipFill>
          <a:blip r:embed="rId1"/>
          <a:stretch/>
        </p:blipFill>
        <p:spPr>
          <a:xfrm>
            <a:off x="444600" y="695160"/>
            <a:ext cx="8254800" cy="1163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едство закрепления различным способом на специальном материале информации о фактах, событиях, явлениях объективной действительности и мыслительной деятельности человека. Действия администрации фиксируются в документах. Документы являются средством осуществления распорядительных действий руководящих органов и отдельных должностных лиц, т.е. административной деятельности, ее документирование во многих случаях предписывается законом и является обязательны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5" descr=""/>
          <p:cNvPicPr/>
          <p:nvPr/>
        </p:nvPicPr>
        <p:blipFill>
          <a:blip r:embed="rId1"/>
          <a:stretch/>
        </p:blipFill>
        <p:spPr>
          <a:xfrm>
            <a:off x="444600" y="658800"/>
            <a:ext cx="8254800" cy="712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"/>
          <p:cNvPicPr/>
          <p:nvPr/>
        </p:nvPicPr>
        <p:blipFill>
          <a:blip r:embed="rId2"/>
          <a:stretch/>
        </p:blipFill>
        <p:spPr>
          <a:xfrm>
            <a:off x="438120" y="1566720"/>
            <a:ext cx="8272440" cy="47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5" descr=""/>
          <p:cNvPicPr/>
          <p:nvPr/>
        </p:nvPicPr>
        <p:blipFill>
          <a:blip r:embed="rId1"/>
          <a:stretch/>
        </p:blipFill>
        <p:spPr>
          <a:xfrm>
            <a:off x="444600" y="585720"/>
            <a:ext cx="825480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3" descr=""/>
          <p:cNvPicPr/>
          <p:nvPr/>
        </p:nvPicPr>
        <p:blipFill>
          <a:blip r:embed="rId2"/>
          <a:stretch/>
        </p:blipFill>
        <p:spPr>
          <a:xfrm>
            <a:off x="407880" y="1341360"/>
            <a:ext cx="83520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5" descr=""/>
          <p:cNvPicPr/>
          <p:nvPr/>
        </p:nvPicPr>
        <p:blipFill>
          <a:blip r:embed="rId1"/>
          <a:stretch/>
        </p:blipFill>
        <p:spPr>
          <a:xfrm>
            <a:off x="444600" y="512640"/>
            <a:ext cx="8254800" cy="71280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3" descr=""/>
          <p:cNvPicPr/>
          <p:nvPr/>
        </p:nvPicPr>
        <p:blipFill>
          <a:blip r:embed="rId2"/>
          <a:stretch/>
        </p:blipFill>
        <p:spPr>
          <a:xfrm>
            <a:off x="122400" y="1103400"/>
            <a:ext cx="8667720" cy="55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5" descr=""/>
          <p:cNvPicPr/>
          <p:nvPr/>
        </p:nvPicPr>
        <p:blipFill>
          <a:blip r:embed="rId1"/>
          <a:stretch/>
        </p:blipFill>
        <p:spPr>
          <a:xfrm>
            <a:off x="444600" y="512640"/>
            <a:ext cx="8254800" cy="71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85840" y="1285920"/>
            <a:ext cx="857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чный листок заполняется от руки самим работником при поступлении на работ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кращения, прочерки, исправления и помарки не допускаютс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заполнении личного листка используются следующие документы: паспорт, трудовая книжка, диплом, удостоверения, свидетельства и п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рафе «Образование» применяются следующие формулировки: «высшее», «незаконченное высшее», «среднее специальное», «среднее», «неполное среднее», «начальное» — в зависимости от того, какой документ об образовании имеется у работни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рафе «Выполняемая работа с начала трудовой деятельности» сведения о работе отражаются в соответствии с записями в трудовой книжке. В указанную графу вносятся сведения и о перерывах в работе в связи с учебой, болезнью и др. Кроме того, если работник в одном учреждении в разные периоды занимал различные должности, то следует указывать время пребывания на каждой из ни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ведующий, принимая от поступающего личный листок по учету кадров, должен проверить полноту его заполнения и правильность указанных сведений в соответствии с предъявленными документ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кумент, содержащий краткое описание в хронологической последовательности основных этапов жизни и деятельности данного лиц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втобиография составляется работником собственноруч-но, в произвольной форме, без исправлений и помаро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автобиографии должны быть указаны следующие сведен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амилия, имя, отчество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исло, месяц, год и место рождения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ученное образование (где, когда, в каких учебных заведениях)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какого времени началась самостоятельная трудовая деятельность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ведения о семейном положении и близких родственниках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спортные данные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омашний адрес и телефон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451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та составления автобиографии, подпись работни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5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866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85480" y="107136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олняется от руки, все записи формулирую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ностью, без сокращен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снованием для записей являютс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спор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овая книж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ументы об образован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amar</cp:lastModifiedBy>
  <dcterms:modified xsi:type="dcterms:W3CDTF">2012-02-29T19:57:04Z</dcterms:modified>
  <cp:revision>36</cp:revision>
  <dc:subject/>
  <dc:title>Слайд 1</dc:title>
</cp:coreProperties>
</file>