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47F6-8C53-452F-8620-F517DD35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7A8-F2A0-40C6-8D31-2B056879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199-44CE-4EA7-94C7-280BF356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AD7-5F4B-47E3-A3D9-330507F7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01E6-F795-43FB-807C-C21020AA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C545-54DB-4523-893C-BAE4D9A8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02EF-4877-4E5D-B10F-C6AB117E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F65A-85BF-463C-B9F8-C4AE21DA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8F24-7E58-49A3-B007-7E77567A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DBF9-BC3C-4B66-AD83-805C75AE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38DC-38AC-4846-BC34-0CE64DF2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514C-536F-4173-AAE6-964EFCC6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3189-6C5C-4D00-BB78-1899A74A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4348-C892-4B0B-BBC3-EBF4271E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08A6-CE31-45B0-8D43-FB1634D1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20D4-323D-4EA4-B6A0-BDA6393E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CBA8-82F5-495C-8E80-A92B5A67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857-6937-445F-9CFF-C620D919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7CCC-685C-4B01-AF2B-3F4B1D09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9EC0-3463-42F1-A97E-40D8BA7F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C8F8-98B3-4D6F-AE86-2445A4F2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24E-8CC6-4C80-BA62-5CC7B897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2E8-069B-47DA-8CD9-C981004D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7DB9-E4E1-4528-8346-D0830C10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4A26-236D-4BF0-86F1-5C5A88A90A3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8391-CF90-475F-8074-049FFCFE35D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3097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Bookman Old Style"/>
              </a:rPr>
              <a:t>Анкетирование учащихся </a:t>
            </a: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Bookman Old Style"/>
              </a:rPr>
              <a:t>«Причины неуспеваемости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411280" y="5013360"/>
            <a:ext cx="6337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476000" y="115920"/>
            <a:ext cx="748836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Вы учитесь потому чт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ого требуют родител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6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•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тересно (3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•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о нужно для поступления в университет (2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•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иться необходимо (6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•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о пригодится в жизни (7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•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ругое (2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Вам нравится учитьс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егда (3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•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огда (14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•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икогда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Вы ходите в школу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выберите 2-3 утверждения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щаться с друзьями (10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•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иться (12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•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тому что там интересно (6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•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тому что там весело (6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•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тому что любите школу (3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•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тому что нравятся учителя (3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•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тому что близко от дома (-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1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1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30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 Сколько времени занимают у вас домашние задания?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0-45 мин (4 чел.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1-2 часа (10 чел.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3-4 часа (4 чел.)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 Что мешает хорошо выполнять домашние задания? (Выберите одну или несколько причин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2781000"/>
            <a:ext cx="4203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ень (8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елефон (2 чел.) 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елевизор (3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рузья (1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узыка (2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сталость (12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интересные задания (9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7280" y="2636640"/>
            <a:ext cx="4321080" cy="34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орванность предметов от жизни (5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пущенность материала (1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е равно не спросят (1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справедливость в оценке знаний (6 чел.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•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охие учебники (2 чел.) 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•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абое здоровье (3 чел.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•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ение художественной литературы (2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4000" y="0"/>
            <a:ext cx="8459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. Сколько времени в день у вас уходит на просмотр телевизионных передач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0 мин.-1,5 часа (6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 – 4 часа (7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 – 6 часов (4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0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. Сколько времени вы гуляет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5 мин.-1 час (7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 – 3 часа (8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 часа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0 (2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. Сколько времени занимаетесь с родителями каким-нибудь совместным делом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0 мин.-1,5 часа (8 чел.)               4 часа (4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 – 3 часа (7 чел.)                          0 (1 чел.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одители всегда уделяют мне внимание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500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4" dur="500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6728040" cy="16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9. Что входит в круг ваших обязанностей дома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381636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пылесосить (5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тереть пыль (3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мыть посуду (1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брать в комнате (5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мести (4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правиться с хозяйством   (3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мыть пол (2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1640" y="1773360"/>
            <a:ext cx="41036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заметать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могать маме по дому    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беля покормить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есть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борка дома (2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мыть обувь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править кровати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2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2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40608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0. Есть ли у вас дома любимый уголок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т (3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моей комнате (7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диванчике (4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кухне (2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коло стола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09800" y="691920"/>
            <a:ext cx="377172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1. Сколько времени уходит на чтение газет и журналов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 - 10 мин. (4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0 мин – 1,5 часа (7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 часа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0 (6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9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08660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. Сколько времени уходит на спортивные заняти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0 мин.- 1 час (7 чел.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1,5 – 2 часа (4 чел.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3 - 4 часа (4 чел.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0 (3 чел.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3816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3. Сколько времени уходит в день на прослушивание музык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0 мин.- 1 час (7 чел.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2 – 3 часа (5 чел.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4 - 5 часов (4 чел.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много (2 чел.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11280" y="2133360"/>
            <a:ext cx="493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4. Каким видом творчества вы занимаетесь и сколько на это уходит времен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ихи (5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исование (9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анцы (2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Цирковой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ппликация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язание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Шитье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епка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ние презентаций на компьютере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икаким (2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6960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5. Что же, по-вашему, является причиной ваших плохих отметок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ень (5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хватка времени (2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понимание темы (3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доучивание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блемы в семье (2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сталость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правильное выполнение 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удные задания (2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охое здоровье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ноклассники мешают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ителя обиделись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охое выполнение 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знаю (1 чел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дети на уроке"/>
          <p:cNvPicPr/>
          <p:nvPr/>
        </p:nvPicPr>
        <p:blipFill>
          <a:blip r:embed="rId1"/>
          <a:stretch/>
        </p:blipFill>
        <p:spPr>
          <a:xfrm>
            <a:off x="5219640" y="335772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2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58"/>
          <p:cNvGrpSpPr/>
          <p:nvPr/>
        </p:nvGrpSpPr>
        <p:grpSpPr>
          <a:xfrm>
            <a:off x="1476360" y="1197000"/>
            <a:ext cx="6172200" cy="4800600"/>
            <a:chOff x="1476360" y="1197000"/>
            <a:chExt cx="6172200" cy="4800600"/>
          </a:xfrm>
        </p:grpSpPr>
        <p:sp>
          <p:nvSpPr>
            <p:cNvPr id="169" name="AutoShape 83"/>
            <p:cNvSpPr/>
            <p:nvPr/>
          </p:nvSpPr>
          <p:spPr>
            <a:xfrm>
              <a:off x="1476360" y="1197000"/>
              <a:ext cx="6172200" cy="48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82"/>
            <p:cNvSpPr/>
            <p:nvPr/>
          </p:nvSpPr>
          <p:spPr>
            <a:xfrm>
              <a:off x="5704920" y="4054320"/>
              <a:ext cx="12574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2 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81"/>
            <p:cNvSpPr/>
            <p:nvPr/>
          </p:nvSpPr>
          <p:spPr>
            <a:xfrm>
              <a:off x="6276960" y="4626000"/>
              <a:ext cx="91476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7 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80"/>
            <p:cNvSpPr/>
            <p:nvPr/>
          </p:nvSpPr>
          <p:spPr>
            <a:xfrm flipV="1">
              <a:off x="4219560" y="1882800"/>
              <a:ext cx="2286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9"/>
            <p:cNvSpPr/>
            <p:nvPr/>
          </p:nvSpPr>
          <p:spPr>
            <a:xfrm flipV="1">
              <a:off x="4562280" y="2340000"/>
              <a:ext cx="3427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 flipV="1">
              <a:off x="5019120" y="2796840"/>
              <a:ext cx="457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7"/>
            <p:cNvSpPr/>
            <p:nvPr/>
          </p:nvSpPr>
          <p:spPr>
            <a:xfrm flipV="1">
              <a:off x="5362200" y="3254040"/>
              <a:ext cx="57168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6"/>
            <p:cNvSpPr/>
            <p:nvPr/>
          </p:nvSpPr>
          <p:spPr>
            <a:xfrm>
              <a:off x="2619000" y="3254400"/>
              <a:ext cx="274320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узы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5"/>
            <p:cNvSpPr/>
            <p:nvPr/>
          </p:nvSpPr>
          <p:spPr>
            <a:xfrm>
              <a:off x="2390760" y="3825720"/>
              <a:ext cx="29710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Л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4"/>
            <p:cNvSpPr/>
            <p:nvPr/>
          </p:nvSpPr>
          <p:spPr>
            <a:xfrm>
              <a:off x="2275920" y="4397400"/>
              <a:ext cx="320076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смотр телевизо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3"/>
            <p:cNvSpPr/>
            <p:nvPr/>
          </p:nvSpPr>
          <p:spPr>
            <a:xfrm>
              <a:off x="2162160" y="4968720"/>
              <a:ext cx="35427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стал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2"/>
            <p:cNvSpPr/>
            <p:nvPr/>
          </p:nvSpPr>
          <p:spPr>
            <a:xfrm flipH="1">
              <a:off x="6619680" y="4511520"/>
              <a:ext cx="799920" cy="102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1"/>
            <p:cNvSpPr/>
            <p:nvPr/>
          </p:nvSpPr>
          <p:spPr>
            <a:xfrm>
              <a:off x="3647520" y="1311120"/>
              <a:ext cx="3771720" cy="320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0"/>
            <p:cNvSpPr/>
            <p:nvPr/>
          </p:nvSpPr>
          <p:spPr>
            <a:xfrm flipV="1">
              <a:off x="5704920" y="3597480"/>
              <a:ext cx="68580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69"/>
            <p:cNvSpPr/>
            <p:nvPr/>
          </p:nvSpPr>
          <p:spPr>
            <a:xfrm flipV="1">
              <a:off x="6162840" y="4054320"/>
              <a:ext cx="68580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68"/>
            <p:cNvSpPr/>
            <p:nvPr/>
          </p:nvSpPr>
          <p:spPr>
            <a:xfrm>
              <a:off x="6505920" y="3025800"/>
              <a:ext cx="7995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4 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67"/>
            <p:cNvSpPr/>
            <p:nvPr/>
          </p:nvSpPr>
          <p:spPr>
            <a:xfrm flipH="1">
              <a:off x="6162840" y="3139920"/>
              <a:ext cx="342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66"/>
            <p:cNvSpPr/>
            <p:nvPr/>
          </p:nvSpPr>
          <p:spPr>
            <a:xfrm>
              <a:off x="6048000" y="2568600"/>
              <a:ext cx="91440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4 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65"/>
            <p:cNvSpPr/>
            <p:nvPr/>
          </p:nvSpPr>
          <p:spPr>
            <a:xfrm>
              <a:off x="5591160" y="2111040"/>
              <a:ext cx="9144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3 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64"/>
            <p:cNvSpPr/>
            <p:nvPr/>
          </p:nvSpPr>
          <p:spPr>
            <a:xfrm>
              <a:off x="5019120" y="1768320"/>
              <a:ext cx="80064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8 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63"/>
            <p:cNvSpPr/>
            <p:nvPr/>
          </p:nvSpPr>
          <p:spPr>
            <a:xfrm>
              <a:off x="4448160" y="1425600"/>
              <a:ext cx="7999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6 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62"/>
            <p:cNvSpPr/>
            <p:nvPr/>
          </p:nvSpPr>
          <p:spPr>
            <a:xfrm flipH="1">
              <a:off x="5704920" y="2682720"/>
              <a:ext cx="342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61"/>
            <p:cNvSpPr/>
            <p:nvPr/>
          </p:nvSpPr>
          <p:spPr>
            <a:xfrm flipH="1">
              <a:off x="5248080" y="2340000"/>
              <a:ext cx="342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0"/>
            <p:cNvSpPr/>
            <p:nvPr/>
          </p:nvSpPr>
          <p:spPr>
            <a:xfrm flipH="1">
              <a:off x="4676400" y="1882800"/>
              <a:ext cx="3427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9"/>
            <p:cNvSpPr/>
            <p:nvPr/>
          </p:nvSpPr>
          <p:spPr>
            <a:xfrm flipH="1">
              <a:off x="4219200" y="15397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Line 89"/>
          <p:cNvSpPr/>
          <p:nvPr/>
        </p:nvSpPr>
        <p:spPr>
          <a:xfrm flipH="1">
            <a:off x="1486080" y="1357200"/>
            <a:ext cx="2171520" cy="422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90"/>
          <p:cNvSpPr/>
          <p:nvPr/>
        </p:nvSpPr>
        <p:spPr>
          <a:xfrm>
            <a:off x="3657600" y="1357200"/>
            <a:ext cx="2971800" cy="422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95"/>
          <p:cNvSpPr/>
          <p:nvPr/>
        </p:nvSpPr>
        <p:spPr>
          <a:xfrm>
            <a:off x="1486080" y="5586480"/>
            <a:ext cx="5143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4"/>
          <p:cNvSpPr/>
          <p:nvPr/>
        </p:nvSpPr>
        <p:spPr>
          <a:xfrm>
            <a:off x="4572000" y="4199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94"/>
          <p:cNvSpPr/>
          <p:nvPr/>
        </p:nvSpPr>
        <p:spPr>
          <a:xfrm>
            <a:off x="1828800" y="4900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3"/>
          <p:cNvSpPr/>
          <p:nvPr/>
        </p:nvSpPr>
        <p:spPr>
          <a:xfrm>
            <a:off x="2171880" y="4329000"/>
            <a:ext cx="354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1"/>
          <p:cNvSpPr/>
          <p:nvPr/>
        </p:nvSpPr>
        <p:spPr>
          <a:xfrm>
            <a:off x="2400480" y="3871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88"/>
          <p:cNvSpPr/>
          <p:nvPr/>
        </p:nvSpPr>
        <p:spPr>
          <a:xfrm>
            <a:off x="2629080" y="3300480"/>
            <a:ext cx="240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2"/>
          <p:cNvSpPr/>
          <p:nvPr/>
        </p:nvSpPr>
        <p:spPr>
          <a:xfrm>
            <a:off x="2971800" y="2728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6"/>
          <p:cNvSpPr/>
          <p:nvPr/>
        </p:nvSpPr>
        <p:spPr>
          <a:xfrm flipV="1">
            <a:off x="3200400" y="2149560"/>
            <a:ext cx="10288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6"/>
          <p:cNvSpPr/>
          <p:nvPr/>
        </p:nvSpPr>
        <p:spPr>
          <a:xfrm>
            <a:off x="3276720" y="1557360"/>
            <a:ext cx="9363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блемы в сем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7"/>
          <p:cNvSpPr/>
          <p:nvPr/>
        </p:nvSpPr>
        <p:spPr>
          <a:xfrm>
            <a:off x="1350000" y="510120"/>
            <a:ext cx="355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ы неуспеваем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9"/>
          <p:cNvSpPr/>
          <p:nvPr/>
        </p:nvSpPr>
        <p:spPr>
          <a:xfrm>
            <a:off x="971640" y="22010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499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8"/>
          <p:cNvSpPr/>
          <p:nvPr/>
        </p:nvSpPr>
        <p:spPr>
          <a:xfrm>
            <a:off x="3059280" y="2276640"/>
            <a:ext cx="1296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рванность от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9"/>
          <p:cNvSpPr/>
          <p:nvPr/>
        </p:nvSpPr>
        <p:spPr>
          <a:xfrm>
            <a:off x="2916360" y="2781360"/>
            <a:ext cx="165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ость в оцен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13:25:14Z</dcterms:created>
  <dc:creator>2</dc:creator>
  <dc:description/>
  <dc:language>en-US</dc:language>
  <cp:lastModifiedBy>User</cp:lastModifiedBy>
  <dcterms:modified xsi:type="dcterms:W3CDTF">2012-03-01T12:46:54Z</dcterms:modified>
  <cp:revision>77</cp:revision>
  <dc:subject/>
  <dc:title>Слайд 1</dc:title>
</cp:coreProperties>
</file>