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push.wav" ContentType="audio/x-wav"/>
  <Override PartName="/ppt/media/image2.gif" ContentType="image/gi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CA5-FBDE-44D9-81C2-C5D0D9D4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BD9-C0D1-4593-9E12-3EA7B07F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AA0-B6E1-4D5D-9B70-41A4545A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B66-2781-44A3-9870-EFEC84DF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E2C7-481E-4C50-93CA-97412EC4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06D6-7467-4BA9-B489-F956D0A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79F7-1AEE-4A26-952E-689A0E4D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3A144-2747-46FF-9DC1-C940F513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93392-7F21-4BE1-A304-2D643CCC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3093-151A-4CB4-8A85-23843AD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3476-9AD9-415B-B26A-16B9B7B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C8B-9A7F-46E6-9522-B850EFEA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117D-2D5C-426E-B21D-33593BD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97F6-826A-49A7-8F67-1C926B09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3659-F8B1-4512-8C94-ED618BF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BDCE-FBE0-4F30-84C1-1B5EF78D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8097-9D46-4BA6-85ED-8CB8B2BE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9E6-85EF-411B-B7F2-B1D1082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F67-6F78-4BC8-B91F-BA204922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E3-6385-4B65-911F-EA73712D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FD9-BB9F-427C-8186-68BCAAE5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57A-4FBD-4740-A6CB-F6FCC5C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6CD-C78F-41DC-B77A-1D222C8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A7B-E5AF-4211-8CCC-04116A5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960-8BEB-4D08-90BC-C9C612EA3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024-1465-4A66-819A-7698919695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081440" y="333360"/>
            <a:ext cx="7134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«Встречное движение»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535640" y="508464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52360" y="1197000"/>
            <a:ext cx="84963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ь: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учить решать задачи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встречное движение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находить оставшееся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ежду объектами расстояние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 встречном движении.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абота с задач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250920" y="476280"/>
            <a:ext cx="8893080" cy="33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двух портов А и Б, расстояние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жду которыми 164 км, вышли одновременно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встречу друг другу 2 теплохода. Скорость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ого теплохода - 18 км/ч, а синего - 23 км/ч.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250920" y="4005360"/>
            <a:ext cx="8642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расстояние будет между ними через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часа после выхода?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4"/>
          <p:cNvGrpSpPr/>
          <p:nvPr/>
        </p:nvGrpSpPr>
        <p:grpSpPr>
          <a:xfrm>
            <a:off x="0" y="3193920"/>
            <a:ext cx="1079640" cy="468360"/>
            <a:chOff x="0" y="3193920"/>
            <a:chExt cx="1079640" cy="468360"/>
          </a:xfrm>
        </p:grpSpPr>
        <p:grpSp>
          <p:nvGrpSpPr>
            <p:cNvPr id="156" name="Group 13"/>
            <p:cNvGrpSpPr/>
            <p:nvPr/>
          </p:nvGrpSpPr>
          <p:grpSpPr>
            <a:xfrm>
              <a:off x="180000" y="3193920"/>
              <a:ext cx="642600" cy="376200"/>
              <a:chOff x="180000" y="3193920"/>
              <a:chExt cx="642600" cy="376200"/>
            </a:xfrm>
          </p:grpSpPr>
          <p:sp>
            <p:nvSpPr>
              <p:cNvPr id="157" name="AutoShape 8"/>
              <p:cNvSpPr/>
              <p:nvPr/>
            </p:nvSpPr>
            <p:spPr>
              <a:xfrm>
                <a:off x="385560" y="31939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utoShape 9"/>
              <p:cNvSpPr/>
              <p:nvPr/>
            </p:nvSpPr>
            <p:spPr>
              <a:xfrm>
                <a:off x="488880" y="31939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AutoShape 10"/>
              <p:cNvSpPr/>
              <p:nvPr/>
            </p:nvSpPr>
            <p:spPr>
              <a:xfrm>
                <a:off x="591480" y="31939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Rectangle 11"/>
              <p:cNvSpPr/>
              <p:nvPr/>
            </p:nvSpPr>
            <p:spPr>
              <a:xfrm>
                <a:off x="180000" y="341712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1" name="AutoShape 12"/>
            <p:cNvSpPr/>
            <p:nvPr/>
          </p:nvSpPr>
          <p:spPr>
            <a:xfrm>
              <a:off x="0" y="350640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5"/>
          <p:cNvGrpSpPr/>
          <p:nvPr/>
        </p:nvGrpSpPr>
        <p:grpSpPr>
          <a:xfrm>
            <a:off x="8137440" y="3159000"/>
            <a:ext cx="1006560" cy="539640"/>
            <a:chOff x="8137440" y="3159000"/>
            <a:chExt cx="1006560" cy="539640"/>
          </a:xfrm>
        </p:grpSpPr>
        <p:grpSp>
          <p:nvGrpSpPr>
            <p:cNvPr id="163" name="Group 16"/>
            <p:cNvGrpSpPr/>
            <p:nvPr/>
          </p:nvGrpSpPr>
          <p:grpSpPr>
            <a:xfrm>
              <a:off x="8305200" y="3159000"/>
              <a:ext cx="599400" cy="433800"/>
              <a:chOff x="8305200" y="3159000"/>
              <a:chExt cx="599400" cy="433800"/>
            </a:xfrm>
          </p:grpSpPr>
          <p:sp>
            <p:nvSpPr>
              <p:cNvPr id="164" name="AutoShape 17"/>
              <p:cNvSpPr/>
              <p:nvPr/>
            </p:nvSpPr>
            <p:spPr>
              <a:xfrm>
                <a:off x="8497080" y="3159000"/>
                <a:ext cx="71640" cy="4338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AutoShape 18"/>
              <p:cNvSpPr/>
              <p:nvPr/>
            </p:nvSpPr>
            <p:spPr>
              <a:xfrm>
                <a:off x="8593200" y="3159000"/>
                <a:ext cx="71640" cy="4338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utoShape 19"/>
              <p:cNvSpPr/>
              <p:nvPr/>
            </p:nvSpPr>
            <p:spPr>
              <a:xfrm>
                <a:off x="8688960" y="3159000"/>
                <a:ext cx="71640" cy="4338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20"/>
              <p:cNvSpPr/>
              <p:nvPr/>
            </p:nvSpPr>
            <p:spPr>
              <a:xfrm>
                <a:off x="8305200" y="3416400"/>
                <a:ext cx="599400" cy="17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8" name="AutoShape 21"/>
            <p:cNvSpPr/>
            <p:nvPr/>
          </p:nvSpPr>
          <p:spPr>
            <a:xfrm>
              <a:off x="8137440" y="351900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9" name="Oval 29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31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WordArt 33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2" name="WordArt 34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647640" y="3716280"/>
            <a:ext cx="7846920" cy="289080"/>
          </a:xfrm>
          <a:prstGeom prst="leftRightArrow">
            <a:avLst>
              <a:gd name="adj1" fmla="val 50000"/>
              <a:gd name="adj2" fmla="val 540375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5"/>
          <p:cNvSpPr/>
          <p:nvPr/>
        </p:nvSpPr>
        <p:spPr>
          <a:xfrm>
            <a:off x="468360" y="3716280"/>
            <a:ext cx="122400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7667640" y="3141720"/>
            <a:ext cx="1006560" cy="539640"/>
            <a:chOff x="7667640" y="3141720"/>
            <a:chExt cx="1006560" cy="539640"/>
          </a:xfrm>
        </p:grpSpPr>
        <p:grpSp>
          <p:nvGrpSpPr>
            <p:cNvPr id="177" name="Group 18"/>
            <p:cNvGrpSpPr/>
            <p:nvPr/>
          </p:nvGrpSpPr>
          <p:grpSpPr>
            <a:xfrm>
              <a:off x="7835400" y="3141720"/>
              <a:ext cx="599400" cy="433440"/>
              <a:chOff x="7835400" y="3141720"/>
              <a:chExt cx="599400" cy="433440"/>
            </a:xfrm>
          </p:grpSpPr>
          <p:sp>
            <p:nvSpPr>
              <p:cNvPr id="178" name="AutoShape 19"/>
              <p:cNvSpPr/>
              <p:nvPr/>
            </p:nvSpPr>
            <p:spPr>
              <a:xfrm>
                <a:off x="802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AutoShape 20"/>
              <p:cNvSpPr/>
              <p:nvPr/>
            </p:nvSpPr>
            <p:spPr>
              <a:xfrm>
                <a:off x="812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AutoShape 21"/>
              <p:cNvSpPr/>
              <p:nvPr/>
            </p:nvSpPr>
            <p:spPr>
              <a:xfrm>
                <a:off x="821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Rectangle 22"/>
              <p:cNvSpPr/>
              <p:nvPr/>
            </p:nvSpPr>
            <p:spPr>
              <a:xfrm>
                <a:off x="783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2" name="AutoShape 23"/>
            <p:cNvSpPr/>
            <p:nvPr/>
          </p:nvSpPr>
          <p:spPr>
            <a:xfrm>
              <a:off x="766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1187280" y="3213000"/>
            <a:ext cx="1079640" cy="468360"/>
            <a:chOff x="1187280" y="3213000"/>
            <a:chExt cx="1079640" cy="468360"/>
          </a:xfrm>
        </p:grpSpPr>
        <p:grpSp>
          <p:nvGrpSpPr>
            <p:cNvPr id="184" name="Group 25"/>
            <p:cNvGrpSpPr/>
            <p:nvPr/>
          </p:nvGrpSpPr>
          <p:grpSpPr>
            <a:xfrm>
              <a:off x="1367280" y="3213000"/>
              <a:ext cx="642600" cy="376200"/>
              <a:chOff x="1367280" y="3213000"/>
              <a:chExt cx="642600" cy="376200"/>
            </a:xfrm>
          </p:grpSpPr>
          <p:sp>
            <p:nvSpPr>
              <p:cNvPr id="185" name="AutoShape 26"/>
              <p:cNvSpPr/>
              <p:nvPr/>
            </p:nvSpPr>
            <p:spPr>
              <a:xfrm>
                <a:off x="157284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AutoShape 27"/>
              <p:cNvSpPr/>
              <p:nvPr/>
            </p:nvSpPr>
            <p:spPr>
              <a:xfrm>
                <a:off x="16761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AutoShape 28"/>
              <p:cNvSpPr/>
              <p:nvPr/>
            </p:nvSpPr>
            <p:spPr>
              <a:xfrm>
                <a:off x="17787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Rectangle 29"/>
              <p:cNvSpPr/>
              <p:nvPr/>
            </p:nvSpPr>
            <p:spPr>
              <a:xfrm>
                <a:off x="1367280" y="343620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9" name="AutoShape 30"/>
            <p:cNvSpPr/>
            <p:nvPr/>
          </p:nvSpPr>
          <p:spPr>
            <a:xfrm>
              <a:off x="1187280" y="352548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Oval 31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WordArt 33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92" name="WordArt 34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8172360" y="3789360"/>
            <a:ext cx="576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36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37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7524720" y="3789360"/>
            <a:ext cx="115272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6948360" y="3141720"/>
            <a:ext cx="1006560" cy="539640"/>
            <a:chOff x="6948360" y="3141720"/>
            <a:chExt cx="1006560" cy="539640"/>
          </a:xfrm>
        </p:grpSpPr>
        <p:grpSp>
          <p:nvGrpSpPr>
            <p:cNvPr id="198" name="Group 5"/>
            <p:cNvGrpSpPr/>
            <p:nvPr/>
          </p:nvGrpSpPr>
          <p:grpSpPr>
            <a:xfrm>
              <a:off x="7116120" y="3141720"/>
              <a:ext cx="599400" cy="433440"/>
              <a:chOff x="7116120" y="3141720"/>
              <a:chExt cx="599400" cy="433440"/>
            </a:xfrm>
          </p:grpSpPr>
          <p:sp>
            <p:nvSpPr>
              <p:cNvPr id="199" name="AutoShape 6"/>
              <p:cNvSpPr/>
              <p:nvPr/>
            </p:nvSpPr>
            <p:spPr>
              <a:xfrm>
                <a:off x="73080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AutoShape 7"/>
              <p:cNvSpPr/>
              <p:nvPr/>
            </p:nvSpPr>
            <p:spPr>
              <a:xfrm>
                <a:off x="740412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AutoShape 8"/>
              <p:cNvSpPr/>
              <p:nvPr/>
            </p:nvSpPr>
            <p:spPr>
              <a:xfrm>
                <a:off x="74998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9"/>
              <p:cNvSpPr/>
              <p:nvPr/>
            </p:nvSpPr>
            <p:spPr>
              <a:xfrm>
                <a:off x="711612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3" name="AutoShape 10"/>
            <p:cNvSpPr/>
            <p:nvPr/>
          </p:nvSpPr>
          <p:spPr>
            <a:xfrm>
              <a:off x="694836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Oval 20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738036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68360" y="3735360"/>
            <a:ext cx="2448000" cy="12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2411280" y="3213000"/>
            <a:ext cx="1079640" cy="468360"/>
            <a:chOff x="2411280" y="3213000"/>
            <a:chExt cx="1079640" cy="468360"/>
          </a:xfrm>
        </p:grpSpPr>
        <p:grpSp>
          <p:nvGrpSpPr>
            <p:cNvPr id="209" name="Group 12"/>
            <p:cNvGrpSpPr/>
            <p:nvPr/>
          </p:nvGrpSpPr>
          <p:grpSpPr>
            <a:xfrm>
              <a:off x="2591280" y="3213000"/>
              <a:ext cx="642600" cy="376200"/>
              <a:chOff x="2591280" y="3213000"/>
              <a:chExt cx="642600" cy="376200"/>
            </a:xfrm>
          </p:grpSpPr>
          <p:sp>
            <p:nvSpPr>
              <p:cNvPr id="210" name="AutoShape 13"/>
              <p:cNvSpPr/>
              <p:nvPr/>
            </p:nvSpPr>
            <p:spPr>
              <a:xfrm>
                <a:off x="279684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AutoShape 14"/>
              <p:cNvSpPr/>
              <p:nvPr/>
            </p:nvSpPr>
            <p:spPr>
              <a:xfrm>
                <a:off x="29001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AutoShape 15"/>
              <p:cNvSpPr/>
              <p:nvPr/>
            </p:nvSpPr>
            <p:spPr>
              <a:xfrm>
                <a:off x="30027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16"/>
              <p:cNvSpPr/>
              <p:nvPr/>
            </p:nvSpPr>
            <p:spPr>
              <a:xfrm>
                <a:off x="2591280" y="343620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4" name="AutoShape 17"/>
            <p:cNvSpPr/>
            <p:nvPr/>
          </p:nvSpPr>
          <p:spPr>
            <a:xfrm>
              <a:off x="2411280" y="352548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5" name="Oval 18"/>
          <p:cNvSpPr/>
          <p:nvPr/>
        </p:nvSpPr>
        <p:spPr>
          <a:xfrm>
            <a:off x="395280" y="373536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val 19"/>
          <p:cNvSpPr/>
          <p:nvPr/>
        </p:nvSpPr>
        <p:spPr>
          <a:xfrm>
            <a:off x="2843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23"/>
          <p:cNvSpPr txBox="1"/>
          <p:nvPr/>
        </p:nvSpPr>
        <p:spPr>
          <a:xfrm>
            <a:off x="324000" y="402444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18" name="Oval 26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27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68360" y="3716280"/>
            <a:ext cx="410364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4067280" y="3141720"/>
            <a:ext cx="1079280" cy="468360"/>
            <a:chOff x="4067280" y="3141720"/>
            <a:chExt cx="1079280" cy="468360"/>
          </a:xfrm>
        </p:grpSpPr>
        <p:grpSp>
          <p:nvGrpSpPr>
            <p:cNvPr id="222" name="Group 4"/>
            <p:cNvGrpSpPr/>
            <p:nvPr/>
          </p:nvGrpSpPr>
          <p:grpSpPr>
            <a:xfrm>
              <a:off x="4247280" y="3141720"/>
              <a:ext cx="642600" cy="376200"/>
              <a:chOff x="4247280" y="3141720"/>
              <a:chExt cx="642600" cy="376200"/>
            </a:xfrm>
          </p:grpSpPr>
          <p:sp>
            <p:nvSpPr>
              <p:cNvPr id="223" name="AutoShape 5"/>
              <p:cNvSpPr/>
              <p:nvPr/>
            </p:nvSpPr>
            <p:spPr>
              <a:xfrm>
                <a:off x="445284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AutoShape 6"/>
              <p:cNvSpPr/>
              <p:nvPr/>
            </p:nvSpPr>
            <p:spPr>
              <a:xfrm>
                <a:off x="45561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46587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247280" y="336492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7" name="AutoShape 9"/>
            <p:cNvSpPr/>
            <p:nvPr/>
          </p:nvSpPr>
          <p:spPr>
            <a:xfrm>
              <a:off x="4067280" y="3454200"/>
              <a:ext cx="1079280" cy="155880"/>
            </a:xfrm>
            <a:custGeom>
              <a:avLst/>
              <a:gdLst>
                <a:gd name="textAreaLeft" fmla="*/ 224640 w 1079280"/>
                <a:gd name="textAreaRight" fmla="*/ 854640 w 107928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8" name="Oval 10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446400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WordArt 12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6732720" y="3789360"/>
            <a:ext cx="194472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2" name="Group 14"/>
          <p:cNvGrpSpPr/>
          <p:nvPr/>
        </p:nvGrpSpPr>
        <p:grpSpPr>
          <a:xfrm>
            <a:off x="6227640" y="3141720"/>
            <a:ext cx="1006560" cy="539640"/>
            <a:chOff x="6227640" y="3141720"/>
            <a:chExt cx="1006560" cy="539640"/>
          </a:xfrm>
        </p:grpSpPr>
        <p:grpSp>
          <p:nvGrpSpPr>
            <p:cNvPr id="233" name="Group 15"/>
            <p:cNvGrpSpPr/>
            <p:nvPr/>
          </p:nvGrpSpPr>
          <p:grpSpPr>
            <a:xfrm>
              <a:off x="6395400" y="3141720"/>
              <a:ext cx="599400" cy="433440"/>
              <a:chOff x="6395400" y="3141720"/>
              <a:chExt cx="599400" cy="43344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658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668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AutoShape 18"/>
              <p:cNvSpPr/>
              <p:nvPr/>
            </p:nvSpPr>
            <p:spPr>
              <a:xfrm>
                <a:off x="677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19"/>
              <p:cNvSpPr/>
              <p:nvPr/>
            </p:nvSpPr>
            <p:spPr>
              <a:xfrm>
                <a:off x="639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38" name="AutoShape 20"/>
            <p:cNvSpPr/>
            <p:nvPr/>
          </p:nvSpPr>
          <p:spPr>
            <a:xfrm>
              <a:off x="622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9" name="Oval 21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val 22"/>
          <p:cNvSpPr/>
          <p:nvPr/>
        </p:nvSpPr>
        <p:spPr>
          <a:xfrm>
            <a:off x="658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WordArt 23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42" name="Oval 24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Oval 25"/>
          <p:cNvSpPr/>
          <p:nvPr/>
        </p:nvSpPr>
        <p:spPr>
          <a:xfrm>
            <a:off x="2843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Oval 27"/>
          <p:cNvSpPr/>
          <p:nvPr/>
        </p:nvSpPr>
        <p:spPr>
          <a:xfrm>
            <a:off x="738036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468360" y="3716280"/>
            <a:ext cx="410364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4067280" y="3141720"/>
            <a:ext cx="1079280" cy="468360"/>
            <a:chOff x="4067280" y="3141720"/>
            <a:chExt cx="1079280" cy="468360"/>
          </a:xfrm>
        </p:grpSpPr>
        <p:grpSp>
          <p:nvGrpSpPr>
            <p:cNvPr id="248" name="Group 4"/>
            <p:cNvGrpSpPr/>
            <p:nvPr/>
          </p:nvGrpSpPr>
          <p:grpSpPr>
            <a:xfrm>
              <a:off x="4247280" y="3141720"/>
              <a:ext cx="642600" cy="376200"/>
              <a:chOff x="4247280" y="3141720"/>
              <a:chExt cx="642600" cy="376200"/>
            </a:xfrm>
          </p:grpSpPr>
          <p:sp>
            <p:nvSpPr>
              <p:cNvPr id="249" name="AutoShape 5"/>
              <p:cNvSpPr/>
              <p:nvPr/>
            </p:nvSpPr>
            <p:spPr>
              <a:xfrm>
                <a:off x="445284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AutoShape 6"/>
              <p:cNvSpPr/>
              <p:nvPr/>
            </p:nvSpPr>
            <p:spPr>
              <a:xfrm>
                <a:off x="45561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AutoShape 7"/>
              <p:cNvSpPr/>
              <p:nvPr/>
            </p:nvSpPr>
            <p:spPr>
              <a:xfrm>
                <a:off x="46587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8"/>
              <p:cNvSpPr/>
              <p:nvPr/>
            </p:nvSpPr>
            <p:spPr>
              <a:xfrm>
                <a:off x="4247280" y="336492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3" name="AutoShape 9"/>
            <p:cNvSpPr/>
            <p:nvPr/>
          </p:nvSpPr>
          <p:spPr>
            <a:xfrm>
              <a:off x="4067280" y="3454200"/>
              <a:ext cx="1079280" cy="155880"/>
            </a:xfrm>
            <a:custGeom>
              <a:avLst/>
              <a:gdLst>
                <a:gd name="textAreaLeft" fmla="*/ 224640 w 1079280"/>
                <a:gd name="textAreaRight" fmla="*/ 854640 w 107928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4" name="Oval 10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446400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WordArt 12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732720" y="3789360"/>
            <a:ext cx="194472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6227640" y="3141720"/>
            <a:ext cx="1006560" cy="539640"/>
            <a:chOff x="6227640" y="3141720"/>
            <a:chExt cx="1006560" cy="539640"/>
          </a:xfrm>
        </p:grpSpPr>
        <p:grpSp>
          <p:nvGrpSpPr>
            <p:cNvPr id="259" name="Group 15"/>
            <p:cNvGrpSpPr/>
            <p:nvPr/>
          </p:nvGrpSpPr>
          <p:grpSpPr>
            <a:xfrm>
              <a:off x="6395400" y="3141720"/>
              <a:ext cx="599400" cy="433440"/>
              <a:chOff x="6395400" y="3141720"/>
              <a:chExt cx="599400" cy="433440"/>
            </a:xfrm>
          </p:grpSpPr>
          <p:sp>
            <p:nvSpPr>
              <p:cNvPr id="260" name="AutoShape 16"/>
              <p:cNvSpPr/>
              <p:nvPr/>
            </p:nvSpPr>
            <p:spPr>
              <a:xfrm>
                <a:off x="658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AutoShape 17"/>
              <p:cNvSpPr/>
              <p:nvPr/>
            </p:nvSpPr>
            <p:spPr>
              <a:xfrm>
                <a:off x="668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AutoShape 18"/>
              <p:cNvSpPr/>
              <p:nvPr/>
            </p:nvSpPr>
            <p:spPr>
              <a:xfrm>
                <a:off x="677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19"/>
              <p:cNvSpPr/>
              <p:nvPr/>
            </p:nvSpPr>
            <p:spPr>
              <a:xfrm>
                <a:off x="639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4" name="AutoShape 20"/>
            <p:cNvSpPr/>
            <p:nvPr/>
          </p:nvSpPr>
          <p:spPr>
            <a:xfrm>
              <a:off x="622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5" name="Oval 21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22"/>
          <p:cNvSpPr/>
          <p:nvPr/>
        </p:nvSpPr>
        <p:spPr>
          <a:xfrm>
            <a:off x="658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WordArt 23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4716360" y="3716280"/>
            <a:ext cx="1871640" cy="217440"/>
          </a:xfrm>
          <a:prstGeom prst="leftRightArrow">
            <a:avLst>
              <a:gd name="adj1" fmla="val 50000"/>
              <a:gd name="adj2" fmla="val 171355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0" autoRev="1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48" dur="1000" autoRev="1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9" dur="1000" autoRev="1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0920" y="476280"/>
            <a:ext cx="8893080" cy="33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двух портов А и Б, расстояние 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жду которыми 164 км, вышли одновременно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встречу друг другу 2 теплохода. Скорость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ого теплохода - 18 км/ч, а синего - 23 км/ч.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250920" y="4005360"/>
            <a:ext cx="8642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расстояние будет между ними через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часа после выхода?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оиск формулы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ешения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68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68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6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1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. Игровое поле. Правила иг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. Устный счё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3. Новая тема. Работа с зада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4. Физмину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5. Повторение изученного. Поиск ошибок в пример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6. Проверка результативности ур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Блиц-опро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7. Подведение итога иг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8. Рефлек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9. Домашнее зад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29"/>
          <p:cNvSpPr/>
          <p:nvPr/>
        </p:nvSpPr>
        <p:spPr>
          <a:xfrm>
            <a:off x="287280" y="4581360"/>
            <a:ext cx="8569440" cy="287640"/>
          </a:xfrm>
          <a:prstGeom prst="leftRightArrow">
            <a:avLst>
              <a:gd name="adj1" fmla="val 50000"/>
              <a:gd name="adj2" fmla="val 5930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468360" y="3716280"/>
            <a:ext cx="122400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667640" y="3141720"/>
            <a:ext cx="1006560" cy="539640"/>
            <a:chOff x="7667640" y="3141720"/>
            <a:chExt cx="1006560" cy="539640"/>
          </a:xfrm>
        </p:grpSpPr>
        <p:grpSp>
          <p:nvGrpSpPr>
            <p:cNvPr id="276" name="Group 5"/>
            <p:cNvGrpSpPr/>
            <p:nvPr/>
          </p:nvGrpSpPr>
          <p:grpSpPr>
            <a:xfrm>
              <a:off x="7835400" y="3141720"/>
              <a:ext cx="599400" cy="433440"/>
              <a:chOff x="7835400" y="3141720"/>
              <a:chExt cx="599400" cy="433440"/>
            </a:xfrm>
          </p:grpSpPr>
          <p:sp>
            <p:nvSpPr>
              <p:cNvPr id="277" name="AutoShape 6"/>
              <p:cNvSpPr/>
              <p:nvPr/>
            </p:nvSpPr>
            <p:spPr>
              <a:xfrm>
                <a:off x="802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AutoShape 7"/>
              <p:cNvSpPr/>
              <p:nvPr/>
            </p:nvSpPr>
            <p:spPr>
              <a:xfrm>
                <a:off x="812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AutoShape 8"/>
              <p:cNvSpPr/>
              <p:nvPr/>
            </p:nvSpPr>
            <p:spPr>
              <a:xfrm>
                <a:off x="821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"/>
              <p:cNvSpPr/>
              <p:nvPr/>
            </p:nvSpPr>
            <p:spPr>
              <a:xfrm>
                <a:off x="783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1" name="AutoShape 10"/>
            <p:cNvSpPr/>
            <p:nvPr/>
          </p:nvSpPr>
          <p:spPr>
            <a:xfrm>
              <a:off x="766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2" name="Group 11"/>
          <p:cNvGrpSpPr/>
          <p:nvPr/>
        </p:nvGrpSpPr>
        <p:grpSpPr>
          <a:xfrm>
            <a:off x="1187280" y="3213000"/>
            <a:ext cx="1079640" cy="468360"/>
            <a:chOff x="1187280" y="3213000"/>
            <a:chExt cx="1079640" cy="468360"/>
          </a:xfrm>
        </p:grpSpPr>
        <p:grpSp>
          <p:nvGrpSpPr>
            <p:cNvPr id="283" name="Group 12"/>
            <p:cNvGrpSpPr/>
            <p:nvPr/>
          </p:nvGrpSpPr>
          <p:grpSpPr>
            <a:xfrm>
              <a:off x="1367280" y="3213000"/>
              <a:ext cx="642600" cy="376200"/>
              <a:chOff x="1367280" y="3213000"/>
              <a:chExt cx="642600" cy="376200"/>
            </a:xfrm>
          </p:grpSpPr>
          <p:sp>
            <p:nvSpPr>
              <p:cNvPr id="284" name="AutoShape 13"/>
              <p:cNvSpPr/>
              <p:nvPr/>
            </p:nvSpPr>
            <p:spPr>
              <a:xfrm>
                <a:off x="157284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AutoShape 14"/>
              <p:cNvSpPr/>
              <p:nvPr/>
            </p:nvSpPr>
            <p:spPr>
              <a:xfrm>
                <a:off x="16761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AutoShape 15"/>
              <p:cNvSpPr/>
              <p:nvPr/>
            </p:nvSpPr>
            <p:spPr>
              <a:xfrm>
                <a:off x="17787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16"/>
              <p:cNvSpPr/>
              <p:nvPr/>
            </p:nvSpPr>
            <p:spPr>
              <a:xfrm>
                <a:off x="1367280" y="343620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8" name="AutoShape 17"/>
            <p:cNvSpPr/>
            <p:nvPr/>
          </p:nvSpPr>
          <p:spPr>
            <a:xfrm>
              <a:off x="1187280" y="352548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Oval 18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WordArt 19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1" name="WordArt 20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Rectangle 21"/>
          <p:cNvSpPr/>
          <p:nvPr/>
        </p:nvSpPr>
        <p:spPr>
          <a:xfrm>
            <a:off x="8172360" y="3789360"/>
            <a:ext cx="576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Oval 22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23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24"/>
          <p:cNvSpPr/>
          <p:nvPr/>
        </p:nvSpPr>
        <p:spPr>
          <a:xfrm>
            <a:off x="395280" y="242100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AutoShape 25"/>
          <p:cNvSpPr/>
          <p:nvPr/>
        </p:nvSpPr>
        <p:spPr>
          <a:xfrm>
            <a:off x="7956720" y="2421000"/>
            <a:ext cx="904680" cy="360360"/>
          </a:xfrm>
          <a:prstGeom prst="leftArrow">
            <a:avLst>
              <a:gd name="adj1" fmla="val 50000"/>
              <a:gd name="adj2" fmla="val 627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WordArt 26"/>
          <p:cNvSpPr txBox="1"/>
          <p:nvPr/>
        </p:nvSpPr>
        <p:spPr>
          <a:xfrm>
            <a:off x="539640" y="1989000"/>
            <a:ext cx="106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8" name="WordArt 27"/>
          <p:cNvSpPr txBox="1"/>
          <p:nvPr/>
        </p:nvSpPr>
        <p:spPr>
          <a:xfrm>
            <a:off x="7812000" y="1916280"/>
            <a:ext cx="106704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WordArt 30"/>
          <p:cNvSpPr txBox="1"/>
          <p:nvPr/>
        </p:nvSpPr>
        <p:spPr>
          <a:xfrm>
            <a:off x="3843360" y="4941720"/>
            <a:ext cx="14572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4 к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4"/>
          <p:cNvSpPr txBox="1"/>
          <p:nvPr/>
        </p:nvSpPr>
        <p:spPr>
          <a:xfrm>
            <a:off x="1116000" y="112536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корость сближения - </a:t>
            </a:r>
            <a:endParaRPr b="1" i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сстояние, на которое</a:t>
            </a:r>
            <a:endParaRPr b="1" i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ближаются объекты</a:t>
            </a:r>
            <a:endParaRPr b="1" i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 единицу времени.</a:t>
            </a:r>
            <a:endParaRPr b="1" i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81080" y="907920"/>
            <a:ext cx="2627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Monotype Corsiva"/>
              </a:rPr>
              <a:t>U</a:t>
            </a:r>
            <a:endParaRPr b="1" lang="en-US" sz="2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WordArt 3"/>
          <p:cNvSpPr txBox="1"/>
          <p:nvPr/>
        </p:nvSpPr>
        <p:spPr>
          <a:xfrm>
            <a:off x="1332000" y="2905200"/>
            <a:ext cx="107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бл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843280" y="2421000"/>
            <a:ext cx="5848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 23 + 18 = 41 (км/ч)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287280" y="4581360"/>
            <a:ext cx="8569440" cy="287640"/>
          </a:xfrm>
          <a:prstGeom prst="leftRightArrow">
            <a:avLst>
              <a:gd name="adj1" fmla="val 50000"/>
              <a:gd name="adj2" fmla="val 5930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68360" y="3716280"/>
            <a:ext cx="122400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7667640" y="3141720"/>
            <a:ext cx="1006560" cy="539640"/>
            <a:chOff x="7667640" y="3141720"/>
            <a:chExt cx="1006560" cy="539640"/>
          </a:xfrm>
        </p:grpSpPr>
        <p:grpSp>
          <p:nvGrpSpPr>
            <p:cNvPr id="308" name="Group 6"/>
            <p:cNvGrpSpPr/>
            <p:nvPr/>
          </p:nvGrpSpPr>
          <p:grpSpPr>
            <a:xfrm>
              <a:off x="7835400" y="3141720"/>
              <a:ext cx="599400" cy="433440"/>
              <a:chOff x="7835400" y="3141720"/>
              <a:chExt cx="599400" cy="433440"/>
            </a:xfrm>
          </p:grpSpPr>
          <p:sp>
            <p:nvSpPr>
              <p:cNvPr id="309" name="AutoShape 7"/>
              <p:cNvSpPr/>
              <p:nvPr/>
            </p:nvSpPr>
            <p:spPr>
              <a:xfrm>
                <a:off x="802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AutoShape 8"/>
              <p:cNvSpPr/>
              <p:nvPr/>
            </p:nvSpPr>
            <p:spPr>
              <a:xfrm>
                <a:off x="812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AutoShape 9"/>
              <p:cNvSpPr/>
              <p:nvPr/>
            </p:nvSpPr>
            <p:spPr>
              <a:xfrm>
                <a:off x="821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783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3" name="AutoShape 11"/>
            <p:cNvSpPr/>
            <p:nvPr/>
          </p:nvSpPr>
          <p:spPr>
            <a:xfrm>
              <a:off x="766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4" name="Group 12"/>
          <p:cNvGrpSpPr/>
          <p:nvPr/>
        </p:nvGrpSpPr>
        <p:grpSpPr>
          <a:xfrm>
            <a:off x="1187280" y="3213000"/>
            <a:ext cx="1079640" cy="468360"/>
            <a:chOff x="1187280" y="3213000"/>
            <a:chExt cx="1079640" cy="468360"/>
          </a:xfrm>
        </p:grpSpPr>
        <p:grpSp>
          <p:nvGrpSpPr>
            <p:cNvPr id="315" name="Group 13"/>
            <p:cNvGrpSpPr/>
            <p:nvPr/>
          </p:nvGrpSpPr>
          <p:grpSpPr>
            <a:xfrm>
              <a:off x="1367280" y="3213000"/>
              <a:ext cx="642600" cy="376200"/>
              <a:chOff x="1367280" y="3213000"/>
              <a:chExt cx="642600" cy="376200"/>
            </a:xfrm>
          </p:grpSpPr>
          <p:sp>
            <p:nvSpPr>
              <p:cNvPr id="316" name="AutoShape 14"/>
              <p:cNvSpPr/>
              <p:nvPr/>
            </p:nvSpPr>
            <p:spPr>
              <a:xfrm>
                <a:off x="157284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AutoShape 15"/>
              <p:cNvSpPr/>
              <p:nvPr/>
            </p:nvSpPr>
            <p:spPr>
              <a:xfrm>
                <a:off x="16761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AutoShape 16"/>
              <p:cNvSpPr/>
              <p:nvPr/>
            </p:nvSpPr>
            <p:spPr>
              <a:xfrm>
                <a:off x="17787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7"/>
              <p:cNvSpPr/>
              <p:nvPr/>
            </p:nvSpPr>
            <p:spPr>
              <a:xfrm>
                <a:off x="1367280" y="343620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0" name="AutoShape 18"/>
            <p:cNvSpPr/>
            <p:nvPr/>
          </p:nvSpPr>
          <p:spPr>
            <a:xfrm>
              <a:off x="1187280" y="352548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Oval 19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WordArt 20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WordArt 21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8172360" y="3789360"/>
            <a:ext cx="576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Oval 23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Oval 24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395280" y="242100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26"/>
          <p:cNvSpPr/>
          <p:nvPr/>
        </p:nvSpPr>
        <p:spPr>
          <a:xfrm>
            <a:off x="7956720" y="2421000"/>
            <a:ext cx="904680" cy="360360"/>
          </a:xfrm>
          <a:prstGeom prst="leftArrow">
            <a:avLst>
              <a:gd name="adj1" fmla="val 50000"/>
              <a:gd name="adj2" fmla="val 627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WordArt 27"/>
          <p:cNvSpPr txBox="1"/>
          <p:nvPr/>
        </p:nvSpPr>
        <p:spPr>
          <a:xfrm>
            <a:off x="539640" y="1989000"/>
            <a:ext cx="106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0" name="WordArt 28"/>
          <p:cNvSpPr txBox="1"/>
          <p:nvPr/>
        </p:nvSpPr>
        <p:spPr>
          <a:xfrm>
            <a:off x="7812000" y="1916280"/>
            <a:ext cx="106704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WordArt 29"/>
          <p:cNvSpPr txBox="1"/>
          <p:nvPr/>
        </p:nvSpPr>
        <p:spPr>
          <a:xfrm>
            <a:off x="3843360" y="4941720"/>
            <a:ext cx="14572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4 к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WordArt 30"/>
          <p:cNvSpPr txBox="1"/>
          <p:nvPr/>
        </p:nvSpPr>
        <p:spPr>
          <a:xfrm>
            <a:off x="1371600" y="62064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64 - (23 + 18) х 1 = 123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7524720" y="3789360"/>
            <a:ext cx="115272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6948360" y="3141720"/>
            <a:ext cx="1006560" cy="539640"/>
            <a:chOff x="6948360" y="3141720"/>
            <a:chExt cx="1006560" cy="539640"/>
          </a:xfrm>
        </p:grpSpPr>
        <p:grpSp>
          <p:nvGrpSpPr>
            <p:cNvPr id="335" name="Group 4"/>
            <p:cNvGrpSpPr/>
            <p:nvPr/>
          </p:nvGrpSpPr>
          <p:grpSpPr>
            <a:xfrm>
              <a:off x="7116120" y="3141720"/>
              <a:ext cx="599400" cy="433440"/>
              <a:chOff x="7116120" y="3141720"/>
              <a:chExt cx="599400" cy="433440"/>
            </a:xfrm>
          </p:grpSpPr>
          <p:sp>
            <p:nvSpPr>
              <p:cNvPr id="336" name="AutoShape 5"/>
              <p:cNvSpPr/>
              <p:nvPr/>
            </p:nvSpPr>
            <p:spPr>
              <a:xfrm>
                <a:off x="73080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AutoShape 6"/>
              <p:cNvSpPr/>
              <p:nvPr/>
            </p:nvSpPr>
            <p:spPr>
              <a:xfrm>
                <a:off x="740412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AutoShape 7"/>
              <p:cNvSpPr/>
              <p:nvPr/>
            </p:nvSpPr>
            <p:spPr>
              <a:xfrm>
                <a:off x="74998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8"/>
              <p:cNvSpPr/>
              <p:nvPr/>
            </p:nvSpPr>
            <p:spPr>
              <a:xfrm>
                <a:off x="711612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40" name="AutoShape 9"/>
            <p:cNvSpPr/>
            <p:nvPr/>
          </p:nvSpPr>
          <p:spPr>
            <a:xfrm>
              <a:off x="694836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1" name="Oval 10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738036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468360" y="3735360"/>
            <a:ext cx="2448000" cy="12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5" name="Group 14"/>
          <p:cNvGrpSpPr/>
          <p:nvPr/>
        </p:nvGrpSpPr>
        <p:grpSpPr>
          <a:xfrm>
            <a:off x="2411280" y="3213000"/>
            <a:ext cx="1079640" cy="468360"/>
            <a:chOff x="2411280" y="3213000"/>
            <a:chExt cx="1079640" cy="468360"/>
          </a:xfrm>
        </p:grpSpPr>
        <p:grpSp>
          <p:nvGrpSpPr>
            <p:cNvPr id="346" name="Group 15"/>
            <p:cNvGrpSpPr/>
            <p:nvPr/>
          </p:nvGrpSpPr>
          <p:grpSpPr>
            <a:xfrm>
              <a:off x="2591280" y="3213000"/>
              <a:ext cx="642600" cy="376200"/>
              <a:chOff x="2591280" y="3213000"/>
              <a:chExt cx="642600" cy="376200"/>
            </a:xfrm>
          </p:grpSpPr>
          <p:sp>
            <p:nvSpPr>
              <p:cNvPr id="347" name="AutoShape 16"/>
              <p:cNvSpPr/>
              <p:nvPr/>
            </p:nvSpPr>
            <p:spPr>
              <a:xfrm>
                <a:off x="279684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AutoShape 17"/>
              <p:cNvSpPr/>
              <p:nvPr/>
            </p:nvSpPr>
            <p:spPr>
              <a:xfrm>
                <a:off x="29001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AutoShape 18"/>
              <p:cNvSpPr/>
              <p:nvPr/>
            </p:nvSpPr>
            <p:spPr>
              <a:xfrm>
                <a:off x="3002760" y="321300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9"/>
              <p:cNvSpPr/>
              <p:nvPr/>
            </p:nvSpPr>
            <p:spPr>
              <a:xfrm>
                <a:off x="2591280" y="343620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1" name="AutoShape 20"/>
            <p:cNvSpPr/>
            <p:nvPr/>
          </p:nvSpPr>
          <p:spPr>
            <a:xfrm>
              <a:off x="2411280" y="3525480"/>
              <a:ext cx="1079640" cy="155880"/>
            </a:xfrm>
            <a:custGeom>
              <a:avLst/>
              <a:gdLst>
                <a:gd name="textAreaLeft" fmla="*/ 225000 w 1079640"/>
                <a:gd name="textAreaRight" fmla="*/ 854640 w 107964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2" name="Oval 21"/>
          <p:cNvSpPr/>
          <p:nvPr/>
        </p:nvSpPr>
        <p:spPr>
          <a:xfrm>
            <a:off x="395280" y="373536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22"/>
          <p:cNvSpPr/>
          <p:nvPr/>
        </p:nvSpPr>
        <p:spPr>
          <a:xfrm>
            <a:off x="2843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WordArt 23"/>
          <p:cNvSpPr txBox="1"/>
          <p:nvPr/>
        </p:nvSpPr>
        <p:spPr>
          <a:xfrm>
            <a:off x="324000" y="402444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5" name="Oval 24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Oval 25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395280" y="242100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27"/>
          <p:cNvSpPr/>
          <p:nvPr/>
        </p:nvSpPr>
        <p:spPr>
          <a:xfrm>
            <a:off x="7956720" y="2421000"/>
            <a:ext cx="904680" cy="360360"/>
          </a:xfrm>
          <a:prstGeom prst="leftArrow">
            <a:avLst>
              <a:gd name="adj1" fmla="val 50000"/>
              <a:gd name="adj2" fmla="val 627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WordArt 28"/>
          <p:cNvSpPr txBox="1"/>
          <p:nvPr/>
        </p:nvSpPr>
        <p:spPr>
          <a:xfrm>
            <a:off x="539640" y="1989000"/>
            <a:ext cx="106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7812000" y="1916280"/>
            <a:ext cx="106704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WordArt 30"/>
          <p:cNvSpPr txBox="1"/>
          <p:nvPr/>
        </p:nvSpPr>
        <p:spPr>
          <a:xfrm>
            <a:off x="3843360" y="4941720"/>
            <a:ext cx="14572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4 к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87280" y="4581360"/>
            <a:ext cx="8569440" cy="287640"/>
          </a:xfrm>
          <a:prstGeom prst="leftRightArrow">
            <a:avLst>
              <a:gd name="adj1" fmla="val 50000"/>
              <a:gd name="adj2" fmla="val 5930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WordArt 32"/>
          <p:cNvSpPr txBox="1"/>
          <p:nvPr/>
        </p:nvSpPr>
        <p:spPr>
          <a:xfrm>
            <a:off x="1690560" y="620640"/>
            <a:ext cx="57628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64 - (23 + 18) х 2 =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468360" y="3716280"/>
            <a:ext cx="410364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4067280" y="3141720"/>
            <a:ext cx="1079280" cy="468360"/>
            <a:chOff x="4067280" y="3141720"/>
            <a:chExt cx="1079280" cy="468360"/>
          </a:xfrm>
        </p:grpSpPr>
        <p:grpSp>
          <p:nvGrpSpPr>
            <p:cNvPr id="366" name="Group 4"/>
            <p:cNvGrpSpPr/>
            <p:nvPr/>
          </p:nvGrpSpPr>
          <p:grpSpPr>
            <a:xfrm>
              <a:off x="4247280" y="3141720"/>
              <a:ext cx="642600" cy="376200"/>
              <a:chOff x="4247280" y="3141720"/>
              <a:chExt cx="642600" cy="376200"/>
            </a:xfrm>
          </p:grpSpPr>
          <p:sp>
            <p:nvSpPr>
              <p:cNvPr id="367" name="AutoShape 5"/>
              <p:cNvSpPr/>
              <p:nvPr/>
            </p:nvSpPr>
            <p:spPr>
              <a:xfrm>
                <a:off x="445284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AutoShape 6"/>
              <p:cNvSpPr/>
              <p:nvPr/>
            </p:nvSpPr>
            <p:spPr>
              <a:xfrm>
                <a:off x="45561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AutoShape 7"/>
              <p:cNvSpPr/>
              <p:nvPr/>
            </p:nvSpPr>
            <p:spPr>
              <a:xfrm>
                <a:off x="4658760" y="3141720"/>
                <a:ext cx="77040" cy="3762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8"/>
              <p:cNvSpPr/>
              <p:nvPr/>
            </p:nvSpPr>
            <p:spPr>
              <a:xfrm>
                <a:off x="4247280" y="3364920"/>
                <a:ext cx="642600" cy="149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71" name="AutoShape 9"/>
            <p:cNvSpPr/>
            <p:nvPr/>
          </p:nvSpPr>
          <p:spPr>
            <a:xfrm>
              <a:off x="4067280" y="3454200"/>
              <a:ext cx="1079280" cy="155880"/>
            </a:xfrm>
            <a:custGeom>
              <a:avLst/>
              <a:gdLst>
                <a:gd name="textAreaLeft" fmla="*/ 224640 w 1079280"/>
                <a:gd name="textAreaRight" fmla="*/ 854640 w 1079280"/>
                <a:gd name="textAreaTop" fmla="*/ 32400 h 155880"/>
                <a:gd name="textAreaBottom" fmla="*/ 12348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2" name="Oval 10"/>
          <p:cNvSpPr/>
          <p:nvPr/>
        </p:nvSpPr>
        <p:spPr>
          <a:xfrm>
            <a:off x="395280" y="3716280"/>
            <a:ext cx="21600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446400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WordArt 12"/>
          <p:cNvSpPr txBox="1"/>
          <p:nvPr/>
        </p:nvSpPr>
        <p:spPr>
          <a:xfrm>
            <a:off x="324000" y="400536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6732720" y="3789360"/>
            <a:ext cx="194472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6" name="Group 14"/>
          <p:cNvGrpSpPr/>
          <p:nvPr/>
        </p:nvGrpSpPr>
        <p:grpSpPr>
          <a:xfrm>
            <a:off x="6227640" y="3141720"/>
            <a:ext cx="1006560" cy="539640"/>
            <a:chOff x="6227640" y="3141720"/>
            <a:chExt cx="1006560" cy="539640"/>
          </a:xfrm>
        </p:grpSpPr>
        <p:grpSp>
          <p:nvGrpSpPr>
            <p:cNvPr id="377" name="Group 15"/>
            <p:cNvGrpSpPr/>
            <p:nvPr/>
          </p:nvGrpSpPr>
          <p:grpSpPr>
            <a:xfrm>
              <a:off x="6395400" y="3141720"/>
              <a:ext cx="599400" cy="433440"/>
              <a:chOff x="6395400" y="3141720"/>
              <a:chExt cx="599400" cy="433440"/>
            </a:xfrm>
          </p:grpSpPr>
          <p:sp>
            <p:nvSpPr>
              <p:cNvPr id="378" name="AutoShape 16"/>
              <p:cNvSpPr/>
              <p:nvPr/>
            </p:nvSpPr>
            <p:spPr>
              <a:xfrm>
                <a:off x="658728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AutoShape 17"/>
              <p:cNvSpPr/>
              <p:nvPr/>
            </p:nvSpPr>
            <p:spPr>
              <a:xfrm>
                <a:off x="668340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AutoShape 18"/>
              <p:cNvSpPr/>
              <p:nvPr/>
            </p:nvSpPr>
            <p:spPr>
              <a:xfrm>
                <a:off x="6779160" y="3141720"/>
                <a:ext cx="71640" cy="4334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19"/>
              <p:cNvSpPr/>
              <p:nvPr/>
            </p:nvSpPr>
            <p:spPr>
              <a:xfrm>
                <a:off x="6395400" y="3399120"/>
                <a:ext cx="599400" cy="172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2" name="AutoShape 20"/>
            <p:cNvSpPr/>
            <p:nvPr/>
          </p:nvSpPr>
          <p:spPr>
            <a:xfrm>
              <a:off x="6227640" y="3501720"/>
              <a:ext cx="1006560" cy="179640"/>
            </a:xfrm>
            <a:custGeom>
              <a:avLst/>
              <a:gdLst>
                <a:gd name="textAreaLeft" fmla="*/ 209520 w 1006560"/>
                <a:gd name="textAreaRight" fmla="*/ 797040 w 1006560"/>
                <a:gd name="textAreaTop" fmla="*/ 37440 h 179640"/>
                <a:gd name="textAreaBottom" fmla="*/ 14220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3" name="Oval 21"/>
          <p:cNvSpPr/>
          <p:nvPr/>
        </p:nvSpPr>
        <p:spPr>
          <a:xfrm>
            <a:off x="8604360" y="3789360"/>
            <a:ext cx="215640" cy="2160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658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WordArt 23"/>
          <p:cNvSpPr txBox="1"/>
          <p:nvPr/>
        </p:nvSpPr>
        <p:spPr>
          <a:xfrm>
            <a:off x="860436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6" name="Oval 24"/>
          <p:cNvSpPr/>
          <p:nvPr/>
        </p:nvSpPr>
        <p:spPr>
          <a:xfrm>
            <a:off x="1619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Oval 25"/>
          <p:cNvSpPr/>
          <p:nvPr/>
        </p:nvSpPr>
        <p:spPr>
          <a:xfrm>
            <a:off x="2843280" y="371628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Oval 26"/>
          <p:cNvSpPr/>
          <p:nvPr/>
        </p:nvSpPr>
        <p:spPr>
          <a:xfrm>
            <a:off x="802800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Oval 27"/>
          <p:cNvSpPr/>
          <p:nvPr/>
        </p:nvSpPr>
        <p:spPr>
          <a:xfrm>
            <a:off x="7380360" y="3789360"/>
            <a:ext cx="216000" cy="21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AutoShape 28"/>
          <p:cNvSpPr/>
          <p:nvPr/>
        </p:nvSpPr>
        <p:spPr>
          <a:xfrm>
            <a:off x="395280" y="242100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29"/>
          <p:cNvSpPr/>
          <p:nvPr/>
        </p:nvSpPr>
        <p:spPr>
          <a:xfrm>
            <a:off x="7956720" y="2421000"/>
            <a:ext cx="904680" cy="360360"/>
          </a:xfrm>
          <a:prstGeom prst="leftArrow">
            <a:avLst>
              <a:gd name="adj1" fmla="val 50000"/>
              <a:gd name="adj2" fmla="val 627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30"/>
          <p:cNvSpPr txBox="1"/>
          <p:nvPr/>
        </p:nvSpPr>
        <p:spPr>
          <a:xfrm>
            <a:off x="539640" y="1989000"/>
            <a:ext cx="106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3" name="WordArt 31"/>
          <p:cNvSpPr txBox="1"/>
          <p:nvPr/>
        </p:nvSpPr>
        <p:spPr>
          <a:xfrm>
            <a:off x="7812000" y="1916280"/>
            <a:ext cx="106704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 км/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AutoShape 32"/>
          <p:cNvSpPr/>
          <p:nvPr/>
        </p:nvSpPr>
        <p:spPr>
          <a:xfrm>
            <a:off x="287280" y="4581360"/>
            <a:ext cx="8569440" cy="287640"/>
          </a:xfrm>
          <a:prstGeom prst="leftRightArrow">
            <a:avLst>
              <a:gd name="adj1" fmla="val 50000"/>
              <a:gd name="adj2" fmla="val 5930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33"/>
          <p:cNvSpPr txBox="1"/>
          <p:nvPr/>
        </p:nvSpPr>
        <p:spPr>
          <a:xfrm>
            <a:off x="3843360" y="4941720"/>
            <a:ext cx="14572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4 к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WordArt 34"/>
          <p:cNvSpPr txBox="1"/>
          <p:nvPr/>
        </p:nvSpPr>
        <p:spPr>
          <a:xfrm>
            <a:off x="1776240" y="620640"/>
            <a:ext cx="559152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64 - (23 + 18) х 3 =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0" y="0"/>
          <a:ext cx="5400720" cy="4022640"/>
        </p:xfrm>
        <a:graphic>
          <a:graphicData uri="http://schemas.openxmlformats.org/drawingml/2006/table">
            <a:tbl>
              <a:tblPr/>
              <a:tblGrid>
                <a:gridCol w="893880"/>
                <a:gridCol w="45068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к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= 12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=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=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=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98" name="Text Box 137"/>
          <p:cNvSpPr/>
          <p:nvPr/>
        </p:nvSpPr>
        <p:spPr>
          <a:xfrm>
            <a:off x="620856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38"/>
          <p:cNvSpPr/>
          <p:nvPr/>
        </p:nvSpPr>
        <p:spPr>
          <a:xfrm>
            <a:off x="5508720" y="148428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U</a:t>
            </a:r>
            <a:endParaRPr b="1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9"/>
          <p:cNvSpPr/>
          <p:nvPr/>
        </p:nvSpPr>
        <p:spPr>
          <a:xfrm>
            <a:off x="6240240" y="227664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бл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0"/>
          <p:cNvSpPr/>
          <p:nvPr/>
        </p:nvSpPr>
        <p:spPr>
          <a:xfrm>
            <a:off x="6659640" y="18446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=41км/ч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41"/>
          <p:cNvSpPr/>
          <p:nvPr/>
        </p:nvSpPr>
        <p:spPr>
          <a:xfrm>
            <a:off x="9720" y="4221000"/>
            <a:ext cx="8789760" cy="271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0000"/>
                </a:solidFill>
                <a:uFillTx/>
                <a:latin typeface="Tahoma"/>
              </a:rPr>
              <a:t>ЗАДАНИЕ :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пишите формулу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хождения оставшегося расстояния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де: </a:t>
            </a: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i="1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рвоначальное расстояние,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U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cc0000"/>
                </a:solidFill>
                <a:latin typeface="Monotype Corsiva"/>
              </a:rPr>
              <a:t>U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корости объектов,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t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ремя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0"/>
          <a:ext cx="5400720" cy="4022640"/>
        </p:xfrm>
        <a:graphic>
          <a:graphicData uri="http://schemas.openxmlformats.org/drawingml/2006/table">
            <a:tbl>
              <a:tblPr/>
              <a:tblGrid>
                <a:gridCol w="893880"/>
                <a:gridCol w="45068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к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= 12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=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=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 - (23+18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=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04" name="Text Box 26"/>
          <p:cNvSpPr/>
          <p:nvPr/>
        </p:nvSpPr>
        <p:spPr>
          <a:xfrm>
            <a:off x="59220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95720" y="4149720"/>
            <a:ext cx="3854880" cy="703440"/>
          </a:xfrm>
          <a:prstGeom prst="rect">
            <a:avLst/>
          </a:prstGeom>
          <a:solidFill>
            <a:srgbClr val="f0ea00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 S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– </a:t>
            </a:r>
            <a:r>
              <a:rPr b="1" lang="en-US" sz="4000" spc="-1" strike="noStrike">
                <a:solidFill>
                  <a:srgbClr val="cc0000"/>
                </a:solidFill>
                <a:latin typeface="Monotype Corsiva"/>
              </a:rPr>
              <a:t>U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сбл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 · 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8"/>
          <p:cNvSpPr/>
          <p:nvPr/>
        </p:nvSpPr>
        <p:spPr>
          <a:xfrm>
            <a:off x="923760" y="5084640"/>
            <a:ext cx="7620840" cy="1557000"/>
          </a:xfrm>
          <a:prstGeom prst="rect">
            <a:avLst/>
          </a:prstGeom>
          <a:solidFill>
            <a:srgbClr val="f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Чтобы найти оставшееся между объекта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расстояние, нужно из первонач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расстояния  вычесть произведение скорост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ближения  и времени движения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способ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0680" indent="-3106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18 + 23 = 41 (км/ч) – скорость сближения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0680" indent="-3106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41 х 3 = 123 (км) – прошли теплоходы за 3 ч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0680" indent="-3106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164 – 123 = 41 (км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0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Запись решения выражение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164 - (23 + 18)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3 = 41 (км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II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способ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х 3 = 54 (км) – прошёл белый теплохо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23 х 3 = 69 (км) – прошёл синий теплохо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54 + 69 = 123 (км) – прошли оба теплохо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164 – 123 = 41 (км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-0.01225 L 0 -0.08439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-16920" y="1413000"/>
            <a:ext cx="938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41 километр будет 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между теплоходами 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ерез 3 часа после выхода.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14" name="Ink 181"/>
          <p:cNvSpPr/>
          <p:nvPr/>
        </p:nvSpPr>
        <p:spPr>
          <a:xfrm>
            <a:off x="2598840" y="3313080"/>
            <a:ext cx="3778200" cy="1800"/>
          </a:xfrm>
          <a:custGeom>
            <a:avLst/>
            <a:gdLst/>
            <a:ahLst/>
            <a:rect l="l" t="t" r="r" b="b"/>
            <a:pathLst>
              <a:path w="10494" h="1">
                <a:moveTo>
                  <a:pt x="7218" y="9203"/>
                </a:moveTo>
                <a:cubicBezTo>
                  <a:pt x="10716" y="9203"/>
                  <a:pt x="14213" y="9203"/>
                  <a:pt x="17711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Ink 182"/>
          <p:cNvSpPr/>
          <p:nvPr/>
        </p:nvSpPr>
        <p:spPr>
          <a:xfrm>
            <a:off x="3875040" y="3768840"/>
            <a:ext cx="2546280" cy="44280"/>
          </a:xfrm>
          <a:custGeom>
            <a:avLst/>
            <a:gdLst/>
            <a:ahLst/>
            <a:rect l="l" t="t" r="r" b="b"/>
            <a:pathLst>
              <a:path w="7071" h="125">
                <a:moveTo>
                  <a:pt x="10765" y="10592"/>
                </a:moveTo>
                <a:cubicBezTo>
                  <a:pt x="12852" y="10592"/>
                  <a:pt x="15002" y="10709"/>
                  <a:pt x="17066" y="10567"/>
                </a:cubicBezTo>
                <a:cubicBezTo>
                  <a:pt x="17126" y="10563"/>
                  <a:pt x="17168" y="10552"/>
                  <a:pt x="17214" y="10542"/>
                </a:cubicBezTo>
                <a:cubicBezTo>
                  <a:pt x="17268" y="10530"/>
                  <a:pt x="17315" y="10529"/>
                  <a:pt x="17363" y="10517"/>
                </a:cubicBezTo>
                <a:cubicBezTo>
                  <a:pt x="17407" y="10506"/>
                  <a:pt x="17446" y="10502"/>
                  <a:pt x="17487" y="10492"/>
                </a:cubicBezTo>
                <a:cubicBezTo>
                  <a:pt x="17526" y="10482"/>
                  <a:pt x="17509" y="10473"/>
                  <a:pt x="17562" y="10468"/>
                </a:cubicBezTo>
                <a:cubicBezTo>
                  <a:pt x="17651" y="10460"/>
                  <a:pt x="17745" y="10468"/>
                  <a:pt x="17835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1" name="pu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68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68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приседание 5"/>
          <p:cNvPicPr/>
          <p:nvPr/>
        </p:nvPicPr>
        <p:blipFill>
          <a:blip r:embed="rId1"/>
          <a:stretch/>
        </p:blipFill>
        <p:spPr>
          <a:xfrm>
            <a:off x="1476360" y="765000"/>
            <a:ext cx="6086520" cy="44294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5"/>
          <p:cNvSpPr/>
          <p:nvPr/>
        </p:nvSpPr>
        <p:spPr>
          <a:xfrm>
            <a:off x="1007640" y="380880"/>
            <a:ext cx="71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аз, два, три, четыре, пять,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чинаем приседать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ешение приме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68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68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68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5"/>
          <p:cNvSpPr/>
          <p:nvPr/>
        </p:nvSpPr>
        <p:spPr>
          <a:xfrm>
            <a:off x="2303640" y="2708280"/>
            <a:ext cx="43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 001 05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832 974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 169 08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1" name="Group 16"/>
          <p:cNvGrpSpPr/>
          <p:nvPr/>
        </p:nvGrpSpPr>
        <p:grpSpPr>
          <a:xfrm>
            <a:off x="395280" y="907920"/>
            <a:ext cx="1790640" cy="1676520"/>
            <a:chOff x="395280" y="907920"/>
            <a:chExt cx="1790640" cy="1676520"/>
          </a:xfrm>
        </p:grpSpPr>
        <p:sp>
          <p:nvSpPr>
            <p:cNvPr id="422" name="Oval 9"/>
            <p:cNvSpPr/>
            <p:nvPr/>
          </p:nvSpPr>
          <p:spPr>
            <a:xfrm>
              <a:off x="630000" y="1155600"/>
              <a:ext cx="1320480" cy="131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10"/>
            <p:cNvSpPr/>
            <p:nvPr/>
          </p:nvSpPr>
          <p:spPr>
            <a:xfrm>
              <a:off x="934920" y="1484280"/>
              <a:ext cx="23616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1409400" y="1484280"/>
              <a:ext cx="23616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AutoShape 12"/>
            <p:cNvSpPr/>
            <p:nvPr/>
          </p:nvSpPr>
          <p:spPr>
            <a:xfrm rot="16200000">
              <a:off x="1158480" y="1719360"/>
              <a:ext cx="263520" cy="71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WordArt 13"/>
            <p:cNvSpPr txBox="1"/>
            <p:nvPr/>
          </p:nvSpPr>
          <p:spPr>
            <a:xfrm>
              <a:off x="395280" y="907920"/>
              <a:ext cx="1790640" cy="1676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102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Где ошибка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1002960" y="1549440"/>
              <a:ext cx="10116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1477800" y="1549440"/>
              <a:ext cx="9972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C 0.00086 -0.00417 0.00121 -0.03843 0.00677 -0.05185 C 0.01232 -0.06528 0.01996 -0.07407 0.03385 -0.07963 C 0.04774 -0.08519 0.07204 -0.08426 0.0901 -0.08519 C 0.10816 -0.08611 0.12864 -0.09028 0.14218 -0.08519 C 0.15573 -0.08009 0.16545 -0.06898 0.17135 -0.05463 C 0.17725 -0.04028 0.17691 -0.00185 0.1776 0.00093 C 0.17829 0.0037 0.17934 -0.02361 0.17552 -0.03796 C 0.1717 -0.05232 0.16579 -0.07546 0.15468 -0.08519 C 0.14357 -0.09491 0.12829 -0.0963 0.10885 -0.0963 C 0.08941 -0.0963 0.05434 -0.09074 0.03802 -0.08519 C 0.0217 -0.07963 0.01649 -0.07361 0.01093 -0.06296 C 0.00538 -0.05232 0.00607 -0.03102 0.00468 -0.0213 C 0.00329 -0.01157 0.00017 0.00602 0.00052 0.00093 Z">
                                      <p:cBhvr>
                                        <p:cTn id="38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2374920" y="1773360"/>
            <a:ext cx="43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 001 05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832 974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 169 08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16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8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0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7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627280" y="4149720"/>
            <a:ext cx="4105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440440" y="260280"/>
            <a:ext cx="411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оверь себя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3"/>
          <p:cNvSpPr/>
          <p:nvPr/>
        </p:nvSpPr>
        <p:spPr>
          <a:xfrm>
            <a:off x="826920" y="1700280"/>
            <a:ext cx="43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50380 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700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534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35268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39802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50920" y="206064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60840" y="4005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5" name="Group 17"/>
          <p:cNvGrpSpPr/>
          <p:nvPr/>
        </p:nvGrpSpPr>
        <p:grpSpPr>
          <a:xfrm>
            <a:off x="4788000" y="836640"/>
            <a:ext cx="1790640" cy="1676520"/>
            <a:chOff x="4788000" y="836640"/>
            <a:chExt cx="1790640" cy="1676520"/>
          </a:xfrm>
        </p:grpSpPr>
        <p:sp>
          <p:nvSpPr>
            <p:cNvPr id="436" name="Oval 18"/>
            <p:cNvSpPr/>
            <p:nvPr/>
          </p:nvSpPr>
          <p:spPr>
            <a:xfrm>
              <a:off x="5022720" y="1084320"/>
              <a:ext cx="1320480" cy="131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9"/>
            <p:cNvSpPr/>
            <p:nvPr/>
          </p:nvSpPr>
          <p:spPr>
            <a:xfrm>
              <a:off x="5327640" y="1413000"/>
              <a:ext cx="23616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Oval 20"/>
            <p:cNvSpPr/>
            <p:nvPr/>
          </p:nvSpPr>
          <p:spPr>
            <a:xfrm>
              <a:off x="5802120" y="1413000"/>
              <a:ext cx="23616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AutoShape 21"/>
            <p:cNvSpPr/>
            <p:nvPr/>
          </p:nvSpPr>
          <p:spPr>
            <a:xfrm rot="16200000">
              <a:off x="5551200" y="1648080"/>
              <a:ext cx="263520" cy="71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WordArt 22"/>
            <p:cNvSpPr txBox="1"/>
            <p:nvPr/>
          </p:nvSpPr>
          <p:spPr>
            <a:xfrm>
              <a:off x="4788000" y="836640"/>
              <a:ext cx="1790640" cy="1676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102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Где ошибка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5395680" y="1478160"/>
              <a:ext cx="10116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5870520" y="1478160"/>
              <a:ext cx="9972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C 0.00086 -0.00417 0.00121 -0.03843 0.00677 -0.05185 C 0.01232 -0.06528 0.01996 -0.07407 0.03385 -0.07963 C 0.04774 -0.08519 0.07204 -0.08426 0.0901 -0.08519 C 0.10816 -0.08611 0.12864 -0.09028 0.14218 -0.08519 C 0.15573 -0.08009 0.16545 -0.06898 0.17135 -0.05463 C 0.17725 -0.04028 0.17691 -0.00185 0.1776 0.00093 C 0.17829 0.0037 0.17934 -0.02361 0.17552 -0.03796 C 0.1717 -0.05232 0.16579 -0.07546 0.15468 -0.08519 C 0.14357 -0.09491 0.12829 -0.0963 0.10885 -0.0963 C 0.08941 -0.0963 0.05434 -0.09074 0.03802 -0.08519 C 0.0217 -0.07963 0.01649 -0.07361 0.01093 -0.06296 C 0.00538 -0.05232 0.00607 -0.03102 0.00468 -0.0213 C 0.00329 -0.01157 0.00017 0.00602 0.00052 0.00093 Z">
                                      <p:cBhvr>
                                        <p:cTn id="3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"/>
          <p:cNvSpPr/>
          <p:nvPr/>
        </p:nvSpPr>
        <p:spPr>
          <a:xfrm>
            <a:off x="826920" y="1700280"/>
            <a:ext cx="43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50380 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700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4534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35268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39802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50920" y="206064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60840" y="4005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6046920" y="1700280"/>
            <a:ext cx="30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5038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7009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_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281560" y="2205000"/>
            <a:ext cx="58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2564280" y="260280"/>
            <a:ext cx="411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оверь себя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324000" y="1461960"/>
            <a:ext cx="302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50380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 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7009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45342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35268_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398022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395280" y="1773360"/>
            <a:ext cx="52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0840" y="31417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635280" y="1557360"/>
            <a:ext cx="51847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50380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  </a:t>
            </a:r>
            <a:r>
              <a:rPr b="1" lang="ru-RU" sz="800" spc="-1" strike="noStrike" u="sng">
                <a:solidFill>
                  <a:srgbClr val="ffff00"/>
                </a:solidFill>
                <a:uFillTx/>
                <a:latin typeface="Tahoma"/>
              </a:rPr>
              <a:t>  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7009_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45342</a:t>
            </a:r>
            <a:r>
              <a:rPr b="1" lang="ru-RU" sz="48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3526</a:t>
            </a: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6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____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353113420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5424480" y="1700280"/>
            <a:ext cx="58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446560" y="306360"/>
            <a:ext cx="411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оверь себя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429200" y="895320"/>
            <a:ext cx="342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590730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58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87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87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5016600" y="836640"/>
            <a:ext cx="147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|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97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69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7" name="Group 37"/>
          <p:cNvGrpSpPr/>
          <p:nvPr/>
        </p:nvGrpSpPr>
        <p:grpSpPr>
          <a:xfrm>
            <a:off x="5364000" y="4653000"/>
            <a:ext cx="1791000" cy="1676520"/>
            <a:chOff x="5364000" y="4653000"/>
            <a:chExt cx="1791000" cy="1676520"/>
          </a:xfrm>
        </p:grpSpPr>
        <p:sp>
          <p:nvSpPr>
            <p:cNvPr id="458" name="Oval 38"/>
            <p:cNvSpPr/>
            <p:nvPr/>
          </p:nvSpPr>
          <p:spPr>
            <a:xfrm>
              <a:off x="5599080" y="4900680"/>
              <a:ext cx="1320840" cy="131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5904000" y="5229360"/>
              <a:ext cx="23652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78480" y="5229360"/>
              <a:ext cx="236520" cy="2300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AutoShape 41"/>
            <p:cNvSpPr/>
            <p:nvPr/>
          </p:nvSpPr>
          <p:spPr>
            <a:xfrm rot="16200000">
              <a:off x="6127560" y="5464080"/>
              <a:ext cx="263520" cy="71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WordArt 42"/>
            <p:cNvSpPr txBox="1"/>
            <p:nvPr/>
          </p:nvSpPr>
          <p:spPr>
            <a:xfrm>
              <a:off x="5364000" y="4653000"/>
              <a:ext cx="1791000" cy="1676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102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Где ошибка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63" name="Oval 43"/>
            <p:cNvSpPr/>
            <p:nvPr/>
          </p:nvSpPr>
          <p:spPr>
            <a:xfrm>
              <a:off x="5972040" y="5294520"/>
              <a:ext cx="10152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Oval 44"/>
            <p:cNvSpPr/>
            <p:nvPr/>
          </p:nvSpPr>
          <p:spPr>
            <a:xfrm>
              <a:off x="6446880" y="5294520"/>
              <a:ext cx="10008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0393 C -0.00278 -0.00902 -0.00243 -0.04328 0.00312 -0.05671 C 0.00868 -0.07014 0.01632 -0.07893 0.03021 -0.08449 C 0.0441 -0.09004 0.0684 -0.08912 0.08646 -0.09004 C 0.10451 -0.09097 0.125 -0.09514 0.13854 -0.09004 C 0.15208 -0.08495 0.1618 -0.07384 0.16771 -0.05949 C 0.17361 -0.04514 0.17326 -0.00671 0.17396 -0.00393 C 0.17465 -0.00115 0.17569 -0.02847 0.17187 -0.04282 C 0.16805 -0.05717 0.16215 -0.08032 0.15104 -0.09004 C 0.13993 -0.09977 0.12465 -0.10115 0.10521 -0.10115 C 0.08576 -0.10115 0.05069 -0.0956 0.03437 -0.09004 C 0.01805 -0.08449 0.01285 -0.07847 0.00729 -0.06782 C 0.00173 -0.05717 0.00243 -0.03588 0.00104 -0.02615 C -0.00035 -0.01643 -0.00347 0.00116 -0.00313 -0.00393 Z">
                                      <p:cBhvr>
                                        <p:cTn id="396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429200" y="895320"/>
            <a:ext cx="342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590730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582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87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873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202720" y="836640"/>
            <a:ext cx="25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|</a:t>
            </a: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97___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00</a:t>
            </a:r>
            <a:endParaRPr b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688120" y="-52560"/>
            <a:ext cx="411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оверь себя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70" name="Ink 181"/>
          <p:cNvSpPr/>
          <p:nvPr/>
        </p:nvSpPr>
        <p:spPr>
          <a:xfrm>
            <a:off x="2598840" y="3303720"/>
            <a:ext cx="3822480" cy="9360"/>
          </a:xfrm>
          <a:custGeom>
            <a:avLst/>
            <a:gdLst/>
            <a:ahLst/>
            <a:rect l="l" t="t" r="r" b="b"/>
            <a:pathLst>
              <a:path w="10618" h="26">
                <a:moveTo>
                  <a:pt x="7218" y="9178"/>
                </a:moveTo>
                <a:cubicBezTo>
                  <a:pt x="7251" y="9182"/>
                  <a:pt x="7260" y="9201"/>
                  <a:pt x="7293" y="9203"/>
                </a:cubicBezTo>
                <a:cubicBezTo>
                  <a:pt x="10778" y="9418"/>
                  <a:pt x="14343" y="9203"/>
                  <a:pt x="17835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Ink 182"/>
          <p:cNvSpPr/>
          <p:nvPr/>
        </p:nvSpPr>
        <p:spPr>
          <a:xfrm>
            <a:off x="3875040" y="3821040"/>
            <a:ext cx="2546280" cy="1800"/>
          </a:xfrm>
          <a:custGeom>
            <a:avLst/>
            <a:gdLst/>
            <a:ahLst/>
            <a:rect l="l" t="t" r="r" b="b"/>
            <a:pathLst>
              <a:path w="7071" h="1">
                <a:moveTo>
                  <a:pt x="10765" y="10616"/>
                </a:moveTo>
                <a:cubicBezTo>
                  <a:pt x="13122" y="10616"/>
                  <a:pt x="15478" y="10616"/>
                  <a:pt x="17835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Ink 183"/>
          <p:cNvSpPr/>
          <p:nvPr/>
        </p:nvSpPr>
        <p:spPr>
          <a:xfrm>
            <a:off x="1938240" y="2232000"/>
            <a:ext cx="3892680" cy="1440"/>
          </a:xfrm>
          <a:custGeom>
            <a:avLst/>
            <a:gdLst/>
            <a:ahLst/>
            <a:rect l="l" t="t" r="r" b="b"/>
            <a:pathLst>
              <a:path w="10815" h="1">
                <a:moveTo>
                  <a:pt x="5383" y="6201"/>
                </a:moveTo>
                <a:cubicBezTo>
                  <a:pt x="8996" y="6201"/>
                  <a:pt x="19786" y="6201"/>
                  <a:pt x="16173" y="6201"/>
                </a:cubicBezTo>
                <a:cubicBezTo>
                  <a:pt x="16098" y="6201"/>
                  <a:pt x="16024" y="6201"/>
                  <a:pt x="15949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1" name="push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ea00"/>
                </a:solidFill>
                <a:latin typeface="Tahoma"/>
              </a:rPr>
              <a:t>Проверка </a:t>
            </a:r>
            <a:br>
              <a:rPr sz="4000"/>
            </a:br>
            <a:r>
              <a:rPr b="1" lang="ru-RU" sz="4000" spc="-1" strike="noStrike">
                <a:solidFill>
                  <a:srgbClr val="f0ea00"/>
                </a:solidFill>
                <a:latin typeface="Tahoma"/>
              </a:rPr>
              <a:t>результативности </a:t>
            </a:r>
            <a:br>
              <a:rPr sz="4000"/>
            </a:br>
            <a:r>
              <a:rPr b="1" lang="ru-RU" sz="4000" spc="-1" strike="noStrike">
                <a:solidFill>
                  <a:srgbClr val="f0ea00"/>
                </a:solidFill>
                <a:latin typeface="Tahoma"/>
              </a:rPr>
              <a:t>урока</a:t>
            </a:r>
            <a:br>
              <a:rPr sz="4000"/>
            </a:b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5" name="Organization Chart 5"/>
          <p:cNvGrpSpPr/>
          <p:nvPr/>
        </p:nvGrpSpPr>
        <p:grpSpPr>
          <a:xfrm>
            <a:off x="0" y="1844640"/>
            <a:ext cx="9143280" cy="4751280"/>
            <a:chOff x="0" y="1844640"/>
            <a:chExt cx="9143280" cy="4751280"/>
          </a:xfrm>
        </p:grpSpPr>
        <p:cxnSp>
          <p:nvCxnSpPr>
            <p:cNvPr id="476" name="_s3076"/>
            <p:cNvCxnSpPr>
              <a:stCxn id="477" idx="0"/>
              <a:endCxn id="478" idx="2"/>
            </p:cNvCxnSpPr>
            <p:nvPr/>
          </p:nvCxnSpPr>
          <p:spPr>
            <a:xfrm flipV="1" rot="16200000">
              <a:off x="5695920" y="2619360"/>
              <a:ext cx="950760" cy="3200760"/>
            </a:xfrm>
            <a:prstGeom prst="bentConnector3">
              <a:avLst>
                <a:gd name="adj1" fmla="val 13901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479" name="_s3077"/>
            <p:cNvCxnSpPr>
              <a:stCxn id="480" idx="0"/>
              <a:endCxn id="478" idx="2"/>
            </p:cNvCxnSpPr>
            <p:nvPr/>
          </p:nvCxnSpPr>
          <p:spPr>
            <a:xfrm flipV="1">
              <a:off x="4571280" y="3744360"/>
              <a:ext cx="3240" cy="95076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481" name="_s3078"/>
            <p:cNvCxnSpPr>
              <a:stCxn id="482" idx="0"/>
              <a:endCxn id="478" idx="2"/>
            </p:cNvCxnSpPr>
            <p:nvPr/>
          </p:nvCxnSpPr>
          <p:spPr>
            <a:xfrm flipH="1" flipV="1" rot="5400000">
              <a:off x="2495880" y="2619360"/>
              <a:ext cx="950760" cy="3200760"/>
            </a:xfrm>
            <a:prstGeom prst="bentConnector3">
              <a:avLst>
                <a:gd name="adj1" fmla="val 13901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478" name="_s3079"/>
            <p:cNvSpPr/>
            <p:nvPr/>
          </p:nvSpPr>
          <p:spPr>
            <a:xfrm>
              <a:off x="3200040" y="184464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Что такое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ближения ?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_s3080"/>
            <p:cNvSpPr/>
            <p:nvPr/>
          </p:nvSpPr>
          <p:spPr>
            <a:xfrm>
              <a:off x="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ближаются объекты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за единицу времени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_s3081"/>
            <p:cNvSpPr/>
            <p:nvPr/>
          </p:nvSpPr>
          <p:spPr>
            <a:xfrm>
              <a:off x="320004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отдаляются объекты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за единицу времени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_s3082"/>
            <p:cNvSpPr/>
            <p:nvPr/>
          </p:nvSpPr>
          <p:spPr>
            <a:xfrm>
              <a:off x="640044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ближаются объекты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  <p:sndAc>
      <p:stSnd>
        <p:snd r:embed="rId1" name="push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4" name="Organization Chart 3"/>
          <p:cNvGrpSpPr/>
          <p:nvPr/>
        </p:nvGrpSpPr>
        <p:grpSpPr>
          <a:xfrm>
            <a:off x="0" y="1844640"/>
            <a:ext cx="9143280" cy="4751640"/>
            <a:chOff x="0" y="1844640"/>
            <a:chExt cx="9143280" cy="4751640"/>
          </a:xfrm>
        </p:grpSpPr>
        <p:cxnSp>
          <p:nvCxnSpPr>
            <p:cNvPr id="485" name="_s4100"/>
            <p:cNvCxnSpPr>
              <a:stCxn id="486" idx="0"/>
              <a:endCxn id="487" idx="2"/>
            </p:cNvCxnSpPr>
            <p:nvPr/>
          </p:nvCxnSpPr>
          <p:spPr>
            <a:xfrm flipV="1" rot="16200000">
              <a:off x="5693040" y="2619720"/>
              <a:ext cx="956880" cy="3200760"/>
            </a:xfrm>
            <a:prstGeom prst="bentConnector3">
              <a:avLst>
                <a:gd name="adj1" fmla="val 11930"/>
              </a:avLst>
            </a:prstGeom>
            <a:ln w="0">
              <a:noFill/>
            </a:ln>
          </p:spPr>
        </p:cxnSp>
        <p:cxnSp>
          <p:nvCxnSpPr>
            <p:cNvPr id="488" name="_s4101"/>
            <p:cNvCxnSpPr>
              <a:stCxn id="489" idx="0"/>
              <a:endCxn id="487" idx="2"/>
            </p:cNvCxnSpPr>
            <p:nvPr/>
          </p:nvCxnSpPr>
          <p:spPr>
            <a:xfrm flipV="1">
              <a:off x="4571280" y="3741840"/>
              <a:ext cx="3240" cy="95688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490" name="_s4102"/>
            <p:cNvCxnSpPr>
              <a:stCxn id="491" idx="0"/>
              <a:endCxn id="487" idx="2"/>
            </p:cNvCxnSpPr>
            <p:nvPr/>
          </p:nvCxnSpPr>
          <p:spPr>
            <a:xfrm flipH="1" flipV="1" rot="5400000">
              <a:off x="2492640" y="2619720"/>
              <a:ext cx="956880" cy="3200760"/>
            </a:xfrm>
            <a:prstGeom prst="bentConnector3">
              <a:avLst>
                <a:gd name="adj1" fmla="val 11930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487" name="_s4103"/>
            <p:cNvSpPr/>
            <p:nvPr/>
          </p:nvSpPr>
          <p:spPr>
            <a:xfrm>
              <a:off x="3200040" y="1844640"/>
              <a:ext cx="2742840" cy="189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Что такое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ближения ?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_s4104"/>
            <p:cNvSpPr/>
            <p:nvPr/>
          </p:nvSpPr>
          <p:spPr>
            <a:xfrm>
              <a:off x="0" y="4698720"/>
              <a:ext cx="2742840" cy="1897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ближаются объекты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за единицу времени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_s4105"/>
            <p:cNvSpPr/>
            <p:nvPr/>
          </p:nvSpPr>
          <p:spPr>
            <a:xfrm>
              <a:off x="3200040" y="4698720"/>
              <a:ext cx="2742840" cy="1897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_s4106"/>
            <p:cNvSpPr/>
            <p:nvPr/>
          </p:nvSpPr>
          <p:spPr>
            <a:xfrm>
              <a:off x="6400440" y="4698720"/>
              <a:ext cx="2742840" cy="1897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ld"/>
    <p:sndAc>
      <p:stSnd>
        <p:snd r:embed="rId1" name="push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3" name="Organization Chart 3"/>
          <p:cNvGrpSpPr/>
          <p:nvPr/>
        </p:nvGrpSpPr>
        <p:grpSpPr>
          <a:xfrm>
            <a:off x="0" y="1484280"/>
            <a:ext cx="9143280" cy="5112000"/>
            <a:chOff x="0" y="1484280"/>
            <a:chExt cx="9143280" cy="5112000"/>
          </a:xfrm>
        </p:grpSpPr>
        <p:cxnSp>
          <p:nvCxnSpPr>
            <p:cNvPr id="494" name="_s5124"/>
            <p:cNvCxnSpPr>
              <a:stCxn id="495" idx="0"/>
              <a:endCxn id="496" idx="2"/>
            </p:cNvCxnSpPr>
            <p:nvPr/>
          </p:nvCxnSpPr>
          <p:spPr>
            <a:xfrm flipV="1" rot="16200000">
              <a:off x="5659920" y="2439720"/>
              <a:ext cx="1023120" cy="3200760"/>
            </a:xfrm>
            <a:prstGeom prst="bentConnector3">
              <a:avLst>
                <a:gd name="adj1" fmla="val 13903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497" name="_s5125"/>
            <p:cNvCxnSpPr>
              <a:stCxn id="498" idx="0"/>
              <a:endCxn id="496" idx="2"/>
            </p:cNvCxnSpPr>
            <p:nvPr/>
          </p:nvCxnSpPr>
          <p:spPr>
            <a:xfrm flipV="1">
              <a:off x="4571280" y="352872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499" name="_s5126"/>
            <p:cNvCxnSpPr>
              <a:stCxn id="500" idx="0"/>
              <a:endCxn id="496" idx="2"/>
            </p:cNvCxnSpPr>
            <p:nvPr/>
          </p:nvCxnSpPr>
          <p:spPr>
            <a:xfrm flipH="1" flipV="1" rot="5400000">
              <a:off x="2459520" y="2439720"/>
              <a:ext cx="1023120" cy="3200760"/>
            </a:xfrm>
            <a:prstGeom prst="bentConnector3">
              <a:avLst>
                <a:gd name="adj1" fmla="val 13903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496" name="_s5127"/>
            <p:cNvSpPr/>
            <p:nvPr/>
          </p:nvSpPr>
          <p:spPr>
            <a:xfrm>
              <a:off x="3200040" y="14842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з двух станций выехали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дновременно два катера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 встретились через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2 часа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. Найди расстояние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между станциями,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если скорость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-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20 км/ч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30 км/ч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_s5128"/>
            <p:cNvSpPr/>
            <p:nvPr/>
          </p:nvSpPr>
          <p:spPr>
            <a:xfrm>
              <a:off x="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90 км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_s5129"/>
            <p:cNvSpPr/>
            <p:nvPr/>
          </p:nvSpPr>
          <p:spPr>
            <a:xfrm>
              <a:off x="32000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100 км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_s5130"/>
            <p:cNvSpPr/>
            <p:nvPr/>
          </p:nvSpPr>
          <p:spPr>
            <a:xfrm>
              <a:off x="64004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110 км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  <p:sndAc>
      <p:stSnd>
        <p:snd r:embed="rId1" name="push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2" name="Organization Chart 3"/>
          <p:cNvGrpSpPr/>
          <p:nvPr/>
        </p:nvGrpSpPr>
        <p:grpSpPr>
          <a:xfrm>
            <a:off x="0" y="1484280"/>
            <a:ext cx="9143280" cy="5112000"/>
            <a:chOff x="0" y="1484280"/>
            <a:chExt cx="9143280" cy="5112000"/>
          </a:xfrm>
        </p:grpSpPr>
        <p:cxnSp>
          <p:nvCxnSpPr>
            <p:cNvPr id="503" name="_s6148"/>
            <p:cNvCxnSpPr>
              <a:stCxn id="504" idx="0"/>
              <a:endCxn id="505" idx="2"/>
            </p:cNvCxnSpPr>
            <p:nvPr/>
          </p:nvCxnSpPr>
          <p:spPr>
            <a:xfrm flipV="1" rot="16200000">
              <a:off x="5659920" y="2439720"/>
              <a:ext cx="1023120" cy="3200760"/>
            </a:xfrm>
            <a:prstGeom prst="bentConnector3">
              <a:avLst>
                <a:gd name="adj1" fmla="val 13903"/>
              </a:avLst>
            </a:prstGeom>
            <a:ln w="0">
              <a:noFill/>
            </a:ln>
          </p:spPr>
        </p:cxnSp>
        <p:cxnSp>
          <p:nvCxnSpPr>
            <p:cNvPr id="506" name="_s6149"/>
            <p:cNvCxnSpPr>
              <a:stCxn id="507" idx="0"/>
              <a:endCxn id="505" idx="2"/>
            </p:cNvCxnSpPr>
            <p:nvPr/>
          </p:nvCxnSpPr>
          <p:spPr>
            <a:xfrm flipV="1">
              <a:off x="4571280" y="352872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08" name="_s6150"/>
            <p:cNvCxnSpPr>
              <a:stCxn id="509" idx="0"/>
              <a:endCxn id="505" idx="2"/>
            </p:cNvCxnSpPr>
            <p:nvPr/>
          </p:nvCxnSpPr>
          <p:spPr>
            <a:xfrm flipH="1" flipV="1" rot="5400000">
              <a:off x="2459520" y="2439720"/>
              <a:ext cx="1023120" cy="3200760"/>
            </a:xfrm>
            <a:prstGeom prst="bentConnector3">
              <a:avLst>
                <a:gd name="adj1" fmla="val 13903"/>
              </a:avLst>
            </a:prstGeom>
            <a:ln w="0">
              <a:noFill/>
            </a:ln>
          </p:spPr>
        </p:cxnSp>
        <p:sp>
          <p:nvSpPr>
            <p:cNvPr id="505" name="_s6151"/>
            <p:cNvSpPr/>
            <p:nvPr/>
          </p:nvSpPr>
          <p:spPr>
            <a:xfrm>
              <a:off x="3200040" y="14842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з двух станций выехали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дновременно два катера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 встретились через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2 часа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. Найди расстояние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между станциями,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если скорость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-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20 км/ч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30 км/ч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_s6152"/>
            <p:cNvSpPr/>
            <p:nvPr/>
          </p:nvSpPr>
          <p:spPr>
            <a:xfrm>
              <a:off x="0" y="455148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_s6153"/>
            <p:cNvSpPr/>
            <p:nvPr/>
          </p:nvSpPr>
          <p:spPr>
            <a:xfrm>
              <a:off x="32000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100 км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_s6154"/>
            <p:cNvSpPr/>
            <p:nvPr/>
          </p:nvSpPr>
          <p:spPr>
            <a:xfrm>
              <a:off x="6400440" y="455148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ld"/>
    <p:sndAc>
      <p:stSnd>
        <p:snd r:embed="rId1" name="push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1" name="Organization Chart 3"/>
          <p:cNvGrpSpPr/>
          <p:nvPr/>
        </p:nvGrpSpPr>
        <p:grpSpPr>
          <a:xfrm>
            <a:off x="0" y="1484280"/>
            <a:ext cx="9143280" cy="5112000"/>
            <a:chOff x="0" y="1484280"/>
            <a:chExt cx="9143280" cy="5112000"/>
          </a:xfrm>
        </p:grpSpPr>
        <p:cxnSp>
          <p:nvCxnSpPr>
            <p:cNvPr id="512" name="_s7172"/>
            <p:cNvCxnSpPr>
              <a:stCxn id="513" idx="0"/>
              <a:endCxn id="514" idx="2"/>
            </p:cNvCxnSpPr>
            <p:nvPr/>
          </p:nvCxnSpPr>
          <p:spPr>
            <a:xfrm flipV="1" rot="16200000">
              <a:off x="56599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15" name="_s7173"/>
            <p:cNvCxnSpPr>
              <a:stCxn id="516" idx="0"/>
              <a:endCxn id="514" idx="2"/>
            </p:cNvCxnSpPr>
            <p:nvPr/>
          </p:nvCxnSpPr>
          <p:spPr>
            <a:xfrm flipV="1">
              <a:off x="4571280" y="352872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17" name="_s7174"/>
            <p:cNvCxnSpPr>
              <a:stCxn id="518" idx="0"/>
              <a:endCxn id="514" idx="2"/>
            </p:cNvCxnSpPr>
            <p:nvPr/>
          </p:nvCxnSpPr>
          <p:spPr>
            <a:xfrm flipH="1" flipV="1" rot="5400000">
              <a:off x="24595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514" name="_s7175"/>
            <p:cNvSpPr/>
            <p:nvPr/>
          </p:nvSpPr>
          <p:spPr>
            <a:xfrm>
              <a:off x="3200040" y="14842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ак най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ремя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движения?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_s7176"/>
            <p:cNvSpPr/>
            <p:nvPr/>
          </p:nvSpPr>
          <p:spPr>
            <a:xfrm>
              <a:off x="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t= S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· v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_s7177"/>
            <p:cNvSpPr/>
            <p:nvPr/>
          </p:nvSpPr>
          <p:spPr>
            <a:xfrm>
              <a:off x="32000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t = v </a:t>
              </a:r>
              <a:r>
                <a:rPr b="0" i="1" lang="ru-RU" sz="40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 S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_s7178"/>
            <p:cNvSpPr/>
            <p:nvPr/>
          </p:nvSpPr>
          <p:spPr>
            <a:xfrm>
              <a:off x="64004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t = S</a:t>
              </a:r>
              <a:r>
                <a:rPr b="0" i="1" lang="ru-RU" sz="4000" spc="-1" strike="noStrike">
                  <a:solidFill>
                    <a:srgbClr val="000000"/>
                  </a:solidFill>
                  <a:latin typeface="Tahoma"/>
                </a:rPr>
                <a:t> :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  <p:sndAc>
      <p:stSnd>
        <p:snd r:embed="rId1" name="push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0" name="Organization Chart 3"/>
          <p:cNvGrpSpPr/>
          <p:nvPr/>
        </p:nvGrpSpPr>
        <p:grpSpPr>
          <a:xfrm>
            <a:off x="0" y="1484280"/>
            <a:ext cx="9143280" cy="5112000"/>
            <a:chOff x="0" y="1484280"/>
            <a:chExt cx="9143280" cy="5112000"/>
          </a:xfrm>
        </p:grpSpPr>
        <p:cxnSp>
          <p:nvCxnSpPr>
            <p:cNvPr id="521" name="_s8196"/>
            <p:cNvCxnSpPr>
              <a:stCxn id="522" idx="0"/>
              <a:endCxn id="523" idx="2"/>
            </p:cNvCxnSpPr>
            <p:nvPr/>
          </p:nvCxnSpPr>
          <p:spPr>
            <a:xfrm flipV="1" rot="16200000">
              <a:off x="56599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24" name="_s8197"/>
            <p:cNvCxnSpPr>
              <a:stCxn id="525" idx="0"/>
              <a:endCxn id="523" idx="2"/>
            </p:cNvCxnSpPr>
            <p:nvPr/>
          </p:nvCxnSpPr>
          <p:spPr>
            <a:xfrm flipV="1">
              <a:off x="4571280" y="352872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26" name="_s8198"/>
            <p:cNvCxnSpPr>
              <a:stCxn id="527" idx="0"/>
              <a:endCxn id="523" idx="2"/>
            </p:cNvCxnSpPr>
            <p:nvPr/>
          </p:nvCxnSpPr>
          <p:spPr>
            <a:xfrm flipH="1" flipV="1" rot="5400000">
              <a:off x="24595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0">
              <a:noFill/>
            </a:ln>
          </p:spPr>
        </p:cxnSp>
        <p:sp>
          <p:nvSpPr>
            <p:cNvPr id="523" name="_s8199"/>
            <p:cNvSpPr/>
            <p:nvPr/>
          </p:nvSpPr>
          <p:spPr>
            <a:xfrm>
              <a:off x="3200040" y="14842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ак най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ремя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движения?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_s8200"/>
            <p:cNvSpPr/>
            <p:nvPr/>
          </p:nvSpPr>
          <p:spPr>
            <a:xfrm>
              <a:off x="0" y="455148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_s8201"/>
            <p:cNvSpPr/>
            <p:nvPr/>
          </p:nvSpPr>
          <p:spPr>
            <a:xfrm>
              <a:off x="3200040" y="455148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_s8202"/>
            <p:cNvSpPr/>
            <p:nvPr/>
          </p:nvSpPr>
          <p:spPr>
            <a:xfrm>
              <a:off x="64004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t = S</a:t>
              </a:r>
              <a:r>
                <a:rPr b="0" i="1" lang="ru-RU" sz="4000" spc="-1" strike="noStrike">
                  <a:solidFill>
                    <a:srgbClr val="000000"/>
                  </a:solidFill>
                  <a:latin typeface="Tahoma"/>
                </a:rPr>
                <a:t> :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ld"/>
    <p:sndAc>
      <p:stSnd>
        <p:snd r:embed="rId1" name="pu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882160" y="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Устный счёт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719720" y="119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031000" y="119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6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271360" y="119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2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3286080" y="1197000"/>
            <a:ext cx="1616760" cy="5261400"/>
            <a:chOff x="3286080" y="1197000"/>
            <a:chExt cx="1616760" cy="5261400"/>
          </a:xfrm>
        </p:grpSpPr>
        <p:sp>
          <p:nvSpPr>
            <p:cNvPr id="96" name="Text Box 6"/>
            <p:cNvSpPr/>
            <p:nvPr/>
          </p:nvSpPr>
          <p:spPr>
            <a:xfrm>
              <a:off x="3286080" y="119700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30 : 2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Text Box 16"/>
            <p:cNvSpPr/>
            <p:nvPr/>
          </p:nvSpPr>
          <p:spPr>
            <a:xfrm>
              <a:off x="3887280" y="3933720"/>
              <a:ext cx="90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6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Text Box 22"/>
            <p:cNvSpPr/>
            <p:nvPr/>
          </p:nvSpPr>
          <p:spPr>
            <a:xfrm>
              <a:off x="3914280" y="5229360"/>
              <a:ext cx="9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- 58 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Text Box 26"/>
            <p:cNvSpPr/>
            <p:nvPr/>
          </p:nvSpPr>
          <p:spPr>
            <a:xfrm>
              <a:off x="3710160" y="1844640"/>
              <a:ext cx="97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35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27"/>
            <p:cNvSpPr/>
            <p:nvPr/>
          </p:nvSpPr>
          <p:spPr>
            <a:xfrm>
              <a:off x="3646440" y="2565360"/>
              <a:ext cx="113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8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3717720" y="5877000"/>
              <a:ext cx="113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718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31"/>
            <p:cNvSpPr/>
            <p:nvPr/>
          </p:nvSpPr>
          <p:spPr>
            <a:xfrm>
              <a:off x="4171680" y="4581360"/>
              <a:ext cx="57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3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3968640" y="3213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4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" name="Group 38"/>
          <p:cNvGrpSpPr/>
          <p:nvPr/>
        </p:nvGrpSpPr>
        <p:grpSpPr>
          <a:xfrm>
            <a:off x="6323040" y="1197000"/>
            <a:ext cx="1851480" cy="5334480"/>
            <a:chOff x="6323040" y="1197000"/>
            <a:chExt cx="1851480" cy="5334480"/>
          </a:xfrm>
        </p:grpSpPr>
        <p:sp>
          <p:nvSpPr>
            <p:cNvPr id="105" name="Text Box 7"/>
            <p:cNvSpPr/>
            <p:nvPr/>
          </p:nvSpPr>
          <p:spPr>
            <a:xfrm>
              <a:off x="6323040" y="119700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630 : 3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7271640" y="5229360"/>
              <a:ext cx="90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4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6996960" y="3860640"/>
              <a:ext cx="113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45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7263360" y="1773360"/>
              <a:ext cx="74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4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7155720" y="2492280"/>
              <a:ext cx="9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- 48 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7162560" y="5950080"/>
              <a:ext cx="9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8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7279920" y="311148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8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79920" y="458136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3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" name="Group 46"/>
          <p:cNvGrpSpPr/>
          <p:nvPr/>
        </p:nvGrpSpPr>
        <p:grpSpPr>
          <a:xfrm>
            <a:off x="320760" y="1197000"/>
            <a:ext cx="1369800" cy="5261400"/>
            <a:chOff x="320760" y="1197000"/>
            <a:chExt cx="1369800" cy="5261400"/>
          </a:xfrm>
        </p:grpSpPr>
        <p:sp>
          <p:nvSpPr>
            <p:cNvPr id="114" name="Text Box 5"/>
            <p:cNvSpPr/>
            <p:nvPr/>
          </p:nvSpPr>
          <p:spPr>
            <a:xfrm>
              <a:off x="320760" y="1197000"/>
              <a:ext cx="120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84 : 6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714240" y="1916280"/>
              <a:ext cx="77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 7</a:t>
              </a: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14"/>
            <p:cNvSpPr/>
            <p:nvPr/>
          </p:nvSpPr>
          <p:spPr>
            <a:xfrm>
              <a:off x="575640" y="4581360"/>
              <a:ext cx="90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20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709200" y="5877000"/>
              <a:ext cx="6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х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 5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458280" y="2565360"/>
              <a:ext cx="9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- 49 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539640" y="328464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5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538200" y="5229360"/>
              <a:ext cx="9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+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23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55560" y="393372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ahoma"/>
                </a:rPr>
                <a:t>: </a:t>
              </a:r>
              <a:r>
                <a:rPr b="1" lang="ru-RU" sz="3200" spc="-1" strike="noStrike">
                  <a:solidFill>
                    <a:srgbClr val="333333"/>
                  </a:solidFill>
                  <a:latin typeface="Tahoma"/>
                </a:rPr>
                <a:t>16</a:t>
              </a: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" name="Text Box 39"/>
          <p:cNvSpPr/>
          <p:nvPr/>
        </p:nvSpPr>
        <p:spPr>
          <a:xfrm>
            <a:off x="1791000" y="1916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9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1791000" y="25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1791000" y="3284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6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1792080" y="3933720"/>
            <a:ext cx="6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1862640" y="45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8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1875240" y="5229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0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1875240" y="5877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5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5043600" y="184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0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8"/>
          <p:cNvSpPr/>
          <p:nvPr/>
        </p:nvSpPr>
        <p:spPr>
          <a:xfrm>
            <a:off x="5116680" y="2492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28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5112000" y="321300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7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5188320" y="3933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2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1"/>
          <p:cNvSpPr/>
          <p:nvPr/>
        </p:nvSpPr>
        <p:spPr>
          <a:xfrm>
            <a:off x="5188320" y="45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14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5175720" y="5229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8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3"/>
          <p:cNvSpPr/>
          <p:nvPr/>
        </p:nvSpPr>
        <p:spPr>
          <a:xfrm>
            <a:off x="5116680" y="5877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80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54"/>
          <p:cNvSpPr/>
          <p:nvPr/>
        </p:nvSpPr>
        <p:spPr>
          <a:xfrm>
            <a:off x="8271360" y="1773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8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5"/>
          <p:cNvSpPr/>
          <p:nvPr/>
        </p:nvSpPr>
        <p:spPr>
          <a:xfrm>
            <a:off x="8271360" y="2492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3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56"/>
          <p:cNvSpPr/>
          <p:nvPr/>
        </p:nvSpPr>
        <p:spPr>
          <a:xfrm>
            <a:off x="8272080" y="3141720"/>
            <a:ext cx="6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8223480" y="3860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90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58"/>
          <p:cNvSpPr/>
          <p:nvPr/>
        </p:nvSpPr>
        <p:spPr>
          <a:xfrm>
            <a:off x="8271360" y="45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8223480" y="5229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42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8223480" y="59500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500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4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9" name="Organization Chart 3"/>
          <p:cNvGrpSpPr/>
          <p:nvPr/>
        </p:nvGrpSpPr>
        <p:grpSpPr>
          <a:xfrm>
            <a:off x="0" y="1844640"/>
            <a:ext cx="9143280" cy="4751280"/>
            <a:chOff x="0" y="1844640"/>
            <a:chExt cx="9143280" cy="4751280"/>
          </a:xfrm>
        </p:grpSpPr>
        <p:cxnSp>
          <p:nvCxnSpPr>
            <p:cNvPr id="530" name="_s9220"/>
            <p:cNvCxnSpPr>
              <a:stCxn id="531" idx="0"/>
              <a:endCxn id="532" idx="2"/>
            </p:cNvCxnSpPr>
            <p:nvPr/>
          </p:nvCxnSpPr>
          <p:spPr>
            <a:xfrm flipV="1" rot="16200000">
              <a:off x="5695920" y="2619360"/>
              <a:ext cx="950760" cy="3200760"/>
            </a:xfrm>
            <a:prstGeom prst="bentConnector3">
              <a:avLst>
                <a:gd name="adj1" fmla="val 13901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33" name="_s9221"/>
            <p:cNvCxnSpPr>
              <a:stCxn id="534" idx="0"/>
              <a:endCxn id="532" idx="2"/>
            </p:cNvCxnSpPr>
            <p:nvPr/>
          </p:nvCxnSpPr>
          <p:spPr>
            <a:xfrm flipV="1">
              <a:off x="4571280" y="3744360"/>
              <a:ext cx="3240" cy="95076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35" name="_s9222"/>
            <p:cNvCxnSpPr>
              <a:stCxn id="536" idx="0"/>
              <a:endCxn id="532" idx="2"/>
            </p:cNvCxnSpPr>
            <p:nvPr/>
          </p:nvCxnSpPr>
          <p:spPr>
            <a:xfrm flipH="1" flipV="1" rot="5400000">
              <a:off x="2495880" y="2619360"/>
              <a:ext cx="950760" cy="3200760"/>
            </a:xfrm>
            <a:prstGeom prst="bentConnector3">
              <a:avLst>
                <a:gd name="adj1" fmla="val 13901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532" name="_s9223"/>
            <p:cNvSpPr/>
            <p:nvPr/>
          </p:nvSpPr>
          <p:spPr>
            <a:xfrm>
              <a:off x="3200040" y="184464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Что такое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удаления ?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_s9224"/>
            <p:cNvSpPr/>
            <p:nvPr/>
          </p:nvSpPr>
          <p:spPr>
            <a:xfrm>
              <a:off x="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ближаются объекты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за единицу времени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_s9225"/>
            <p:cNvSpPr/>
            <p:nvPr/>
          </p:nvSpPr>
          <p:spPr>
            <a:xfrm>
              <a:off x="320004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отдаляются объекты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за единицу времени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_s9226"/>
            <p:cNvSpPr/>
            <p:nvPr/>
          </p:nvSpPr>
          <p:spPr>
            <a:xfrm>
              <a:off x="6400440" y="4695480"/>
              <a:ext cx="2742840" cy="190044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сстояние, на которо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отдаляются объекты.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  <p:sndAc>
      <p:stSnd>
        <p:snd r:embed="rId1" name="push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8" name="Organization Chart 3"/>
          <p:cNvGrpSpPr/>
          <p:nvPr/>
        </p:nvGrpSpPr>
        <p:grpSpPr>
          <a:xfrm>
            <a:off x="0" y="1744560"/>
            <a:ext cx="9143280" cy="5112000"/>
            <a:chOff x="0" y="1744560"/>
            <a:chExt cx="9143280" cy="5112000"/>
          </a:xfrm>
        </p:grpSpPr>
        <p:cxnSp>
          <p:nvCxnSpPr>
            <p:cNvPr id="539" name="_s10244"/>
            <p:cNvCxnSpPr>
              <a:stCxn id="540" idx="0"/>
              <a:endCxn id="541" idx="2"/>
            </p:cNvCxnSpPr>
            <p:nvPr/>
          </p:nvCxnSpPr>
          <p:spPr>
            <a:xfrm flipV="1" rot="16200000">
              <a:off x="5659920" y="2700000"/>
              <a:ext cx="1023120" cy="3200760"/>
            </a:xfrm>
            <a:prstGeom prst="bentConnector3">
              <a:avLst>
                <a:gd name="adj1" fmla="val 13903"/>
              </a:avLst>
            </a:prstGeom>
            <a:ln w="0">
              <a:noFill/>
            </a:ln>
          </p:spPr>
        </p:cxnSp>
        <p:cxnSp>
          <p:nvCxnSpPr>
            <p:cNvPr id="542" name="_s10245"/>
            <p:cNvCxnSpPr>
              <a:stCxn id="543" idx="0"/>
              <a:endCxn id="541" idx="2"/>
            </p:cNvCxnSpPr>
            <p:nvPr/>
          </p:nvCxnSpPr>
          <p:spPr>
            <a:xfrm flipV="1">
              <a:off x="4571280" y="378900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44" name="_s10246"/>
            <p:cNvCxnSpPr>
              <a:stCxn id="545" idx="0"/>
              <a:endCxn id="541" idx="2"/>
            </p:cNvCxnSpPr>
            <p:nvPr/>
          </p:nvCxnSpPr>
          <p:spPr>
            <a:xfrm flipH="1" flipV="1" rot="5400000">
              <a:off x="2459520" y="2700000"/>
              <a:ext cx="1023120" cy="3200760"/>
            </a:xfrm>
            <a:prstGeom prst="bentConnector3">
              <a:avLst>
                <a:gd name="adj1" fmla="val 13903"/>
              </a:avLst>
            </a:prstGeom>
            <a:ln w="0">
              <a:noFill/>
            </a:ln>
          </p:spPr>
        </p:cxnSp>
        <p:sp>
          <p:nvSpPr>
            <p:cNvPr id="541" name="_s10247"/>
            <p:cNvSpPr/>
            <p:nvPr/>
          </p:nvSpPr>
          <p:spPr>
            <a:xfrm>
              <a:off x="3200040" y="174456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_s10248"/>
            <p:cNvSpPr/>
            <p:nvPr/>
          </p:nvSpPr>
          <p:spPr>
            <a:xfrm>
              <a:off x="0" y="481176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_s10249"/>
            <p:cNvSpPr/>
            <p:nvPr/>
          </p:nvSpPr>
          <p:spPr>
            <a:xfrm>
              <a:off x="3200040" y="481176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_s10250"/>
            <p:cNvSpPr/>
            <p:nvPr/>
          </p:nvSpPr>
          <p:spPr>
            <a:xfrm>
              <a:off x="6400440" y="4811760"/>
              <a:ext cx="2742840" cy="2044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6" name="Text Box 12"/>
          <p:cNvSpPr/>
          <p:nvPr/>
        </p:nvSpPr>
        <p:spPr>
          <a:xfrm>
            <a:off x="3357720" y="1557360"/>
            <a:ext cx="2284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Что такое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корость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удаления ?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944080" y="4937040"/>
            <a:ext cx="3192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тояние, на которо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даляются объект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единицу времен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1" name="push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5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9" name="Organization Chart 3"/>
          <p:cNvGrpSpPr/>
          <p:nvPr/>
        </p:nvGrpSpPr>
        <p:grpSpPr>
          <a:xfrm>
            <a:off x="0" y="1484280"/>
            <a:ext cx="9143280" cy="5112000"/>
            <a:chOff x="0" y="1484280"/>
            <a:chExt cx="9143280" cy="5112000"/>
          </a:xfrm>
        </p:grpSpPr>
        <p:cxnSp>
          <p:nvCxnSpPr>
            <p:cNvPr id="550" name="_s11268"/>
            <p:cNvCxnSpPr>
              <a:stCxn id="551" idx="0"/>
              <a:endCxn id="552" idx="2"/>
            </p:cNvCxnSpPr>
            <p:nvPr/>
          </p:nvCxnSpPr>
          <p:spPr>
            <a:xfrm flipV="1" rot="16200000">
              <a:off x="56599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53" name="_s11269"/>
            <p:cNvCxnSpPr>
              <a:stCxn id="554" idx="0"/>
              <a:endCxn id="552" idx="2"/>
            </p:cNvCxnSpPr>
            <p:nvPr/>
          </p:nvCxnSpPr>
          <p:spPr>
            <a:xfrm flipV="1">
              <a:off x="4571280" y="3528720"/>
              <a:ext cx="3240" cy="102312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55" name="_s11270"/>
            <p:cNvCxnSpPr>
              <a:stCxn id="556" idx="0"/>
              <a:endCxn id="552" idx="2"/>
            </p:cNvCxnSpPr>
            <p:nvPr/>
          </p:nvCxnSpPr>
          <p:spPr>
            <a:xfrm flipH="1" flipV="1" rot="5400000">
              <a:off x="2459520" y="2439720"/>
              <a:ext cx="1023120" cy="3200760"/>
            </a:xfrm>
            <a:prstGeom prst="bentConnector3">
              <a:avLst>
                <a:gd name="adj1" fmla="val 11158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552" name="_s11271"/>
            <p:cNvSpPr/>
            <p:nvPr/>
          </p:nvSpPr>
          <p:spPr>
            <a:xfrm>
              <a:off x="3200040" y="14842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ак найти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ставшееся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между объектами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сстояние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при встречном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движении?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_s11272"/>
            <p:cNvSpPr/>
            <p:nvPr/>
          </p:nvSpPr>
          <p:spPr>
            <a:xfrm>
              <a:off x="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_s11273"/>
            <p:cNvSpPr/>
            <p:nvPr/>
          </p:nvSpPr>
          <p:spPr>
            <a:xfrm>
              <a:off x="32000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_s11274"/>
            <p:cNvSpPr/>
            <p:nvPr/>
          </p:nvSpPr>
          <p:spPr>
            <a:xfrm>
              <a:off x="6400440" y="4551480"/>
              <a:ext cx="2742840" cy="2044800"/>
            </a:xfrm>
            <a:prstGeom prst="roundRect">
              <a:avLst>
                <a:gd name="adj" fmla="val 16667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7" name="Text Box 12"/>
          <p:cNvSpPr/>
          <p:nvPr/>
        </p:nvSpPr>
        <p:spPr>
          <a:xfrm>
            <a:off x="164880" y="53006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 =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сбл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·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272760" y="5300640"/>
            <a:ext cx="245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 =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 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сбл.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·  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6793200" y="5229360"/>
            <a:ext cx="189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  =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сбл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  <p:sndAc>
      <p:stSnd>
        <p:snd r:embed="rId1" name="push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5 вопро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1" name="Organization Chart 3"/>
          <p:cNvGrpSpPr/>
          <p:nvPr/>
        </p:nvGrpSpPr>
        <p:grpSpPr>
          <a:xfrm>
            <a:off x="0" y="1844640"/>
            <a:ext cx="9143280" cy="4751640"/>
            <a:chOff x="0" y="1844640"/>
            <a:chExt cx="9143280" cy="4751640"/>
          </a:xfrm>
        </p:grpSpPr>
        <p:cxnSp>
          <p:nvCxnSpPr>
            <p:cNvPr id="562" name="_s12292"/>
            <p:cNvCxnSpPr>
              <a:stCxn id="563" idx="0"/>
              <a:endCxn id="564" idx="2"/>
            </p:cNvCxnSpPr>
            <p:nvPr/>
          </p:nvCxnSpPr>
          <p:spPr>
            <a:xfrm flipV="1" rot="16200000">
              <a:off x="5693040" y="2619720"/>
              <a:ext cx="956880" cy="3200760"/>
            </a:xfrm>
            <a:prstGeom prst="bentConnector3">
              <a:avLst>
                <a:gd name="adj1" fmla="val 11930"/>
              </a:avLst>
            </a:prstGeom>
            <a:ln w="0">
              <a:noFill/>
            </a:ln>
          </p:spPr>
        </p:cxnSp>
        <p:cxnSp>
          <p:nvCxnSpPr>
            <p:cNvPr id="565" name="_s12293"/>
            <p:cNvCxnSpPr>
              <a:stCxn id="566" idx="0"/>
              <a:endCxn id="564" idx="2"/>
            </p:cNvCxnSpPr>
            <p:nvPr/>
          </p:nvCxnSpPr>
          <p:spPr>
            <a:xfrm flipV="1">
              <a:off x="4571280" y="3741840"/>
              <a:ext cx="3240" cy="956880"/>
            </a:xfrm>
            <a:prstGeom prst="bentConnector2">
              <a:avLst/>
            </a:prstGeom>
            <a:ln w="50760">
              <a:solidFill>
                <a:srgbClr val="ffffff"/>
              </a:solidFill>
              <a:miter/>
            </a:ln>
          </p:spPr>
        </p:cxnSp>
        <p:cxnSp>
          <p:nvCxnSpPr>
            <p:cNvPr id="567" name="_s12294"/>
            <p:cNvCxnSpPr>
              <a:stCxn id="568" idx="0"/>
              <a:endCxn id="564" idx="2"/>
            </p:cNvCxnSpPr>
            <p:nvPr/>
          </p:nvCxnSpPr>
          <p:spPr>
            <a:xfrm flipH="1" flipV="1" rot="5400000">
              <a:off x="2492640" y="2619720"/>
              <a:ext cx="956880" cy="3200760"/>
            </a:xfrm>
            <a:prstGeom prst="bentConnector3">
              <a:avLst>
                <a:gd name="adj1" fmla="val 11930"/>
              </a:avLst>
            </a:prstGeom>
            <a:ln w="50760">
              <a:solidFill>
                <a:srgbClr val="ffffff"/>
              </a:solidFill>
              <a:miter/>
            </a:ln>
          </p:spPr>
        </p:cxnSp>
        <p:sp>
          <p:nvSpPr>
            <p:cNvPr id="564" name="_s12295"/>
            <p:cNvSpPr/>
            <p:nvPr/>
          </p:nvSpPr>
          <p:spPr>
            <a:xfrm>
              <a:off x="3200040" y="1844640"/>
              <a:ext cx="2742840" cy="189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Как найти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оставшееся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между объектами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расстояние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при встречном 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движении?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_s12296"/>
            <p:cNvSpPr/>
            <p:nvPr/>
          </p:nvSpPr>
          <p:spPr>
            <a:xfrm>
              <a:off x="0" y="4698720"/>
              <a:ext cx="2742840" cy="1897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ahoma"/>
                </a:rPr>
                <a:t>d = S – V</a:t>
              </a:r>
              <a:r>
                <a:rPr b="1" i="1" lang="ru-RU" sz="2200" spc="-1" strike="noStrike">
                  <a:solidFill>
                    <a:srgbClr val="000000"/>
                  </a:solidFill>
                  <a:latin typeface="Tahoma"/>
                </a:rPr>
                <a:t>сбл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· t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_s12297"/>
            <p:cNvSpPr/>
            <p:nvPr/>
          </p:nvSpPr>
          <p:spPr>
            <a:xfrm>
              <a:off x="3200040" y="4698720"/>
              <a:ext cx="2742840" cy="1897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_s12298"/>
            <p:cNvSpPr/>
            <p:nvPr/>
          </p:nvSpPr>
          <p:spPr>
            <a:xfrm>
              <a:off x="6400440" y="4698720"/>
              <a:ext cx="2742840" cy="1897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ld"/>
    <p:sndAc>
      <p:stSnd>
        <p:snd r:embed="rId1" name="push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571" name="Ink 181"/>
          <p:cNvSpPr/>
          <p:nvPr/>
        </p:nvSpPr>
        <p:spPr>
          <a:xfrm>
            <a:off x="1928880" y="2286000"/>
            <a:ext cx="3805200" cy="1440"/>
          </a:xfrm>
          <a:custGeom>
            <a:avLst/>
            <a:gdLst/>
            <a:ahLst/>
            <a:rect l="l" t="t" r="r" b="b"/>
            <a:pathLst>
              <a:path w="10568" h="1">
                <a:moveTo>
                  <a:pt x="5358" y="6350"/>
                </a:moveTo>
                <a:cubicBezTo>
                  <a:pt x="8880" y="6350"/>
                  <a:pt x="12403" y="6350"/>
                  <a:pt x="15925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Ink 182"/>
          <p:cNvSpPr/>
          <p:nvPr/>
        </p:nvSpPr>
        <p:spPr>
          <a:xfrm>
            <a:off x="3867120" y="3813120"/>
            <a:ext cx="2562120" cy="1800"/>
          </a:xfrm>
          <a:custGeom>
            <a:avLst/>
            <a:gdLst/>
            <a:ahLst/>
            <a:rect l="l" t="t" r="r" b="b"/>
            <a:pathLst>
              <a:path w="7120" h="1">
                <a:moveTo>
                  <a:pt x="10740" y="10592"/>
                </a:moveTo>
                <a:cubicBezTo>
                  <a:pt x="13113" y="10592"/>
                  <a:pt x="15486" y="10592"/>
                  <a:pt x="17859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Ink 183"/>
          <p:cNvSpPr/>
          <p:nvPr/>
        </p:nvSpPr>
        <p:spPr>
          <a:xfrm>
            <a:off x="2598840" y="3295800"/>
            <a:ext cx="3795480" cy="17280"/>
          </a:xfrm>
          <a:custGeom>
            <a:avLst/>
            <a:gdLst/>
            <a:ahLst/>
            <a:rect l="l" t="t" r="r" b="b"/>
            <a:pathLst>
              <a:path w="10543" h="51">
                <a:moveTo>
                  <a:pt x="7218" y="9203"/>
                </a:moveTo>
                <a:cubicBezTo>
                  <a:pt x="10570" y="9203"/>
                  <a:pt x="14319" y="9658"/>
                  <a:pt x="17587" y="9178"/>
                </a:cubicBezTo>
                <a:cubicBezTo>
                  <a:pt x="17637" y="9171"/>
                  <a:pt x="17623" y="9158"/>
                  <a:pt x="17661" y="9153"/>
                </a:cubicBezTo>
                <a:cubicBezTo>
                  <a:pt x="17693" y="9148"/>
                  <a:pt x="17728" y="9158"/>
                  <a:pt x="17760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Ink 184"/>
          <p:cNvSpPr/>
          <p:nvPr/>
        </p:nvSpPr>
        <p:spPr>
          <a:xfrm>
            <a:off x="1509840" y="4133880"/>
            <a:ext cx="142920" cy="2001960"/>
          </a:xfrm>
          <a:custGeom>
            <a:avLst/>
            <a:gdLst/>
            <a:ahLst/>
            <a:rect l="l" t="t" r="r" b="b"/>
            <a:pathLst>
              <a:path w="398" h="5557">
                <a:moveTo>
                  <a:pt x="4192" y="11485"/>
                </a:moveTo>
                <a:cubicBezTo>
                  <a:pt x="4192" y="11587"/>
                  <a:pt x="4210" y="11695"/>
                  <a:pt x="4217" y="11782"/>
                </a:cubicBezTo>
                <a:cubicBezTo>
                  <a:pt x="4251" y="12180"/>
                  <a:pt x="4159" y="12619"/>
                  <a:pt x="4242" y="12998"/>
                </a:cubicBezTo>
                <a:cubicBezTo>
                  <a:pt x="4251" y="13038"/>
                  <a:pt x="4263" y="13082"/>
                  <a:pt x="4266" y="13122"/>
                </a:cubicBezTo>
                <a:cubicBezTo>
                  <a:pt x="4274" y="13214"/>
                  <a:pt x="4266" y="13308"/>
                  <a:pt x="4291" y="13395"/>
                </a:cubicBezTo>
                <a:cubicBezTo>
                  <a:pt x="4306" y="13447"/>
                  <a:pt x="4330" y="13490"/>
                  <a:pt x="4341" y="13543"/>
                </a:cubicBezTo>
                <a:cubicBezTo>
                  <a:pt x="4352" y="13592"/>
                  <a:pt x="4350" y="13644"/>
                  <a:pt x="4366" y="13692"/>
                </a:cubicBezTo>
                <a:cubicBezTo>
                  <a:pt x="4381" y="13738"/>
                  <a:pt x="4403" y="13788"/>
                  <a:pt x="4415" y="13841"/>
                </a:cubicBezTo>
                <a:cubicBezTo>
                  <a:pt x="4428" y="13895"/>
                  <a:pt x="4427" y="13934"/>
                  <a:pt x="4440" y="13990"/>
                </a:cubicBezTo>
                <a:cubicBezTo>
                  <a:pt x="4440" y="13991"/>
                  <a:pt x="4458" y="14038"/>
                  <a:pt x="4465" y="14064"/>
                </a:cubicBezTo>
                <a:cubicBezTo>
                  <a:pt x="4474" y="14096"/>
                  <a:pt x="4482" y="14125"/>
                  <a:pt x="4490" y="14163"/>
                </a:cubicBezTo>
                <a:cubicBezTo>
                  <a:pt x="4502" y="14218"/>
                  <a:pt x="4509" y="14254"/>
                  <a:pt x="4514" y="14312"/>
                </a:cubicBezTo>
                <a:cubicBezTo>
                  <a:pt x="4520" y="14387"/>
                  <a:pt x="4532" y="14473"/>
                  <a:pt x="4539" y="14536"/>
                </a:cubicBezTo>
                <a:cubicBezTo>
                  <a:pt x="4539" y="14560"/>
                  <a:pt x="4539" y="14569"/>
                  <a:pt x="4539" y="14585"/>
                </a:cubicBezTo>
                <a:cubicBezTo>
                  <a:pt x="4539" y="14586"/>
                  <a:pt x="4563" y="14646"/>
                  <a:pt x="4564" y="14684"/>
                </a:cubicBezTo>
                <a:cubicBezTo>
                  <a:pt x="4566" y="14745"/>
                  <a:pt x="4585" y="14783"/>
                  <a:pt x="4589" y="14833"/>
                </a:cubicBezTo>
                <a:cubicBezTo>
                  <a:pt x="4650" y="15558"/>
                  <a:pt x="4589" y="16313"/>
                  <a:pt x="4589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Ink 185"/>
          <p:cNvSpPr/>
          <p:nvPr/>
        </p:nvSpPr>
        <p:spPr>
          <a:xfrm>
            <a:off x="1276200" y="5929200"/>
            <a:ext cx="2546640" cy="1800"/>
          </a:xfrm>
          <a:custGeom>
            <a:avLst/>
            <a:gdLst/>
            <a:ahLst/>
            <a:rect l="l" t="t" r="r" b="b"/>
            <a:pathLst>
              <a:path w="7070" h="1">
                <a:moveTo>
                  <a:pt x="3547" y="16470"/>
                </a:moveTo>
                <a:cubicBezTo>
                  <a:pt x="5903" y="16470"/>
                  <a:pt x="8260" y="16470"/>
                  <a:pt x="10616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1" name="push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30"/>
          <p:cNvSpPr/>
          <p:nvPr/>
        </p:nvSpPr>
        <p:spPr>
          <a:xfrm>
            <a:off x="1692360" y="5589720"/>
            <a:ext cx="5327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31"/>
          <p:cNvSpPr/>
          <p:nvPr/>
        </p:nvSpPr>
        <p:spPr>
          <a:xfrm flipV="1">
            <a:off x="1692360" y="692280"/>
            <a:ext cx="0" cy="4897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Line 32"/>
          <p:cNvSpPr/>
          <p:nvPr/>
        </p:nvSpPr>
        <p:spPr>
          <a:xfrm>
            <a:off x="1476360" y="486900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Line 33"/>
          <p:cNvSpPr/>
          <p:nvPr/>
        </p:nvSpPr>
        <p:spPr>
          <a:xfrm>
            <a:off x="1476360" y="414972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Line 34"/>
          <p:cNvSpPr/>
          <p:nvPr/>
        </p:nvSpPr>
        <p:spPr>
          <a:xfrm>
            <a:off x="1476360" y="342900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35"/>
          <p:cNvSpPr/>
          <p:nvPr/>
        </p:nvSpPr>
        <p:spPr>
          <a:xfrm>
            <a:off x="1476360" y="270828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36"/>
          <p:cNvSpPr/>
          <p:nvPr/>
        </p:nvSpPr>
        <p:spPr>
          <a:xfrm>
            <a:off x="1476360" y="198900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37"/>
          <p:cNvSpPr/>
          <p:nvPr/>
        </p:nvSpPr>
        <p:spPr>
          <a:xfrm>
            <a:off x="1476360" y="1268280"/>
            <a:ext cx="21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38"/>
          <p:cNvSpPr/>
          <p:nvPr/>
        </p:nvSpPr>
        <p:spPr>
          <a:xfrm>
            <a:off x="748800" y="454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39"/>
          <p:cNvSpPr/>
          <p:nvPr/>
        </p:nvSpPr>
        <p:spPr>
          <a:xfrm>
            <a:off x="637200" y="378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637200" y="3068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637200" y="234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637200" y="1628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AutoShape 43"/>
          <p:cNvSpPr/>
          <p:nvPr/>
        </p:nvSpPr>
        <p:spPr>
          <a:xfrm>
            <a:off x="2411280" y="465300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51"/>
          <p:cNvSpPr/>
          <p:nvPr/>
        </p:nvSpPr>
        <p:spPr>
          <a:xfrm>
            <a:off x="2411280" y="393372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52"/>
          <p:cNvSpPr/>
          <p:nvPr/>
        </p:nvSpPr>
        <p:spPr>
          <a:xfrm>
            <a:off x="2411280" y="321300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53"/>
          <p:cNvSpPr/>
          <p:nvPr/>
        </p:nvSpPr>
        <p:spPr>
          <a:xfrm>
            <a:off x="2411280" y="249228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AutoShape 54"/>
          <p:cNvSpPr/>
          <p:nvPr/>
        </p:nvSpPr>
        <p:spPr>
          <a:xfrm>
            <a:off x="2411280" y="177336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AutoShape 55"/>
          <p:cNvSpPr/>
          <p:nvPr/>
        </p:nvSpPr>
        <p:spPr>
          <a:xfrm>
            <a:off x="3851280" y="465300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AutoShape 56"/>
          <p:cNvSpPr/>
          <p:nvPr/>
        </p:nvSpPr>
        <p:spPr>
          <a:xfrm>
            <a:off x="3851280" y="393372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AutoShape 57"/>
          <p:cNvSpPr/>
          <p:nvPr/>
        </p:nvSpPr>
        <p:spPr>
          <a:xfrm>
            <a:off x="3851280" y="321300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AutoShape 58"/>
          <p:cNvSpPr/>
          <p:nvPr/>
        </p:nvSpPr>
        <p:spPr>
          <a:xfrm>
            <a:off x="3851280" y="249228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AutoShape 59"/>
          <p:cNvSpPr/>
          <p:nvPr/>
        </p:nvSpPr>
        <p:spPr>
          <a:xfrm>
            <a:off x="3851280" y="177336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AutoShape 60"/>
          <p:cNvSpPr/>
          <p:nvPr/>
        </p:nvSpPr>
        <p:spPr>
          <a:xfrm>
            <a:off x="5292720" y="465300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AutoShape 61"/>
          <p:cNvSpPr/>
          <p:nvPr/>
        </p:nvSpPr>
        <p:spPr>
          <a:xfrm>
            <a:off x="5292720" y="393372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62"/>
          <p:cNvSpPr/>
          <p:nvPr/>
        </p:nvSpPr>
        <p:spPr>
          <a:xfrm>
            <a:off x="5292720" y="321300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AutoShape 63"/>
          <p:cNvSpPr/>
          <p:nvPr/>
        </p:nvSpPr>
        <p:spPr>
          <a:xfrm>
            <a:off x="5292720" y="2492280"/>
            <a:ext cx="1081080" cy="93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AutoShape 64"/>
          <p:cNvSpPr/>
          <p:nvPr/>
        </p:nvSpPr>
        <p:spPr>
          <a:xfrm>
            <a:off x="5292720" y="1773360"/>
            <a:ext cx="1081080" cy="93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641680" y="56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010040" y="56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5435640" y="5661000"/>
            <a:ext cx="4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0" y="54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165600" y="26028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ahoma"/>
              </a:rPr>
              <a:t>Количеств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ahoma"/>
              </a:rPr>
              <a:t>уче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2280600" y="26028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ea00"/>
                </a:solidFill>
                <a:latin typeface="Tahoma"/>
              </a:rPr>
              <a:t>Анализ результативности урока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  <p:sndAc>
      <p:stSnd>
        <p:snd r:embed="rId1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808200" y="1535040"/>
            <a:ext cx="7651440" cy="131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Что я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егодня узнал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такого,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чего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е знал ранее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041120" y="3335400"/>
            <a:ext cx="7206480" cy="131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Что было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амым трудны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на уроке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119600" y="5064120"/>
            <a:ext cx="7048080" cy="131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Что было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амым важны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на уроке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68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68" fill="hold"/>
                                        <p:tgtEl>
                                          <p:spTgt spid="6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68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1785240" y="260280"/>
            <a:ext cx="55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Домашнее задание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012320" y="1844640"/>
            <a:ext cx="7232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По выбору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ешить задачу № 2 с. 9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ли  придумать и реши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вою задачу на нахождение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ставшегося расстояния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 встречном движении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Устный сч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320280" y="43657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= 1815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776240" y="220500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515 + 800 + 500 =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95280" y="836640"/>
            <a:ext cx="820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815 г. - построен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ый русский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роход "Елизавета"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МОРСКОЙ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54240" y="1484280"/>
          <a:ext cx="6486480" cy="52419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9440"/>
                <a:gridCol w="647640"/>
                <a:gridCol w="723960"/>
                <a:gridCol w="574560"/>
                <a:gridCol w="647640"/>
                <a:gridCol w="649440"/>
                <a:gridCol w="647640"/>
                <a:gridCol w="6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Б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З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У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Ё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800080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6600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66"/>
                      </a:solidFill>
                    </a:lnL>
                    <a:lnR w="28080">
                      <a:solidFill>
                        <a:srgbClr val="66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6600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  <p:sndAc>
      <p:stSnd>
        <p:snd r:embed="rId1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333360"/>
            <a:ext cx="320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стречное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5796000" y="6093000"/>
            <a:ext cx="3244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движение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6296E-006 L 0.20399 0.26922 E">
                                      <p:cBhvr>
                                        <p:cTn id="22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-0.23455 -0.36227 E">
                                      <p:cBhvr>
                                        <p:cTn id="22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7:16:20Z</dcterms:created>
  <dc:creator>Света</dc:creator>
  <dc:description/>
  <dc:language>en-US</dc:language>
  <cp:lastModifiedBy> KAT</cp:lastModifiedBy>
  <dcterms:modified xsi:type="dcterms:W3CDTF">2012-02-12T18:20:57Z</dcterms:modified>
  <cp:revision>69</cp:revision>
  <dc:subject/>
  <dc:title>Слайд 1</dc:title>
</cp:coreProperties>
</file>