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05F-2B70-4A7B-A379-9F8D5A8F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E48-C5EC-4B77-895A-02C238D9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4B-4698-4691-AC4E-3FB69C4E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CB4-BD3A-449D-904E-620F2BF9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B2A2-9864-4607-9D72-D4D76DD8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C4C-2EBA-45B2-B44C-4DD43E0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9B92-2C8A-4962-90BF-C67F3AC3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0DC-BB03-43A2-BCE8-126DA0A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DCA-3135-45E8-9786-4AC2ACB0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D1A-C936-4492-B872-E679E75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1ECD-5210-4CC1-AAB6-F2F6BCEC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F9B-5AFC-41EE-A431-EEB7246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FE9-A5E4-4B6D-AA98-49EC7AB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0C8-EDA3-46D9-A8D9-0A1EABB9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22E-989A-4852-8916-F9E206D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1434-029F-4A19-8B1D-DB72D0D8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4AB-2CF7-4E69-A897-967876E1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467-042B-4FA0-B7D8-B40A3E8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D6E-06E1-4FFE-B15A-F53992B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68A-CF24-428C-BC3A-2A60EE7C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3BB-8410-473D-8279-91006EBA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82F-D270-4E82-BC4D-80FFF1F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6DE-83F8-4E19-AEDA-D8F0E3D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EAC-D1A2-40B3-96C7-EEEE515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FCF9-E7E2-471A-A7BC-57716902DD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5EC-D82D-4B4A-A7BA-D126C8D67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72388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нение первого закона термодинамики к изопроцессам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рок физики в 10 класс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ru-RU" sz="21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На рисунке изображё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процесс перехода некотор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количества идеального газа из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состояния </a:t>
            </a:r>
            <a:r>
              <a:rPr b="0" i="1" lang="ru-RU" sz="21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в состояние </a:t>
            </a:r>
            <a:r>
              <a:rPr b="0" i="1" lang="ru-RU" sz="21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Какое из перечисленных  ниже утверждений справедливо для этого процесс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1)  внутренняя энергия газа увеличилась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2)  газ отдал теплоту внешним тела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3)  газ совершил положительную работ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4)  температура газа не изменилась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5)  это адиабатический процесс сжатия газ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96000" y="1773360"/>
            <a:ext cx="25210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При превращ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вещества массой </a:t>
            </a:r>
            <a:r>
              <a:rPr b="0" i="1" lang="ru-RU" sz="29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удельной теплото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отвердевания </a:t>
            </a: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l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из жидкого состояния в твёрдое при постоянной температуре </a:t>
            </a:r>
            <a:r>
              <a:rPr b="0" i="1" lang="ru-RU" sz="2900" spc="-1" strike="noStrike">
                <a:solidFill>
                  <a:srgbClr val="000066"/>
                </a:solidFill>
                <a:latin typeface="Verdana"/>
              </a:rPr>
              <a:t>Т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отданное веществом количество теплоты 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Q</a:t>
            </a: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равн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1) </a:t>
            </a:r>
            <a:r>
              <a:rPr b="0" lang="el-GR" sz="2900" spc="-1" strike="noStrike">
                <a:solidFill>
                  <a:srgbClr val="000066"/>
                </a:solidFill>
                <a:latin typeface="Verdana"/>
              </a:rPr>
              <a:t>λ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mT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;2) </a:t>
            </a:r>
            <a:r>
              <a:rPr b="0" lang="el-GR" sz="2900" spc="-1" strike="noStrike">
                <a:solidFill>
                  <a:srgbClr val="000066"/>
                </a:solidFill>
                <a:latin typeface="Verdana"/>
              </a:rPr>
              <a:t>λ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m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;3) </a:t>
            </a:r>
            <a:r>
              <a:rPr b="0" lang="el-GR" sz="2900" spc="-1" strike="noStrike">
                <a:solidFill>
                  <a:srgbClr val="000066"/>
                </a:solidFill>
                <a:latin typeface="Verdana"/>
              </a:rPr>
              <a:t>λ 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m/T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;4) </a:t>
            </a:r>
            <a:r>
              <a:rPr b="0" lang="el-GR" sz="2900" spc="-1" strike="noStrike">
                <a:solidFill>
                  <a:srgbClr val="000066"/>
                </a:solidFill>
                <a:latin typeface="Verdana"/>
              </a:rPr>
              <a:t>λ </a:t>
            </a:r>
            <a:r>
              <a:rPr b="0" i="1" lang="en-US" sz="2900" spc="-1" strike="noStrike">
                <a:solidFill>
                  <a:srgbClr val="000066"/>
                </a:solidFill>
                <a:latin typeface="Verdana"/>
              </a:rPr>
              <a:t>T/m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940360" y="981000"/>
            <a:ext cx="2129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2818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В1 У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становите соответствие между физическими величинами, характеризующими процесс изотермического сжатия воздуха, перечисленными в первом столбце, и их изменениями, указанными во втором столбц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ФИЗИЧЕСКИЕ ВЕЛИЧИНЫ             ИХ ИЗМЕ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А) Давление.                            1) Увеличе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Б) Температура.                        2) Уменьше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В) Внутренняя энергия.               3) Неизменнос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Запишите в таблицу выбранные цифры для каждой физической величины. Цифры могут повторять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24000" y="5516640"/>
          <a:ext cx="3581640" cy="94284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41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0160" y="1827000"/>
            <a:ext cx="759456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9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1" lang="ru-RU" sz="19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Установите соответствие между физическими величинами, характеризующими изохорный процесс охлаждения воздуха, перечисленными в первом столбце, и их изменениями, указанными во втором столбц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ФИЗИЧЕСКИЕ ВЕЛИЧИНЫ      ИХ ИЗМЕН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А) Давление.                        1) Увеличени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Б) Объём.                            2) Уменьше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В) Температура.                    3) Неизменность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Г) Внутренняя энерг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Запишите в таблицу выбранные цифры для каждой физической величины. Цифры могут повторятьс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79640" y="5445000"/>
          <a:ext cx="3581280" cy="9428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С1 Постоянная масса одноатомного идеального газа совершает циклический процесс, показанный на рисунке. За цикл от нагревателя газ получает количество теплоты </a:t>
            </a:r>
            <a:r>
              <a:rPr b="0" i="1" lang="en-US" sz="2500" spc="-1" strike="noStrike">
                <a:solidFill>
                  <a:srgbClr val="000066"/>
                </a:solidFill>
                <a:latin typeface="Verdana"/>
              </a:rPr>
              <a:t>Q</a:t>
            </a: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 = 8 кДж. Какую работу совершают внешние силы при переходе газа из состояния </a:t>
            </a:r>
            <a:r>
              <a:rPr b="0" i="1" lang="ru-RU" sz="25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 в состояние </a:t>
            </a:r>
            <a:r>
              <a:rPr b="0" i="1" lang="ru-RU" sz="25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880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яя работ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Verdana"/>
              </a:rPr>
              <a:t>Изучить </a:t>
            </a: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§</a:t>
            </a:r>
            <a:r>
              <a:rPr b="0" lang="ru-RU" sz="2900" spc="-1" strike="noStrike">
                <a:solidFill>
                  <a:srgbClr val="ff0000"/>
                </a:solidFill>
                <a:latin typeface="Verdana"/>
              </a:rPr>
              <a:t>  7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Verdana"/>
              </a:rPr>
              <a:t>Выполнить вариант 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Цель урока: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 установить связь между изменениями внутренней энергии, работы и количеством теплоты для изопроцессов;  научить решать задачи из ЕГЭ по данной тем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опрос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Что называется внутренней энергией тел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Как рассчитать внутреннюю энергию идеального одноатомного газ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Как рассчитать работу совершенную газо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Сформулируйте закон сохранения энерги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Сформулируйте первый закон термодина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82736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Первый закон термодинамики (закон сохранения энергии для тепловых процессов) определяет количественное соотношение меж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изменением внутренней энергии системы      U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количеством теплоты Q, подведенным к ней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и суммарной </a:t>
            </a:r>
            <a:r>
              <a:rPr b="0" lang="en-US" sz="1900" spc="-1" strike="noStrike" u="sng">
                <a:solidFill>
                  <a:srgbClr val="000066"/>
                </a:solidFill>
                <a:uFillTx/>
                <a:latin typeface="Verdana"/>
              </a:rPr>
              <a:t>работой внешних сил A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, действующих на систе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Первый закон термодинамики - Изменение внутренней энергии системы при ее переходе из одного состояния в другое равно сумме количества теплоты, подведенного к системе извне, и работы внешних сил, действующих на не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Первый закон термодинамики - количество теплоты, подведенное к системе, идет на изменение ее внутренней энергии и на совершение системой работы над внешними телами А‘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843280" y="4437000"/>
            <a:ext cx="250488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2700360" y="5877000"/>
            <a:ext cx="2841480" cy="62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lum contrast="78000"/>
          </a:blip>
          <a:stretch/>
        </p:blipFill>
        <p:spPr>
          <a:xfrm>
            <a:off x="5435640" y="2565360"/>
            <a:ext cx="306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 изохорный процесс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37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А) изохорное нагрева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изохорном нагревании (   T&gt;0 ), внутренняя энергия увеличивается (    U&gt;0) , работа A=p   V равна нулю, т.к.   V=0, а тепло поглощается (Q&gt;0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ервый закон термодинамики выглядит так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Газ увеличивает свою внутреннюю энергию за счет теплоты, полученной из внешней среды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При изохорном процессе объем газа остается постоянным, поэтому газ не совершает работу. Изменение внутренней энергии газа происходит благодаря теплообмену с окружающими телам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Б) изохорное охлаждени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изохорном охлаждении (    T&lt;0 ), внутренняя энергия уменьшается  (   U&lt;0 , работа A=p   V равна нулю, т.к.    V=0, а тепло выделяется (Q&lt;0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Газ выделяет тепло во внешнюю среду; при этом его внутренняя энергия уменьшаетс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6227640" y="1052640"/>
            <a:ext cx="30636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78000"/>
          </a:blip>
          <a:stretch/>
        </p:blipFill>
        <p:spPr>
          <a:xfrm>
            <a:off x="3635280" y="1916280"/>
            <a:ext cx="241560" cy="261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>
            <a:lum contrast="78000"/>
          </a:blip>
          <a:stretch/>
        </p:blipFill>
        <p:spPr>
          <a:xfrm>
            <a:off x="2549520" y="2205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>
            <a:lum contrast="78000"/>
          </a:blip>
          <a:stretch/>
        </p:blipFill>
        <p:spPr>
          <a:xfrm>
            <a:off x="5148360" y="2205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7524720" y="2205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>
            <a:lum contrast="48000"/>
          </a:blip>
          <a:stretch/>
        </p:blipFill>
        <p:spPr>
          <a:xfrm>
            <a:off x="6012000" y="2708280"/>
            <a:ext cx="1296720" cy="422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>
            <a:lum contrast="78000"/>
          </a:blip>
          <a:stretch/>
        </p:blipFill>
        <p:spPr>
          <a:xfrm>
            <a:off x="3635280" y="4724280"/>
            <a:ext cx="263520" cy="28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>
            <a:lum contrast="78000"/>
          </a:blip>
          <a:stretch/>
        </p:blipFill>
        <p:spPr>
          <a:xfrm>
            <a:off x="7308720" y="5084640"/>
            <a:ext cx="131760" cy="14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>
            <a:lum contrast="78000"/>
          </a:blip>
          <a:stretch/>
        </p:blipFill>
        <p:spPr>
          <a:xfrm>
            <a:off x="4859280" y="501336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>
            <a:lum contrast="78000"/>
          </a:blip>
          <a:stretch/>
        </p:blipFill>
        <p:spPr>
          <a:xfrm>
            <a:off x="2411280" y="5013360"/>
            <a:ext cx="198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. Изотермический процесс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. T= const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37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ff0000"/>
                </a:solidFill>
                <a:latin typeface="Verdana"/>
              </a:rPr>
              <a:t>А) изотермическое сжат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ля изотермического процесса T= const,    T=0, а значит U= 3/2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/M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RT=0 ( внутренняя энергия не изменяется). Над газом совершается работа А&gt;0, а тепло выделяется Q&lt;0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вый закон термодинамики     U=A+Q выглядит так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Над газом совершается работа, при этом газ выделяет тепло во внешнюю среду  ( внутренняя энергия не изменяетс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ff0000"/>
                </a:solidFill>
                <a:latin typeface="Verdana"/>
              </a:rPr>
              <a:t>Б) изотермическое расширени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ля изотермического процесса T=const,   T=0, а значит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U=0 ( внутренняя энергия не изменяется). Газ совершает работу А&lt;0, а тепло поглощается (Q&gt;0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5867280" y="4869000"/>
            <a:ext cx="198720" cy="21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contrast="78000"/>
          </a:blip>
          <a:stretch/>
        </p:blipFill>
        <p:spPr>
          <a:xfrm>
            <a:off x="4643280" y="3213000"/>
            <a:ext cx="19872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contrast="90000"/>
          </a:blip>
          <a:stretch/>
        </p:blipFill>
        <p:spPr>
          <a:xfrm>
            <a:off x="3995640" y="3500280"/>
            <a:ext cx="981000" cy="400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contrast="78000"/>
          </a:blip>
          <a:stretch/>
        </p:blipFill>
        <p:spPr>
          <a:xfrm>
            <a:off x="6012000" y="1989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755640" y="5229360"/>
            <a:ext cx="198360" cy="21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>
            <a:lum contrast="78000"/>
          </a:blip>
          <a:stretch/>
        </p:blipFill>
        <p:spPr>
          <a:xfrm>
            <a:off x="395280" y="2276640"/>
            <a:ext cx="19836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Изобарный процесс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 р=con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827360"/>
            <a:ext cx="8432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А) изобарное нагрева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изобарном нагревании температура увеличиваетс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   T&gt;0), внутренняя энергия увеличивается (   U&gt;0), газ совершает работу, тепло поглоща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ервый закон термодинамики выглядит так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Газ получает тепло из внешней среды. Полученная таким образом энергия тратится на увеличение внешней энергии и на совершение работ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Б) изобарное охлажд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изобарном охлаждении температура умень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   T&lt;0 ), внутренняя энергия уменьшается (    U&lt;0), над газом совершается работа, тепло выделя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Над газом совершается работа, при этом газ выделяет тепло во внешнюю среду, а его внутренняя уменьша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900000" y="2637000"/>
            <a:ext cx="198720" cy="21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588000" y="2565360"/>
            <a:ext cx="239760" cy="26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443640" y="3078000"/>
            <a:ext cx="2449440" cy="455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1280" y="5589720"/>
            <a:ext cx="239760" cy="26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300720" y="5589720"/>
            <a:ext cx="23976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Адиабатный процесс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Адиабатный процес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- термодинамический процесс в теплоизолированной сис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Теплоизолированная систем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- система, не обменивающаяся энергией с окружающими тел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А) адиабатное сжатие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адиабатном сжатии температура увеличивается(   T&gt;0), внутренняя энергия увеличивается (    U&gt;0), над газом совершается работа А&gt;0, а количество теплоты равно нул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ервый закон термодинамики выглядит так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Над газом совершается работа, при этом внутренняя энергия газа увеличива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Б) адиабатное расшир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адиабатном расширении температура уменьшается (  T&lt;0), внутренняя энергия уменьшается (    U&lt;0), газ совершает работу (А&lt;0), а количество теплоты равно нул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Газ совершает работу только за счет своей внутренней энергии. (Внутренняя энергия при этом уменьшается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7524720" y="306864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364000" y="3357720"/>
            <a:ext cx="198720" cy="21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443640" y="3860640"/>
            <a:ext cx="2521080" cy="51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7524720" y="306864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>
            <a:lum contrast="54000"/>
          </a:blip>
          <a:stretch/>
        </p:blipFill>
        <p:spPr>
          <a:xfrm>
            <a:off x="8028000" y="5445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5219640" y="5734080"/>
            <a:ext cx="198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ешение задач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Verdana"/>
              </a:rPr>
              <a:t>А1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Если </a:t>
            </a:r>
            <a:r>
              <a:rPr b="0" i="1" lang="en-US" sz="2100" spc="-1" strike="noStrike">
                <a:solidFill>
                  <a:srgbClr val="000066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1  = 2 л, </a:t>
            </a:r>
            <a:r>
              <a:rPr b="0" i="1" lang="en-US" sz="2100" spc="-1" strike="noStrike">
                <a:solidFill>
                  <a:srgbClr val="000066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2 = 3 л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1 = 4 ∙ 10(4) Па, </a:t>
            </a:r>
            <a:r>
              <a:rPr b="0" i="1" lang="en-US" sz="21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2 = 10(5) П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то в процессе </a:t>
            </a:r>
            <a:r>
              <a:rPr b="0" i="1" lang="ru-RU" sz="21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0" i="1" lang="ru-RU" sz="2100" spc="-1" strike="noStrike">
                <a:solidFill>
                  <a:srgbClr val="000066"/>
                </a:solidFill>
                <a:latin typeface="Verdana"/>
              </a:rPr>
              <a:t> 2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газ соверши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работу, равную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1) 20 Дж;</a:t>
            </a:r>
            <a:r>
              <a:rPr b="1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2) 30 Дж;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3) 50 Дж;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4) 70 Дж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5) 82 Дж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ru-RU" sz="21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Если идеальный газ отдал  количество теплоты 100 Дж и при этом внутренняя энергия газа уменьшилась на 100 Дж, то работа, совершённая газом, равн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1) –200 Дж; 2) 200 Дж;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3) 100 Дж;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66"/>
                </a:solidFill>
                <a:latin typeface="Verdana"/>
              </a:rPr>
              <a:t>4) 0 Дж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19447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9:49Z</dcterms:created>
  <dc:creator>Альфия</dc:creator>
  <dc:description/>
  <dc:language>en-US</dc:language>
  <cp:lastModifiedBy>Альфия</cp:lastModifiedBy>
  <dcterms:modified xsi:type="dcterms:W3CDTF">2012-02-12T15:29:48Z</dcterms:modified>
  <cp:revision>4</cp:revision>
  <dc:subject/>
  <dc:title>Применение первого закона термодинамики к изопроцессам.</dc:title>
</cp:coreProperties>
</file>