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F60-C416-4E73-8D89-2DE8A891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F90-9C12-433B-AECC-BA87F7EF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E70-8018-4629-AD18-79CCB202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646-AB80-4295-BFDB-954BD8D1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0C82-C95D-43A7-B92D-02520442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CAB4-CD68-4EEE-89AF-5290C0E4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24B-10A5-45B1-A1D2-C1C8B24E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B316-3E16-480A-9640-E75A03EE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723B-2C2A-44C1-AB6E-B9D42388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7338-9675-4C02-9DEB-7F793F7B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10CA-8987-48E6-B184-B68C49D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419-32A4-40CC-8531-3044EDEC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233D-16B1-46C0-9AA7-B5B2C9E8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4C05-EE1E-4CCB-9E47-AF01C856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E01B-932A-4C3C-AC0C-E74BF71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C07-A5A1-4F2E-B3F7-242396BD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6FF3-3379-4BCE-804E-551E3E7C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9E9-4602-41AA-AA3D-4F7C2118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367-C82D-46D6-9635-EF2904F6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D22-DBDA-474C-BF1E-36C5C556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A65-6ACF-4DA1-A981-434B2BEE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433-9A4D-4F25-8E3F-486C95E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A2A-CF15-457B-BA4B-7AF234BB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91B-8EAF-48F3-BEB9-0458DA7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E162-8F00-4014-AFA4-9E4D496ED5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4F6D-813B-44A4-993C-1B08F15212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47280" y="1714320"/>
            <a:ext cx="84963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mbria"/>
              </a:rPr>
              <a:t>Тема: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mbria"/>
              </a:rPr>
              <a:t>« ПСИХОФИЗИЧЕСКОЕ РАЗВИТИЕ ПОДРОСТКОВ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mbria"/>
              </a:rPr>
              <a:t>(ПЕРЕХОДНЫЙ ВОЗРАСТ)»</a:t>
            </a:r>
            <a:br>
              <a:rPr sz="7200"/>
            </a:br>
            <a:r>
              <a:rPr b="1" lang="ru-RU" sz="6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7" descr="77"/>
          <p:cNvPicPr/>
          <p:nvPr/>
        </p:nvPicPr>
        <p:blipFill>
          <a:blip r:embed="rId1"/>
          <a:stretch/>
        </p:blipFill>
        <p:spPr>
          <a:xfrm>
            <a:off x="6429240" y="4572000"/>
            <a:ext cx="2489400" cy="19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1500120"/>
            <a:ext cx="80722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юбовь       Доверие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онимание       Поддержк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инус 3"/>
          <p:cNvSpPr/>
          <p:nvPr/>
        </p:nvSpPr>
        <p:spPr>
          <a:xfrm>
            <a:off x="4357800" y="2786040"/>
            <a:ext cx="785880" cy="357120"/>
          </a:xfrm>
          <a:prstGeom prst="pi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инус 4"/>
          <p:cNvSpPr/>
          <p:nvPr/>
        </p:nvSpPr>
        <p:spPr>
          <a:xfrm>
            <a:off x="6500880" y="1714680"/>
            <a:ext cx="785880" cy="357120"/>
          </a:xfrm>
          <a:prstGeom prst="pi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инус 6"/>
          <p:cNvSpPr/>
          <p:nvPr/>
        </p:nvSpPr>
        <p:spPr>
          <a:xfrm>
            <a:off x="3071880" y="1785960"/>
            <a:ext cx="785880" cy="357120"/>
          </a:xfrm>
          <a:prstGeom prst="pie">
            <a:avLst/>
          </a:prstGeom>
          <a:solidFill>
            <a:srgbClr val="cc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1b60f"/>
                </a:solidFill>
                <a:latin typeface="Arial"/>
              </a:rPr>
              <a:t>Акселерация и ретардация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селераты – лидеры в классах. К 30 годам это крепкие и социально приспособленные, но зависимые от мнения окружающих, приземленные лю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тарданты, наоборот, – вначале обидчивые, задиристые, стремящиеся привлечь внимание, замкнутые и подчиняемые в юности, к 30 годам становятся людьми с более прочным душевным ядром и высокими принцип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За что и против чего ведет борьбу ребенок в переходном возрасте?</a:t>
            </a:r>
            <a:br>
              <a:rPr sz="4400"/>
            </a:b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040" y="1785600"/>
            <a:ext cx="75438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1b60f"/>
                </a:solidFill>
                <a:latin typeface="Arial"/>
              </a:rPr>
              <a:t>За то, чтобы перестать быть ребенк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1b60f"/>
                </a:solidFill>
                <a:latin typeface="Arial"/>
              </a:rPr>
              <a:t>За прекращение посягательств на его физическое начало, неприкосновен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1b60f"/>
                </a:solidFill>
                <a:latin typeface="Arial"/>
              </a:rPr>
              <a:t>За утверждение среди сверс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1b60f"/>
                </a:solidFill>
                <a:latin typeface="Arial"/>
              </a:rPr>
              <a:t>Против замечаний, обсуждений, особенно ироничных, по поводу его физической взросл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" descr="C:\Program Files\Microsoft Office\MEDIA\CAGCAT10\j0298653.wmf"/>
          <p:cNvPicPr/>
          <p:nvPr/>
        </p:nvPicPr>
        <p:blipFill>
          <a:blip r:embed="rId1"/>
          <a:srcRect l="0" t="0" r="30887" b="0"/>
          <a:stretch/>
        </p:blipFill>
        <p:spPr>
          <a:xfrm>
            <a:off x="7215120" y="5000760"/>
            <a:ext cx="171468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b60f"/>
                </a:solidFill>
                <a:latin typeface="Cambria"/>
              </a:rPr>
              <a:t>Правила, которые должны соблюдать родители подростка:</a:t>
            </a:r>
            <a:br>
              <a:rPr sz="3600"/>
            </a:b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040" y="1499760"/>
            <a:ext cx="7543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мочь ребенку найти компромисс души и т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●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се замечания делать в доброжелательном, спокойном тоне, без ярлы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●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дробно познакомить ребенка с устройством и функционированием организ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●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ледует помнить, что пока развивается тело ребенка, болит и ждет помощи его душ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14040" y="213840"/>
            <a:ext cx="75438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В самостоятельности ребенка не следует видеть угрозу лишиться 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Помните, что ребенку нужна не столько самостоятельность, сколько право на н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Хотите, чтобы ребенок сделал то, что вам нужно, сделайте так, чтобы он сам захотел эт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Не перегружайте ребенка опекой и контро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Не создавайте «революционную ситуацию», а если создали, разрешайте ее мирным пут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Помните слова И.-В. Гете: </a:t>
            </a:r>
            <a:r>
              <a:rPr b="1" lang="ru-RU" sz="2400" spc="-1" strike="noStrike">
                <a:solidFill>
                  <a:srgbClr val="f1b60f"/>
                </a:solidFill>
                <a:latin typeface="Cambria"/>
              </a:rPr>
              <a:t>«В подростковом возрасте многие человеческие достоинства проявляются в чудаческих и неподобающих поступках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14040" y="49968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Девочкам нужн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поним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сочувств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уход от одино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Мальчикам нужн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поним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взаимо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3" descr="j0232524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29120" y="4000680"/>
            <a:ext cx="1571760" cy="242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Program Files\Microsoft Office\MEDIA\CAGCAT10\j0216724.wmf"/>
          <p:cNvPicPr/>
          <p:nvPr/>
        </p:nvPicPr>
        <p:blipFill>
          <a:blip r:embed="rId2"/>
          <a:srcRect l="0" t="18661" r="45084" b="0"/>
          <a:stretch/>
        </p:blipFill>
        <p:spPr>
          <a:xfrm>
            <a:off x="7286760" y="642960"/>
            <a:ext cx="1225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очему возникает влюбленность?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Font typeface="Arno Pro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b60f"/>
                </a:solidFill>
                <a:latin typeface="Arno Pro Display"/>
              </a:rPr>
              <a:t>Запрещать– </a:t>
            </a:r>
            <a:r>
              <a:rPr b="1" lang="ru-RU" sz="3600" spc="-1" strike="noStrike">
                <a:solidFill>
                  <a:srgbClr val="ffffff"/>
                </a:solidFill>
                <a:latin typeface="Arno Pro Display"/>
              </a:rPr>
              <a:t>значит </a:t>
            </a:r>
            <a:r>
              <a:rPr b="1" lang="ru-RU" sz="3600" spc="-1" strike="noStrike">
                <a:solidFill>
                  <a:srgbClr val="f1b60f"/>
                </a:solidFill>
                <a:latin typeface="Arno Pro Display"/>
              </a:rPr>
              <a:t>сделать подростка несчастны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701"/>
              </a:spcBef>
              <a:buClr>
                <a:srgbClr val="ffffff"/>
              </a:buClr>
              <a:buFont typeface="Arno Pro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b60f"/>
                </a:solidFill>
                <a:latin typeface="Arno Pro Display"/>
              </a:rPr>
              <a:t>Говорить о предмете влюбленности плохо – </a:t>
            </a:r>
            <a:r>
              <a:rPr b="1" lang="ru-RU" sz="3600" spc="-1" strike="noStrike">
                <a:solidFill>
                  <a:srgbClr val="ffffff"/>
                </a:solidFill>
                <a:latin typeface="Arno Pro Display"/>
              </a:rPr>
              <a:t>значит</a:t>
            </a:r>
            <a:r>
              <a:rPr b="1" lang="ru-RU" sz="3600" spc="-1" strike="noStrike">
                <a:solidFill>
                  <a:srgbClr val="f1b60f"/>
                </a:solidFill>
                <a:latin typeface="Arno Pro Display"/>
              </a:rPr>
              <a:t> расстроить взаимоотношения с ни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132"/>
          <p:cNvPicPr/>
          <p:nvPr/>
        </p:nvPicPr>
        <p:blipFill>
          <a:blip r:embed="rId1"/>
          <a:stretch/>
        </p:blipFill>
        <p:spPr>
          <a:xfrm>
            <a:off x="4572000" y="4286160"/>
            <a:ext cx="39625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15640" y="620640"/>
            <a:ext cx="7543800" cy="654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1b60f"/>
                </a:solidFill>
                <a:latin typeface="Comic Sans MS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569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1b60f"/>
                </a:solidFill>
                <a:latin typeface="Cambria"/>
              </a:rPr>
              <a:t>       </a:t>
            </a:r>
            <a:r>
              <a:rPr b="1" lang="ru-RU" sz="3200" spc="-1" strike="noStrike">
                <a:solidFill>
                  <a:srgbClr val="f1b60f"/>
                </a:solidFill>
                <a:latin typeface="Cambria"/>
              </a:rPr>
              <a:t>Тест для родителей «Проверь себя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1. Возвратившись домой с работы, Вы хотите прочитать газету. А Ваш сын (дочь) слушает в это время джазовую музыку. Вы говорите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а) Сейчас же выключи магнитофон!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б) Выключи магнитофон! У меня голова разламывается. Ты ведь видишь, что я собираюсь читать газету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в) Давай договоримся: я буду читать газету примерно в течение часа, а ты выключишь музыку. Потом можешь слушать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259920"/>
            <a:ext cx="754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2. Ваш сын не подстригался в течение длительного времени. Это Вас очень огорчает, и Вы говорит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а) Сейчас же отправляйся в парикмахерскую. Мне не нужен дома клоун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б) Как тебе не стыдно ходить в таком виде, ведь на тебя уже оглядываются! Вот тебе деньги на стрижку, пойди сейчас же подстриги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b60f"/>
                </a:solidFill>
                <a:latin typeface="Cambria"/>
              </a:rPr>
              <a:t>в) Сыну Вы ничего не говорите о его прическе. Вместо этого время от времени в его присутствии, разговаривая с женой, упоминаете о том, что мода на длинные волосы закончила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3. Вы просите дочь (сына) срочно сходить по какому-то важному делу. Она (он) отказывается. Вы догадываетесь, что дочь (сын) спешит на свидание, и говорит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а) Меня не касаются твои дела. Сейчас же отправляйся и сделай то, о чем я тебя прош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б) Ты все-таки должна (должен) это сделать. Надо и мне помо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в) Вы стараетесь не брать компромиссное решение: предлагаете различные варианты так, чтобы было сделано дело до или после свид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39640" y="115920"/>
            <a:ext cx="835344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4. Отец застает сына курящим (отец сам курит) и говорит сыну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а) Так ты куришь? В этом возрасте? Сейчас же брось сигарету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б) Если курить в твоем возрасте, то что же будет пото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в) Очень плохо делаешь, что привыкаешь к табаку. Если я сделал в молодости такую глупость и привык к курению, то это не значит, что и ты должен кур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5. Дочь просить купить ей дорогие туфли. У Вас нет на это денег. Вы говорит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а) В таком возрасте такие дорогие туфли? Ишь, чего захотела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б) Ты всегда просишь дорогие вещи. А откуда я возьму деньги? Походи в старых туфл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в) У меня сейчас нет денег. Вот когда получу премию – поговор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03280" y="40464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6. Сын (дочь) должен (должна) вымыть посуду, но вместо этого смотрит телевизионную передачу, и Вы говорит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а) Сейчас же вымой посуду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б) Мать больная, а ты даже посуду не вымоешь! Может быть, я это должна сделать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в) Не забудь после окончания телевизионной передачи вымыть посуду. Это неприятно, но это необходимо сдел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«Структура личности подростк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В ней нет ничего устойчивого, оконча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и неподвижного. Все в ней – переход, все течет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Л. С. Выгот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j0285410"/>
          <p:cNvPicPr/>
          <p:nvPr/>
        </p:nvPicPr>
        <p:blipFill>
          <a:blip r:embed="rId1"/>
          <a:stretch/>
        </p:blipFill>
        <p:spPr>
          <a:xfrm>
            <a:off x="1357200" y="3786120"/>
            <a:ext cx="3143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0"/>
            <a:ext cx="75438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1b60f"/>
                </a:solidFill>
                <a:latin typeface="Cambria"/>
              </a:rPr>
              <a:t>Вопросы для обсуж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1. Переходный возраст и физическое состояние учащихся-подрост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2. Подростковая псих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f1b60f"/>
                </a:solidFill>
                <a:latin typeface="Cambria"/>
              </a:rPr>
              <a:t>3. Какими видят себя подрост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7:44:01Z</dcterms:created>
  <dc:creator/>
  <dc:description/>
  <dc:language>en-US</dc:language>
  <cp:lastModifiedBy>Admin</cp:lastModifiedBy>
  <dcterms:modified xsi:type="dcterms:W3CDTF">2009-12-19T15:53:35Z</dcterms:modified>
  <cp:revision>386</cp:revision>
  <dc:subject/>
  <dc:title>PowerPoint Presentation</dc:title>
</cp:coreProperties>
</file>