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687-AD0F-477B-8469-31499E71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BE5-FF03-4A64-873D-51C2B32F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5E1-756E-4DD5-A27D-529D961A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AB6-4E4D-45C5-965D-34601650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AA2D-2100-4822-9CF6-52A0B75B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2840-2819-4067-8591-4CC791D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BEE-EE1F-42D3-A576-8E918EB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15F-F38B-4A76-BC13-86ED469C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ABA-89FF-4525-9518-C3214DA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A86-8E33-41F3-BD63-5571405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F3BA-680B-4A20-8DA1-8BAFDFF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F0D-3E9D-4306-89D4-13A5D30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ABB9-F06A-4940-ACD7-981244A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B7B-DBE4-4854-8B7C-981E923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7D2-0B02-4589-AAE4-9D9890EB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E13-44C2-4DF7-A5D8-E44A3FC4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164C-DF65-47B0-82A5-99AD95EB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1599-AF26-4CC4-A0AD-FDEF1F61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B243-8092-466E-8F0F-DBC7AE4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96AA-EED0-424B-80AF-82B9A94B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5C88-C07A-4B64-8AA0-D74151FC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1623-3263-4D63-B602-9AD18AA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105-3F81-4838-9259-32CFE9D9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6593-BF55-4658-B0BF-D22C4888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BCF1-EE1D-4BD4-A6E7-3948726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5461-E767-4317-9D53-C111E1B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585F-32F8-4CD7-853E-B0E2A71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1CBA-59E4-44ED-AC81-D98894E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178A-7688-4670-B747-82BB22B3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907B-BED8-4F08-93EF-70152DC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AF5D-EFAB-4048-BE5D-053BD2CB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8E80-3D10-4573-B6EE-D1C42ED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CC49-9899-4AF2-97D0-F590140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878-29B5-4B2B-A4D9-44EFF6A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EF65-5097-4D1B-877A-9BBFA0B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4530-69B3-44D6-8A9D-51F9964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2DCF-2E47-44A2-9ACF-34306E00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9375-69E0-4330-8729-21F3A0E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D0CC-4A58-434E-8D08-DC67ED86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9FE6-FA4B-4AB0-8A36-0B9178B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B43D-87FD-481E-86AE-6745DE9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0186-9AF5-43ED-B072-497BF359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9F9F-2DBE-44F0-A037-CB661EC7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7DF-5986-425A-875F-990019AF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E7B-EA36-4925-8B39-46E45B9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D1F-52BF-4681-868E-A91C0C6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A43-6660-4D8B-B66E-8B3FB96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042-013A-4499-8376-4232128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40E5-649D-442C-BC54-2B074F59E23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1E2-5D90-4341-8D5A-D9DDA3DA618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2D3-D459-4CAD-917F-D0BC59F673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7B1-0829-4BAA-8447-E97EB58043F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1957320"/>
            <a:ext cx="7893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Конкурс «Умники и умницы».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Кроссворд"/>
          <p:cNvPicPr/>
          <p:nvPr/>
        </p:nvPicPr>
        <p:blipFill>
          <a:blip r:embed="rId1"/>
          <a:srcRect l="0" t="0" r="0" b="20910"/>
          <a:stretch/>
        </p:blipFill>
        <p:spPr>
          <a:xfrm>
            <a:off x="714240" y="2428920"/>
            <a:ext cx="80010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5560" y="928800"/>
            <a:ext cx="50720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опросы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3840" y="1213920"/>
            <a:ext cx="8472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стройство, при помощи которого человек вводит информацию в компьютер.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бор условных обозначений для записи заранее определенных символов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стройство, при помощи которого люди считали с XVII до XX века включительн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стройство, позволяющее выводить информацию из памяти компьютера на бумаг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поминающее устройств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писок, из которого можно выбрать команду. В этой строке находятся слова: файл, правка, вид и т.д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стройство, на которое выводится информац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стейший вычислительный прибор, которым пользовались на протяжении веков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лавное устройство, “мозг” компьютера, который управляет всеми устройствами компьютер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85560" y="928800"/>
            <a:ext cx="50720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опросы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стройство, при помощи которого человек вводит информацию в компьютер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Клавиатура)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Набор условных обозначений для записи заранее определенных символов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Код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стройство, при помощи которого люди считали с XVII до XX века включительно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Арифмометр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стройство, позволяющее выводить информацию из памяти компьютера на бумагу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Принтер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поминающее устройство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Память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писок, из которого можно выбрать команду. В этой строке находятся слова: файл, правка, вид и т.д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Меню)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стройство, на которое выводится информация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Монитор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стейший вычислительный прибор, которым пользовались на протяжении веков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Счеты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лавное устройство, “мозг” компьютера, который управляет всеми устройствами компьютера.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(Процессор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Конкурс капита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од, дис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ка, с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ф, нота, икр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ь, пис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р, процесс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, кон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мм, порог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, май, та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Конкурс капитан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од, диск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дисковод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ка, с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дискета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ф, нота, икра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информатика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ь, писк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пиксель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, процесс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процессор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, кони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колонки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мм, порог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программа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г, май, там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мегабайт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1352520" y="895320"/>
            <a:ext cx="6438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загад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935000"/>
            <a:ext cx="825804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ромный серый колобок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инный тонкий проводок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 а на коробке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е или три кноп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зоопарке есть зайчишк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омпьютера есть 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Прямоугольник 3" descr=""/>
          <p:cNvPicPr/>
          <p:nvPr/>
        </p:nvPicPr>
        <p:blipFill>
          <a:blip r:embed="rId1"/>
          <a:stretch/>
        </p:blipFill>
        <p:spPr>
          <a:xfrm>
            <a:off x="4925880" y="4425840"/>
            <a:ext cx="3943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еперь, друзья, загадка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: рукоятк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нопки две, курок и хвостик?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у конечно, это 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1"/>
          <a:stretch/>
        </p:blipFill>
        <p:spPr>
          <a:xfrm>
            <a:off x="3932280" y="4711680"/>
            <a:ext cx="5132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шло с тех пор немало л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гда свершилось чудо э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ился он на бел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умир для всей плане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начала он умел счита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том научился писать, рисова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льмы показывать, петь пес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ться становится с ним интересн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ажите, пожалуйста, кто он та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ш всеумеющий гер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оло дисплея – главный бл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м бежит электрот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самым важным микросхем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блок зовут ..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Прямоугольник 3" descr=""/>
          <p:cNvPicPr/>
          <p:nvPr/>
        </p:nvPicPr>
        <p:blipFill>
          <a:blip r:embed="rId1"/>
          <a:stretch/>
        </p:blipFill>
        <p:spPr>
          <a:xfrm>
            <a:off x="3797280" y="5711760"/>
            <a:ext cx="5522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клавишам прыг да скок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-ре-ги но-го-ток!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-два и готово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тукали слово!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где пальцам физкультур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вот – 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2859120" y="4071960"/>
            <a:ext cx="5608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ней записаны программы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ля мамы, и для папы!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упаковке, как конфет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ыстро вертится 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3067200" y="4425840"/>
            <a:ext cx="569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 меня сплошной бардак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ы делаешь? И как?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же если постараться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 меня не разобраться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е слушай никог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увидишь ничего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Прямоугольник 3" descr=""/>
          <p:cNvPicPr/>
          <p:nvPr/>
        </p:nvPicPr>
        <p:blipFill>
          <a:blip r:embed="rId1"/>
          <a:stretch/>
        </p:blipFill>
        <p:spPr>
          <a:xfrm>
            <a:off x="3078000" y="4498920"/>
            <a:ext cx="46706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Конкурс “Ромашка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ALT + F4 (быстрое закрытие окна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DELETE (удаляет символ, стоящий справа от курсора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ENTER (перевод курсора на новую строку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ACKSPACE (удаляет символ, стоящий слева от курсора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SHIFT + буква (написать заглавную букву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APS LOSK (переключатель: первое нажатие её включает режим ввода прописных букв, а следующее - выключает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TRL + SHIFT (переключения клавиатуры с режима ввода русских букв на режим ввода латинских букв и обратно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5:07:51Z</dcterms:created>
  <dc:creator>Татьяна</dc:creator>
  <dc:description/>
  <dc:language>en-US</dc:language>
  <cp:lastModifiedBy>Татьяна</cp:lastModifiedBy>
  <dcterms:modified xsi:type="dcterms:W3CDTF">2012-02-29T17:48:18Z</dcterms:modified>
  <cp:revision>9</cp:revision>
  <dc:subject/>
  <dc:title>Путешествие в страну информатики </dc:title>
</cp:coreProperties>
</file>