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826-E5A4-4E34-B721-EE500276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D45-A173-469C-9584-9FC60CCB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48C-04E5-4C77-80AD-42DB632E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FEA-CBDF-4E1A-B73C-4F15ACAB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FEC-6B94-40E9-98D7-F38AF149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0E7-3C3B-48E8-8A33-5A1A59CC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AF7-37D7-48DC-8D44-8338B8F4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A55-A8EA-4FD9-B244-6EE87D0C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D8A-4A7C-4E53-9D6C-756F7C01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7B2-AA1B-4331-BFFD-6EB8C9C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A74-2F8A-4F34-BC59-A8B2AA9B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A7D-E974-4447-910F-DCA33FA2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2910-D6BF-4E92-A5A5-DB130349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360" y="1916280"/>
            <a:ext cx="32400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рус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о 2 «Б»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МБОУ СОШ №2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2708280"/>
            <a:ext cx="1582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270828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637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сог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75440" y="2349360"/>
            <a:ext cx="89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8080"/>
                </a:solidFill>
                <a:latin typeface="Times New Roman"/>
              </a:rPr>
              <a:t>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637000"/>
            <a:ext cx="1584360" cy="914400"/>
          </a:xfrm>
          <a:prstGeom prst="blockArc">
            <a:avLst>
              <a:gd name="adj1" fmla="val 10964052"/>
              <a:gd name="adj2" fmla="val 21435948"/>
              <a:gd name="adj3" fmla="val 0"/>
            </a:avLst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2708280"/>
            <a:ext cx="204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гла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3429000"/>
            <a:ext cx="187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3429000"/>
            <a:ext cx="187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08720" y="2997000"/>
            <a:ext cx="180000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08720" y="1484280"/>
            <a:ext cx="180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480960"/>
            <a:ext cx="1441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8000" y="476280"/>
            <a:ext cx="755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при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приставкою – присе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по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иставкою – подня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под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- подпрыгнуть, подмигну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по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иставкой – посмея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в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– вытягиваем ру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– опустим их оп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от и всё настало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за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–  зарядку заверш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4941720"/>
            <a:ext cx="27003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644840" cy="1349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4360" y="1844640"/>
            <a:ext cx="3476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бяв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ъле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ъёж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ъю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наъез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06400" y="68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720" y="549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53280" y="1844640"/>
            <a:ext cx="23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об</a:t>
            </a:r>
            <a:r>
              <a:rPr b="1" lang="en-US" sz="4000" spc="-1" strike="noStrike" u="sng">
                <a:solidFill>
                  <a:srgbClr val="6600ff"/>
                </a:solidFill>
                <a:uFillTx/>
                <a:latin typeface="Times New Roman"/>
              </a:rPr>
              <a:t>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в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вле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с</a:t>
            </a:r>
            <a:r>
              <a:rPr b="1" lang="en-US" sz="4000" spc="-1" strike="noStrike" u="sng">
                <a:solidFill>
                  <a:srgbClr val="6600ff"/>
                </a:solidFill>
                <a:uFillTx/>
                <a:latin typeface="Times New Roman"/>
              </a:rPr>
              <a:t>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ё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ж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в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ю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н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з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1341360"/>
            <a:ext cx="7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220500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781360"/>
            <a:ext cx="65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3789360"/>
            <a:ext cx="1224000" cy="144360"/>
          </a:xfrm>
          <a:prstGeom prst="blockArc">
            <a:avLst>
              <a:gd name="adj1" fmla="val 10964052"/>
              <a:gd name="adj2" fmla="val 21435948"/>
              <a:gd name="adj3" fmla="val 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3860640"/>
            <a:ext cx="7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1811520" cy="1916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6084720" cy="4392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59280" y="292428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ём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ойке,кра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ьехал,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400" y="83664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К стройке под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</a:rPr>
              <a:t>ъ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хал под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</a:rPr>
              <a:t>ъ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ё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мный кр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3760" y="450720"/>
            <a:ext cx="59824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с. 143 упр. 2 (дописа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*с. 144 упр.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7720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19280" y="1557360"/>
            <a:ext cx="842472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асибо за </a:t>
            </a:r>
            <a:endParaRPr b="1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работу !</a:t>
            </a:r>
            <a:endParaRPr b="1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2970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773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на, над, по, под, раз, рас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с, у, от, об, вз, 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4348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8360" y="620640"/>
            <a:ext cx="38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слов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4920" y="292428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прист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360" y="37893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0560" y="4437000"/>
            <a:ext cx="21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суффикс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720" y="393372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о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88720" y="306864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око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2421000"/>
            <a:ext cx="7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59280" y="2492280"/>
            <a:ext cx="14414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2349360"/>
            <a:ext cx="201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2492280"/>
            <a:ext cx="14382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2349360"/>
            <a:ext cx="19447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0920" y="1268280"/>
            <a:ext cx="2880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14000" spc="-1" strike="noStrike">
                <a:solidFill>
                  <a:srgbClr val="0000ff"/>
                </a:solidFill>
                <a:latin typeface="Times New Roman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0" spc="-1" strike="noStrike">
                <a:solidFill>
                  <a:srgbClr val="0000ff"/>
                </a:solidFill>
                <a:latin typeface="Times New Roman"/>
              </a:rPr>
              <a:t>з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68360" y="3499920"/>
            <a:ext cx="2735280" cy="7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043000" cy="2349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9960" y="2060640"/>
            <a:ext cx="722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</a:t>
            </a: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 а д й</a:t>
            </a:r>
            <a:r>
              <a:rPr b="1" lang="el-GR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ʹ</a:t>
            </a: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 с т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96360" y="4292640"/>
            <a:ext cx="1139760" cy="227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59120" y="193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276640"/>
            <a:ext cx="217440" cy="21564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227664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52440" y="2781360"/>
            <a:ext cx="446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imes New Roman"/>
              </a:rPr>
              <a:t>подъез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284640"/>
            <a:ext cx="914400" cy="9144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2781360"/>
            <a:ext cx="1584360" cy="914400"/>
          </a:xfrm>
          <a:prstGeom prst="blockArc">
            <a:avLst>
              <a:gd name="adj1" fmla="val 10964052"/>
              <a:gd name="adj2" fmla="val 21435948"/>
              <a:gd name="adj3" fmla="val 0"/>
            </a:avLst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2852640"/>
            <a:ext cx="2087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924360" y="2852280"/>
            <a:ext cx="0" cy="289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4292640"/>
            <a:ext cx="5111640" cy="7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35280" y="4076640"/>
            <a:ext cx="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48360" y="4149720"/>
            <a:ext cx="0" cy="21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14284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64000" y="333360"/>
            <a:ext cx="3421080" cy="3260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987640" y="314172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Times New Roman"/>
              </a:rPr>
              <a:t>- ез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2924280"/>
            <a:ext cx="1584360" cy="914400"/>
          </a:xfrm>
          <a:prstGeom prst="blockArc">
            <a:avLst>
              <a:gd name="adj1" fmla="val 10964052"/>
              <a:gd name="adj2" fmla="val 21435948"/>
              <a:gd name="adj3" fmla="val 0"/>
            </a:avLst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050920" y="292392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195640" y="263700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908000" y="3644640"/>
            <a:ext cx="100656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907640" y="3789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907640" y="328464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979640" y="378936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33360"/>
            <a:ext cx="1657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195640" y="3789360"/>
            <a:ext cx="79056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64000" y="333360"/>
            <a:ext cx="34210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68360" y="162864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ы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отъ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на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о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объ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ъ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ере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404640"/>
            <a:ext cx="5616720" cy="1152720"/>
          </a:xfrm>
          <a:prstGeom prst="downArrowCallout">
            <a:avLst>
              <a:gd name="adj1" fmla="val 121826"/>
              <a:gd name="adj2" fmla="val 121814"/>
              <a:gd name="adj3" fmla="val 16667"/>
              <a:gd name="adj4" fmla="val 6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300720" y="4941720"/>
            <a:ext cx="2376720" cy="1468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58160" y="765000"/>
            <a:ext cx="3460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от</a:t>
            </a:r>
            <a:r>
              <a:rPr b="1" lang="en-US" sz="8800" spc="-1" strike="noStrike" u="sng">
                <a:solidFill>
                  <a:srgbClr val="0000ff"/>
                </a:solidFill>
                <a:uFillTx/>
                <a:latin typeface="Times New Roman"/>
              </a:rPr>
              <a:t>ъ</a:t>
            </a: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ез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об</a:t>
            </a:r>
            <a:r>
              <a:rPr b="1" lang="en-US" sz="8800" spc="-1" strike="noStrike" u="sng">
                <a:solidFill>
                  <a:srgbClr val="0000ff"/>
                </a:solidFill>
                <a:uFillTx/>
                <a:latin typeface="Times New Roman"/>
              </a:rPr>
              <a:t>ъ</a:t>
            </a: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ез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в</a:t>
            </a:r>
            <a:r>
              <a:rPr b="1" lang="en-US" sz="8800" spc="-1" strike="noStrike" u="sng">
                <a:solidFill>
                  <a:srgbClr val="0000ff"/>
                </a:solidFill>
                <a:uFillTx/>
                <a:latin typeface="Times New Roman"/>
              </a:rPr>
              <a:t>ъ</a:t>
            </a: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ез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20:22:18Z</dcterms:created>
  <dc:creator>Вадим</dc:creator>
  <dc:description/>
  <dc:language>en-US</dc:language>
  <cp:lastModifiedBy>Вадим</cp:lastModifiedBy>
  <dcterms:modified xsi:type="dcterms:W3CDTF">2012-03-01T16:12:31Z</dcterms:modified>
  <cp:revision>38</cp:revision>
  <dc:subject/>
  <dc:title>Слайд 1</dc:title>
</cp:coreProperties>
</file>