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2DA-04F7-4538-8A3A-027D91D1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CA1-8CEF-41E6-9DBF-AFBD467B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202-F581-45D8-9587-042A49D0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0E2-C2D3-48FC-888B-E35FFC3C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A88-9B50-4372-8850-3D7A5215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878-CD9E-451F-8557-D1795D7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625-B13B-42F0-A958-3F8A49F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779-3E26-4666-8AE0-C4886225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3F13-AD5C-4FBE-818D-954E220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F646-D2D4-45F6-89BF-9A710DB1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2814-3C6D-468E-96C0-8FAA418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836-5049-4895-A72E-B5158872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3975-3AE8-42BF-8BB3-E2987728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101-0A80-4281-B07C-FE0E1B7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3414-E70A-41A9-90DE-4D198A90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A75-E284-4233-8B64-2EFB0289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75E1-3B56-40FC-A9EF-A5042A9B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16E-A398-4D42-8129-AFE68B6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4FD-5241-498F-9615-B881E09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917-2210-4107-BA6B-FD2F5F0F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C5B-D395-48B3-96CE-CC888A9B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B3A-A98A-42F8-9556-5BAE4D7F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D4A-F5A5-4071-9F0D-BFDDCDF5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337-F17A-4996-B1A5-D737B5F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A1B1-C9DB-474C-91B7-93BE9DAA18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5B59-DFFA-41C1-818F-33E4B52FAB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9"/>
          <p:cNvSpPr/>
          <p:nvPr/>
        </p:nvSpPr>
        <p:spPr>
          <a:xfrm>
            <a:off x="1571760" y="500040"/>
            <a:ext cx="62150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Российские железные доро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3714840" y="171468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ыполнил ученик 9 «Б» класс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МОУ-СОШ № 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акулин Вик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учитель географии Сапегина С. 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66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1763640" y="1844640"/>
            <a:ext cx="5715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2475000" cy="192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032000" cy="251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2427120" cy="353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3492360" y="3716280"/>
            <a:ext cx="2367000" cy="16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5"/>
          <a:stretch/>
        </p:blipFill>
        <p:spPr>
          <a:xfrm>
            <a:off x="539640" y="189000"/>
            <a:ext cx="1944720" cy="123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6"/>
          <a:stretch/>
        </p:blipFill>
        <p:spPr>
          <a:xfrm>
            <a:off x="6156360" y="115920"/>
            <a:ext cx="2087640" cy="137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7"/>
          <a:stretch/>
        </p:blipFill>
        <p:spPr>
          <a:xfrm>
            <a:off x="2843280" y="115920"/>
            <a:ext cx="2879640" cy="182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8"/>
          <a:stretch/>
        </p:blipFill>
        <p:spPr>
          <a:xfrm>
            <a:off x="5796000" y="4941720"/>
            <a:ext cx="18050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4" descr=""/>
          <p:cNvPicPr/>
          <p:nvPr/>
        </p:nvPicPr>
        <p:blipFill>
          <a:blip r:embed="rId1"/>
          <a:stretch/>
        </p:blipFill>
        <p:spPr>
          <a:xfrm>
            <a:off x="6051600" y="3716280"/>
            <a:ext cx="3092400" cy="231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857680" cy="21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3"/>
          <a:stretch/>
        </p:blipFill>
        <p:spPr>
          <a:xfrm>
            <a:off x="2771640" y="3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2411280" y="2060640"/>
            <a:ext cx="3665520" cy="20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611280" y="26028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6"/>
          <a:stretch/>
        </p:blipFill>
        <p:spPr>
          <a:xfrm>
            <a:off x="324000" y="2349360"/>
            <a:ext cx="2190600" cy="164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7"/>
          <a:stretch/>
        </p:blipFill>
        <p:spPr>
          <a:xfrm>
            <a:off x="5508720" y="260280"/>
            <a:ext cx="3251160" cy="13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8"/>
          <a:stretch/>
        </p:blipFill>
        <p:spPr>
          <a:xfrm>
            <a:off x="250920" y="3716280"/>
            <a:ext cx="3371760" cy="224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9"/>
          <a:stretch/>
        </p:blipFill>
        <p:spPr>
          <a:xfrm>
            <a:off x="3492360" y="3645000"/>
            <a:ext cx="3195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ЖД – МЕНЯЕМСЯ ДЛЯ ВА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ЕЛЕЗНОДОРОЖНЫЙ ТРАНСПОР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елезнодорожный транспорт в России — одна из крупнейших железнодорожных сетей мира, существующая с 1837 года и насчитывающая 86 тыс. км железнодорожных путей, из которых около половины — электрифицированные. По общей протяжённости железнодорожных путей Россия занимает 2-е место, уступая только США (194,7 тыс. км). По протяжённости электрифицированных дорог (43 тыс. км) Россия занимает 1-е место в ми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стория возникновения железных дорог Ро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оссийское правительство озаботилось вопросами прокладки железной дороги в начале XIX века. Базой для этого направления стал Департамент водных коммуникаций, созданный в 1798 году по утверждённому императором Павлом I проекту. Организацию возглавил Н. П. Румянцев. Департамент при Румянцеве действовал успешно, активно развивался и в 1809 году расширил свои полномочия и был переименован в Управление водяными и сухопутными сообщениями. На базе, построенной Румянцевым, в том же 1809 году был создан военный Институт корпуса путей сообщ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вая железная доро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стория железных дорог в России начинается с 1830-х годов. В 1834 году по приглашению горного ведомства в Россию прибыл австрийский инженер Франц фон Герстнер, который внёс императору Николаю I предложение о строительстве железнодорожной линии. В 1836 году император обнародовал указ о сооружении Царскосельской железной дороги. За несколько месяцев был построен пусковой участок от Кузьмино до Павловска, на котором к концу года было запущено движение, а официальное открытие дороги состоялось в конце 1837 год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елезная дорога в царские време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царские времена, после открытия Царскосельской железной дороги развитие путей сообщения продолжает развиваться. Во 2-й половине XIX века это было обусловлено как потребностями экономики, так и военными интересами государств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851 году открывается новая железная дорога -Николаевская, соединяющая Санкт-Петербург и Москв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866 году была построена Московско-Курская железная дорога, магистраль проходила через центральный район России – Тулу, Орел, Курс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СИБИРСКАЯ МАГИСТРА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ранссиб, Великий Сибирский Путь (историческое название) железная дорога через Евразию, соединяющая Москву и крупнейшие восточносибирские и дальневосточные промышленные города России. Длина магистрали 9288,2 км — это самая длинная железная дорога в мире. Высшая точка пути — Яблоновый перевал (1019 м над уровнем мор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ЕЛЕЗНЫЕ ДОРОГИ ССС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сле революции 1917 года управление железными дорогами было возложено на НКПС (Народный комиссариат путей сообщения), а позднее в 1946 году преобразован в МПС СССР (Министерство путей сообщения СССР). После Великой Отечественной войны народное хозяйство было разрушено, в том числе огромный урон получила железная дорога. В годы войны многие железнодорожники стали Героями СССР и Героями Социалистического труд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Главной комсомольской стройкой советского периода являлось строительство БАМа (Байкало-Амурская магистраль). Миллионы юношей и девушек по зову партии отправлялись по комсомольским путевкам в тайгу, на строительств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ПС РФ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1992 года МПС СССР было переименовано в МПС РФ, распад СССР естественно сказалось на железной дорог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то же время, в конце 1990-х и в начале 2000-х годов, на волне роста благосостояния населения МПС предприняло меры по повышению доходов от пассажирских перевозок: был усилен контроль за безбилетным проездом (ограждение перронов, установка турникетов), запущены пригородные поезда-экспрессы повышенной комфортно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Российские Железные Дороги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2004 МПС РФ переименовали в ОАО «РЖД», директором был назначен Владимир Якунин. С начала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I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века РЖД постепенно выходит из кризиса, строятся новые магистрали, открывается скоростное сообщение, высоко скоростные поезда «САПСАН» курсируют на участке Москва -Санкт-Петербург -Нижний Новгород. Так же новые высокоскоростные поезда «АЛЛЕГРО» от компании Сименс курсируют от Санкт-Петербурга до Хельсинки. С сентября 2010 года в свой первый путь отправился поезд Москва-Ницца, проводники и персонал поезда имеют опыт общения на многих языках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организация РЖД идет уверенно, так до 2013 года в фирменный вид (серо-красный) планируется перекрасить весь вагонный парк и заменить устаревшие вагоны, на вагоны премиум-класса, а так же ввести новую форменную одежду для сотрудников РЖ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лавным приоритетом РЖД является олимпиада СОЧИ-2014, президент РЖД В. Якунин возглавляет совет олимпиады. РЖД строит новые дороги через горные склоны Причерноморья, строительство нового вокзала в Адлере и многое друго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6:25:13Z</dcterms:created>
  <dc:creator>Витёк</dc:creator>
  <dc:description/>
  <dc:language>en-US</dc:language>
  <cp:lastModifiedBy>TopHits™</cp:lastModifiedBy>
  <dcterms:modified xsi:type="dcterms:W3CDTF">2011-03-28T19:44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43100207f6000400038000</vt:lpwstr>
  </property>
</Properties>
</file>