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6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25.jpeg" ContentType="image/jpeg"/>
  <Override PartName="/ppt/media/image46.jpeg" ContentType="image/jpeg"/>
  <Override PartName="/ppt/media/image20.jpeg" ContentType="image/jpeg"/>
  <Override PartName="/ppt/media/image65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61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8.jpeg" ContentType="image/jpeg"/>
  <Override PartName="/ppt/media/image39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52F9-24C6-4BEC-9D60-5DD94E8B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45C2-38BF-4CF1-BC23-9C254F6E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824-703C-4E77-BC4E-BF689582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B7D8-9734-47C1-90C3-9C119569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DAC-E7A1-4372-9212-4E2C8082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F9E7-3951-46CE-9BFA-FC81EBA2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749C-13CE-4877-9D93-2CB9EC89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6AF7-6EF2-4C39-9D82-DCC85419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9B2-8794-4BC3-9791-7EC8BA17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EAA-6E7E-44A5-876C-E74234E2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ED37-1BBA-488C-BC4B-BD8CD8CB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0FD-D79C-42DE-B190-6B328415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0991-3940-4FC2-B476-F043D9D48F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g15.nnm.ru/1/f/4/f/b/5021e7c92c68c0e01e29a5c134d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2.tourbina.ru/photos.3/5/9/591334/big.photo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technomuseum.ru/wp-content/uploads/2011/05/IMG_0379-1024x768.jpg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2.tourbina.ru/photos.3/5/9/591337/big.photo.jpg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620640"/>
            <a:ext cx="7921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ОКРУЖАЮЩИЙ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66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МИР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66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" name=""/>
          <p:cNvSpPr/>
          <p:nvPr/>
        </p:nvSpPr>
        <p:spPr>
          <a:xfrm>
            <a:off x="5219640" y="414972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2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29600" y="5084640"/>
            <a:ext cx="390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БОУ СОШ №2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г.Заречный Пензе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исиль Лилия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Смольный. Петроград. 19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72000" y="333360"/>
            <a:ext cx="4211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 1914 года -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етроград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78" name="" descr="картин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60280"/>
            <a:ext cx="2286000" cy="19623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Файл:Spb colla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3313080" cy="2254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651640" y="4535640"/>
            <a:ext cx="3492360" cy="232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651640" y="2349360"/>
            <a:ext cx="3492360" cy="2276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651640" y="0"/>
            <a:ext cx="3492360" cy="2349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2340000" y="2276640"/>
            <a:ext cx="3325680" cy="2376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340000" y="4581360"/>
            <a:ext cx="3311640" cy="2276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340000" cy="2251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rcRect l="0" t="5990" r="-1801" b="15568"/>
          <a:stretch/>
        </p:blipFill>
        <p:spPr>
          <a:xfrm>
            <a:off x="0" y="2276640"/>
            <a:ext cx="2411280" cy="2230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0" y="4508640"/>
            <a:ext cx="2340000" cy="2349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547640" y="1125360"/>
            <a:ext cx="619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блокадны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Ленингра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1941-1943 г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92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0" t="0" r="-2016" b="0"/>
          <a:stretch/>
        </p:blipFill>
        <p:spPr>
          <a:xfrm>
            <a:off x="0" y="4365720"/>
            <a:ext cx="1908000" cy="2492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835280" y="4365720"/>
            <a:ext cx="3456000" cy="2492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rcRect l="0" t="13886" r="0" b="0"/>
          <a:stretch/>
        </p:blipFill>
        <p:spPr>
          <a:xfrm>
            <a:off x="5219640" y="4368960"/>
            <a:ext cx="392436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4441" t="0" r="0" b="0"/>
          <a:stretch/>
        </p:blipFill>
        <p:spPr>
          <a:xfrm>
            <a:off x="457200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4643280" cy="3357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4643280" cy="3357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340000" y="623736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Аничков м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59320" y="292428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Банковский м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0" t="0" r="0" b="3468"/>
          <a:stretch/>
        </p:blipFill>
        <p:spPr>
          <a:xfrm>
            <a:off x="0" y="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87280" y="2852640"/>
            <a:ext cx="27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Дворцовый м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06000" y="616572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Поцелуев м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Картинка 2 из 466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250920" y="1052640"/>
            <a:ext cx="849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Зимний дворец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19826" r="-527" b="6074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06" name=""/>
          <p:cNvSpPr txBox="1"/>
          <p:nvPr/>
        </p:nvSpPr>
        <p:spPr>
          <a:xfrm>
            <a:off x="4500720" y="4149720"/>
            <a:ext cx="4643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Эрмитаж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66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87840" y="292428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Гербовый з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07280" y="342900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парадная лест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Картинка 20 из 46637"/>
          <p:cNvPicPr/>
          <p:nvPr/>
        </p:nvPicPr>
        <p:blipFill>
          <a:blip r:embed="rId1"/>
          <a:stretch/>
        </p:blipFill>
        <p:spPr>
          <a:xfrm>
            <a:off x="395280" y="3933720"/>
            <a:ext cx="3205080" cy="22449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395280" y="623736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кабинет императр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84720" y="333360"/>
            <a:ext cx="2570400" cy="31417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3240000" cy="2440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13" name="" descr="Картинка 1 из 563"/>
          <p:cNvPicPr/>
          <p:nvPr/>
        </p:nvPicPr>
        <p:blipFill>
          <a:blip r:embed="rId4"/>
          <a:stretch/>
        </p:blipFill>
        <p:spPr>
          <a:xfrm>
            <a:off x="5867280" y="4221000"/>
            <a:ext cx="2952720" cy="19908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6733800" y="616572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Рыцарский з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203640" y="2546280"/>
            <a:ext cx="2771640" cy="20750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3477" r="0" b="0"/>
          <a:stretch/>
        </p:blipFill>
        <p:spPr>
          <a:xfrm>
            <a:off x="250920" y="333360"/>
            <a:ext cx="3240000" cy="1984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724360" y="333360"/>
            <a:ext cx="3168720" cy="1943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50920" y="2492280"/>
            <a:ext cx="3240000" cy="18003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50920" y="4508640"/>
            <a:ext cx="3240000" cy="1957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5724360" y="4581360"/>
            <a:ext cx="3168720" cy="19526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5724360" y="2421000"/>
            <a:ext cx="3168720" cy="19447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22" name=""/>
          <p:cNvSpPr txBox="1"/>
          <p:nvPr/>
        </p:nvSpPr>
        <p:spPr>
          <a:xfrm>
            <a:off x="4427640" y="1844640"/>
            <a:ext cx="57780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Е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Т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Е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Р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Г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О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Ф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4000" y="476280"/>
            <a:ext cx="208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66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Большой</a:t>
            </a:r>
            <a:endParaRPr b="1" lang="en-US" sz="2000" spc="1" strike="noStrike">
              <a:ln w="9360">
                <a:solidFill>
                  <a:srgbClr val="66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66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дворец</a:t>
            </a:r>
            <a:endParaRPr b="1" lang="en-US" sz="2000" spc="1" strike="noStrike">
              <a:ln w="9360">
                <a:solidFill>
                  <a:srgbClr val="66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439640" cy="14400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2484360" y="476280"/>
            <a:ext cx="579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ОДУМАЙ И ОТВЕТЬ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66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7" name=""/>
          <p:cNvSpPr/>
          <p:nvPr/>
        </p:nvSpPr>
        <p:spPr>
          <a:xfrm>
            <a:off x="-494280" y="2155680"/>
            <a:ext cx="102092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Georgia"/>
              </a:rPr>
              <a:t>1</a:t>
            </a: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. В каком году образовалась Москва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2. Кто был основателем Москв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3. Кем был Иван Калита? Почему е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ак прозва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4. При правлении, какого князя Моск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стала белокаменн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5. Кто изображён на гербе Москв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3886200"/>
            <a:ext cx="5435640" cy="2971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5507" t="0" r="0" b="0"/>
          <a:stretch/>
        </p:blipFill>
        <p:spPr>
          <a:xfrm>
            <a:off x="5435640" y="3914640"/>
            <a:ext cx="3708360" cy="2943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281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423120" y="2349360"/>
            <a:ext cx="2720880" cy="1584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rcRect l="0" t="15096" r="0" b="0"/>
          <a:stretch/>
        </p:blipFill>
        <p:spPr>
          <a:xfrm>
            <a:off x="0" y="2276640"/>
            <a:ext cx="3419640" cy="1625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419640" y="2276640"/>
            <a:ext cx="3024000" cy="1628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0" y="333360"/>
            <a:ext cx="42847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етергоф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55640" y="3357720"/>
            <a:ext cx="31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Исаакиевский со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Смольный монастырь"/>
          <p:cNvPicPr/>
          <p:nvPr/>
        </p:nvPicPr>
        <p:blipFill>
          <a:blip r:embed="rId1"/>
          <a:stretch/>
        </p:blipFill>
        <p:spPr>
          <a:xfrm>
            <a:off x="4572000" y="333360"/>
            <a:ext cx="4176720" cy="2576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4859280" y="2997360"/>
            <a:ext cx="35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Смольный монаст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Государственный Русский музей"/>
          <p:cNvPicPr/>
          <p:nvPr/>
        </p:nvPicPr>
        <p:blipFill>
          <a:blip r:embed="rId2"/>
          <a:stretch/>
        </p:blipFill>
        <p:spPr>
          <a:xfrm>
            <a:off x="4500720" y="3573360"/>
            <a:ext cx="4319280" cy="21812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5626080" y="5877000"/>
            <a:ext cx="22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Государст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Русский му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3672000" cy="2841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4"/>
          <a:srcRect l="0" t="0" r="0" b="5526"/>
          <a:stretch/>
        </p:blipFill>
        <p:spPr>
          <a:xfrm>
            <a:off x="539640" y="3860640"/>
            <a:ext cx="3600720" cy="22845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1209600" y="6165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Казанский со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Файл:Thunder Stone.jpg"/>
          <p:cNvPicPr/>
          <p:nvPr/>
        </p:nvPicPr>
        <p:blipFill>
          <a:blip r:embed="rId1"/>
          <a:stretch/>
        </p:blipFill>
        <p:spPr>
          <a:xfrm>
            <a:off x="4211640" y="3716280"/>
            <a:ext cx="4570560" cy="2710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40" name="" descr="Картинка 1 из 3085"/>
          <p:cNvPicPr/>
          <p:nvPr/>
        </p:nvPicPr>
        <p:blipFill>
          <a:blip r:embed="rId2"/>
          <a:stretch/>
        </p:blipFill>
        <p:spPr>
          <a:xfrm>
            <a:off x="324000" y="404640"/>
            <a:ext cx="4246560" cy="31118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41" name=""/>
          <p:cNvSpPr txBox="1"/>
          <p:nvPr/>
        </p:nvSpPr>
        <p:spPr>
          <a:xfrm>
            <a:off x="4643280" y="1052640"/>
            <a:ext cx="4249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"Медный всадник"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66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амятник Петру I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66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2485800" cy="28814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3492360" cy="26067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516720" y="3789360"/>
            <a:ext cx="2200320" cy="26384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276720" y="4437000"/>
            <a:ext cx="2879640" cy="19875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46" name=""/>
          <p:cNvSpPr txBox="1"/>
          <p:nvPr/>
        </p:nvSpPr>
        <p:spPr>
          <a:xfrm>
            <a:off x="4067280" y="1197000"/>
            <a:ext cx="4824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Дом 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66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А.С. Пушкин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66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на Мойке 12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66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58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Герб Санкт-Петербурга бы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утвержден 7 мая 1780 год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осстановлен после совет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ериода 6 сентября 199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а нем изображены: скипет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как символ столиц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мператорской вла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рской якорь как симв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рского порта и речной яко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как символ речного пор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рообразом послужил гер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атикана как города Святого Пет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0" y="260280"/>
            <a:ext cx="457200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50200" y="884160"/>
            <a:ext cx="50331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. 136 – 140 пере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•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клад о Петре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659640" y="4417920"/>
            <a:ext cx="2124000" cy="19875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87280" y="1844640"/>
            <a:ext cx="6840720" cy="25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пасибо</a:t>
            </a:r>
            <a:endParaRPr b="1" lang="en-US" sz="4400" spc="1" strike="noStrike">
              <a:ln w="9360">
                <a:solidFill>
                  <a:srgbClr val="0000ff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за работу !</a:t>
            </a:r>
            <a:endParaRPr b="1" lang="en-US" sz="4400" spc="1" strike="noStrike">
              <a:ln w="9360">
                <a:solidFill>
                  <a:srgbClr val="0000ff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451640" y="5157720"/>
            <a:ext cx="1297080" cy="1297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211640" y="1268280"/>
            <a:ext cx="4133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БЮРО 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УТЕШЕСТВИЙ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0" name=""/>
          <p:cNvSpPr/>
          <p:nvPr/>
        </p:nvSpPr>
        <p:spPr>
          <a:xfrm>
            <a:off x="6226920" y="5734080"/>
            <a:ext cx="26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Georgia"/>
              </a:rPr>
              <a:t>• </a:t>
            </a: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Зар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148360" y="5300640"/>
            <a:ext cx="1224000" cy="71928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48880" y="4581360"/>
            <a:ext cx="20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Georgia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08000" y="4149360"/>
            <a:ext cx="863640" cy="64764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87360" y="3500280"/>
            <a:ext cx="40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Georgia"/>
              </a:rPr>
              <a:t>•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Санкт-Петербу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8485" t="11821" r="16606" b="0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093080" y="6093000"/>
            <a:ext cx="19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ре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rot="11089800">
            <a:off x="7019280" y="6236640"/>
            <a:ext cx="144360" cy="1429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карти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152360" y="5407200"/>
            <a:ext cx="7991640" cy="14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еверная столица - </a:t>
            </a:r>
            <a:endParaRPr b="1" lang="en-US" sz="4000" spc="1" strike="noStrike">
              <a:ln w="9360">
                <a:solidFill>
                  <a:srgbClr val="0000ff"/>
                </a:solidFill>
                <a:miter/>
              </a:ln>
              <a:solidFill>
                <a:srgbClr val="66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анкт- Петербург</a:t>
            </a:r>
            <a:endParaRPr b="1" lang="en-US" sz="4000" spc="1" strike="noStrike">
              <a:ln w="9360">
                <a:solidFill>
                  <a:srgbClr val="0000ff"/>
                </a:solidFill>
                <a:miter/>
              </a:ln>
              <a:solidFill>
                <a:srgbClr val="66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472200" cy="4437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61" name=""/>
          <p:cNvSpPr txBox="1"/>
          <p:nvPr/>
        </p:nvSpPr>
        <p:spPr>
          <a:xfrm>
            <a:off x="324000" y="404640"/>
            <a:ext cx="554328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1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ётр I -</a:t>
            </a:r>
            <a:endParaRPr b="1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66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оследний царь Всея Руси</a:t>
            </a:r>
            <a:endParaRPr b="1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66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и первый император </a:t>
            </a:r>
            <a:endParaRPr b="1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66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всероссийский</a:t>
            </a:r>
            <a:endParaRPr b="1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66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4000" y="4653000"/>
            <a:ext cx="4524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1703 год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крепость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анкт-Питер-Бурх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067280" y="333360"/>
            <a:ext cx="507672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етропавловская 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крепость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Картинка 70 из 22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500280"/>
            <a:ext cx="2932200" cy="3167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24000" y="3429000"/>
            <a:ext cx="2555640" cy="32115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2906280" y="609300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тайный 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Картинка 95 из 229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56000" y="333360"/>
            <a:ext cx="4464000" cy="2587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7812000" y="587700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ст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креп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2997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орудия на стенах креп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Картинка 96 из 229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0920" y="333360"/>
            <a:ext cx="3889440" cy="25369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468360" y="2924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Петропавловская креп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3276720" y="333360"/>
            <a:ext cx="4476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1712 год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анкт-Петербург -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толиц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1557360"/>
            <a:ext cx="24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(до 1918 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3:55:28Z</dcterms:created>
  <dc:creator>Вадим</dc:creator>
  <dc:description/>
  <dc:language>en-US</dc:language>
  <cp:lastModifiedBy>Вадим</cp:lastModifiedBy>
  <dcterms:modified xsi:type="dcterms:W3CDTF">2012-02-27T14:11:45Z</dcterms:modified>
  <cp:revision>33</cp:revision>
  <dc:subject/>
  <dc:title>Слайд 1</dc:title>
</cp:coreProperties>
</file>