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1C8-D401-4C1A-AF8E-BD5FF9C6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BC6-3397-4FDE-9550-D4E7D73B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456-C033-4255-8676-50099386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9F4-44FD-4697-AA3E-5CE56AA2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EC9B-6329-4741-8EE0-8C52B9E5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10DE-BE64-4527-8965-4943B53F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001C-A940-4BDF-A193-C0836D90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155A-DBDE-4E87-863A-1A1F54EA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86C5-DADA-4C4D-92D9-B7DFFDFC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E0C2-F13F-464D-A7FC-3B03682C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CD53-13A5-464E-9685-C2CDF730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306-300E-453C-9FDA-4CF2B720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4825-E93D-433D-A2F1-BF3A8D15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AAA9-AF70-4706-91FC-CD4CBAEB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E058-8F15-4999-BE39-0EE04ECF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3CF6-0C2B-4ECF-B69E-7EAFA8DB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CF82-1A88-459E-9468-802D3F53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0CCD-A107-46DA-ABF9-1CF86892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FDC1-8AD2-4D1D-82BF-3A2AB729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CFAA4-5428-4B84-AE79-5E5FE5D0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008E-B3F5-4D47-BFEE-D93927E9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C1627-80C2-45A0-A9F5-6AAF061A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621-98D3-4B4A-9A81-C4F44B2A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E5D2-FDA6-4B43-B53E-6DA5DF00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5EFFE-6965-4933-9DD5-2B3120A1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0202-8A10-4E1F-85FB-67839765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2872-1D8F-415B-966D-374817F9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3DB0-F67F-4656-922D-B010D3BC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AAA9-D83B-4428-9667-32FAC2B4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05E18-C179-42F2-A697-B808C096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C9E88-405D-4DEB-825F-4C993F70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963C-A050-4DEA-A37C-05D48B03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D091-C0B0-4E90-ADC6-ADC3C624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C30-92CE-431E-B3F3-CB39514A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3977-BD7F-46C8-90E7-1ECB650B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547C-0543-49A4-9889-93CDA480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3711-806B-48E0-BC83-CABEDB81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08D3B-BA81-4D3E-98F5-A50AE933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66F48-87AE-463B-9996-471225FA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F0FD5-8D02-408D-885F-EE3D95CB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C739-C379-45B0-8579-3802A3C4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3D2A5-B5C6-46BB-BDDB-17FBEFB3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AB6FB-D3B8-48B2-A48C-C52E943C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825B5-046E-45B7-9E38-9A190AD4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CF7-3512-47F7-B0A5-57E33A23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4C56F-2A9A-4E66-B65B-DECBC66B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2C6D2-7A87-4522-BDC9-0C197E61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FEA74-38B7-4498-8BF0-C53D8396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02488-9B0B-4279-8B4D-5CBB24CA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DB3D2-3995-484B-9CE6-690B7986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A6CE3-5C5C-4E77-A932-E4ACE596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B0C0A-E327-44B9-9E60-80B67C6A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87A2B-E361-47E2-823F-155B3D42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597C8-0B3A-4159-A38A-D4E51228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3B2D-AD5B-4920-8185-77E688FB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1DF-3166-47AC-BD86-74E25322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BB4EC-9B00-4948-B79C-B00D5C4A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BE59E-872B-4250-B529-F172299C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60B52-B87E-4774-A3E1-ABC09476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436BD-9F9E-437F-B96B-BD84A5C0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D1684-655F-4192-9986-1441DAA9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58B5B-C400-47A6-8838-81015694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617DC-FF92-4705-BC84-87B2522F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AA411-1950-4C8B-B99F-A0D6A42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68750-2F75-4BB5-8EE3-5E5B9F86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66B68-750F-4E23-AF2F-5A65B609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786-2BD5-4D8B-8E9E-35FD2725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70E94-6AF5-48D4-92FB-F27B8C1F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319DC-2753-4C79-B4CC-7F79CE28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E3CC-386A-4B67-A906-760D566D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D4D2B-0BD3-4906-9532-15C2F712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09D8C-40DC-498E-8115-F867E75C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32951-0939-4881-BC64-A20A3003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D5A39-2BB7-411A-81F2-C41FF783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E0808-9A3F-4D09-ADD7-43D94678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54B90-1AAA-4C6B-9FAE-D8CDEA0A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3EEBB-A4CD-4C98-A123-DF9A9B05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028-02BD-4266-B06D-CE782A6D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16B8C-7F1A-4923-BEE1-CAA5CD9A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78CC4-D788-410F-99B8-BDF1B970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B4E27-093B-4F88-9B13-04DC67EA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58A07-46DC-4F57-871A-CE97E221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08B47-1FDA-46BE-83E9-86B80EC7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565-6C18-4AE6-A9A2-723A092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E656-DA21-410C-837A-C0A17C4245B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3813-A721-40D2-A62C-B194227714A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6F27-AF15-4BD8-B7DE-D17BDF9B3B2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43FE-D002-454A-8E03-2C9A9B4E60A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E220-5E9E-43B9-8C5C-E14F19CCC44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2BEB-DC5B-4555-8C31-3C47096865E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388B-EE7C-410D-B79D-F7831D3E5F8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171360" y="689040"/>
            <a:ext cx="8979120" cy="16462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47280" y="1500120"/>
            <a:ext cx="8496360" cy="357192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700" spc="-1" strike="noStrike">
                <a:solidFill>
                  <a:srgbClr val="ffffff"/>
                </a:solidFill>
                <a:latin typeface="Corbel"/>
              </a:rPr>
              <a:t>Семья и родители глазами ребенка</a:t>
            </a:r>
            <a:endParaRPr b="0" lang="en-US" sz="67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7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67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4" descr="J0284133"/>
          <p:cNvPicPr/>
          <p:nvPr/>
        </p:nvPicPr>
        <p:blipFill>
          <a:blip r:embed="rId2"/>
          <a:stretch/>
        </p:blipFill>
        <p:spPr>
          <a:xfrm>
            <a:off x="1042920" y="4437000"/>
            <a:ext cx="151776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115640" y="620640"/>
            <a:ext cx="7543800" cy="65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e5b6f"/>
                </a:solidFill>
                <a:latin typeface="Corbe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569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c1eeff"/>
                </a:solidFill>
                <a:latin typeface="Consolas"/>
              </a:rPr>
              <a:t>    </a:t>
            </a:r>
            <a:r>
              <a:rPr b="0" i="1" lang="ru-RU" sz="2900" spc="-1" strike="noStrike">
                <a:solidFill>
                  <a:srgbClr val="c1eeff"/>
                </a:solidFill>
                <a:latin typeface="Consolas"/>
              </a:rPr>
              <a:t>1. Любите ли вы свой дом, домашнюю атмосферу?</a:t>
            </a: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c1eeff"/>
                </a:solidFill>
                <a:latin typeface="Consolas"/>
              </a:rPr>
              <a:t>        </a:t>
            </a:r>
            <a:r>
              <a:rPr b="0" i="1" lang="ru-RU" sz="2900" spc="-1" strike="noStrike">
                <a:solidFill>
                  <a:srgbClr val="ffffff"/>
                </a:solidFill>
                <a:latin typeface="Consolas"/>
              </a:rPr>
              <a:t>Да – 12 чел. </a:t>
            </a:r>
            <a:br>
              <a:rPr sz="2900"/>
            </a:br>
            <a:r>
              <a:rPr b="0" i="1" lang="ru-RU" sz="2900" spc="-1" strike="noStrike">
                <a:solidFill>
                  <a:srgbClr val="ffffff"/>
                </a:solidFill>
                <a:latin typeface="Consolas"/>
              </a:rPr>
              <a:t>        Нет -  1   чел.</a:t>
            </a:r>
            <a:br>
              <a:rPr sz="2900"/>
            </a:br>
            <a:r>
              <a:rPr b="0" i="1" lang="ru-RU" sz="2900" spc="-1" strike="noStrike">
                <a:solidFill>
                  <a:srgbClr val="ffffff"/>
                </a:solidFill>
                <a:latin typeface="Consolas"/>
              </a:rPr>
              <a:t>       </a:t>
            </a:r>
            <a:r>
              <a:rPr b="0" i="1" lang="en-US" sz="2900" spc="-1" strike="noStrike">
                <a:solidFill>
                  <a:srgbClr val="ffffff"/>
                </a:solidFill>
                <a:latin typeface="Consolas"/>
              </a:rPr>
              <a:t> </a:t>
            </a:r>
            <a:r>
              <a:rPr b="0" i="1" lang="ru-RU" sz="2900" spc="-1" strike="noStrike">
                <a:solidFill>
                  <a:srgbClr val="ffffff"/>
                </a:solidFill>
                <a:latin typeface="Consolas"/>
              </a:rPr>
              <a:t>Не очень – 4 чел</a:t>
            </a:r>
            <a:r>
              <a:rPr b="0" i="1" lang="ru-RU" sz="2900" spc="-1" strike="noStrike">
                <a:solidFill>
                  <a:srgbClr val="c1eeff"/>
                </a:solidFill>
                <a:latin typeface="Consolas"/>
              </a:rPr>
              <a:t>.</a:t>
            </a:r>
            <a:br>
              <a:rPr sz="2900"/>
            </a:br>
            <a:r>
              <a:rPr b="0" i="1" lang="ru-RU" sz="2900" spc="-1" strike="noStrike">
                <a:solidFill>
                  <a:srgbClr val="c1eeff"/>
                </a:solidFill>
                <a:latin typeface="Consolas"/>
              </a:rPr>
              <a:t>2. Уезжали ли вы из дома надолго и что вы тогда чувствовали?</a:t>
            </a:r>
            <a:br>
              <a:rPr sz="2900"/>
            </a:br>
            <a:r>
              <a:rPr b="0" lang="ru-RU" sz="2900" spc="-1" strike="noStrike">
                <a:solidFill>
                  <a:srgbClr val="c1eeff"/>
                </a:solidFill>
                <a:latin typeface="Consolas"/>
              </a:rPr>
              <a:t>       </a:t>
            </a:r>
            <a:r>
              <a:rPr b="0" i="1" lang="ru-RU" sz="2900" spc="-1" strike="noStrike">
                <a:solidFill>
                  <a:srgbClr val="ffffff"/>
                </a:solidFill>
                <a:latin typeface="Consolas"/>
              </a:rPr>
              <a:t>Да, тоска – 6 чел.</a:t>
            </a:r>
            <a:br>
              <a:rPr sz="2900"/>
            </a:br>
            <a:r>
              <a:rPr b="0" i="1" lang="ru-RU" sz="2900" spc="-1" strike="noStrike">
                <a:solidFill>
                  <a:srgbClr val="ffffff"/>
                </a:solidFill>
                <a:latin typeface="Consolas"/>
              </a:rPr>
              <a:t>       Да, ничего – 1 чел.</a:t>
            </a:r>
            <a:br>
              <a:rPr sz="2900"/>
            </a:br>
            <a:r>
              <a:rPr b="0" i="1" lang="ru-RU" sz="2900" spc="-1" strike="noStrike">
                <a:solidFill>
                  <a:srgbClr val="ffffff"/>
                </a:solidFill>
                <a:latin typeface="Consolas"/>
              </a:rPr>
              <a:t>       Да, весело – 2чел.</a:t>
            </a:r>
            <a:br>
              <a:rPr sz="2900"/>
            </a:br>
            <a:r>
              <a:rPr b="0" i="1" lang="ru-RU" sz="2900" spc="-1" strike="noStrike">
                <a:solidFill>
                  <a:srgbClr val="ffffff"/>
                </a:solidFill>
                <a:latin typeface="Consolas"/>
              </a:rPr>
              <a:t>       Да, грусть – 3 чел.</a:t>
            </a:r>
            <a:br>
              <a:rPr sz="2900"/>
            </a:br>
            <a:r>
              <a:rPr b="0" i="1" lang="ru-RU" sz="2900" spc="-1" strike="noStrike">
                <a:solidFill>
                  <a:srgbClr val="ffffff"/>
                </a:solidFill>
                <a:latin typeface="Consolas"/>
              </a:rPr>
              <a:t>       Да, радость – 2 чел.</a:t>
            </a:r>
            <a:br>
              <a:rPr sz="2900"/>
            </a:br>
            <a:r>
              <a:rPr b="0" i="1" lang="ru-RU" sz="2900" spc="-1" strike="noStrike">
                <a:solidFill>
                  <a:srgbClr val="ffffff"/>
                </a:solidFill>
                <a:latin typeface="Consolas"/>
              </a:rPr>
              <a:t>       Нет -  3 чел.</a:t>
            </a: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14040" y="259920"/>
            <a:ext cx="754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5b6f"/>
                </a:solidFill>
                <a:latin typeface="Corbel"/>
              </a:rPr>
              <a:t>3. Интересуются ли ваши родители вашими учебными делами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Всегда – 5 чел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Иногда – 2 чел.</a:t>
            </a:r>
            <a:r>
              <a:rPr b="0" i="1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Никогда – 2 чел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Оба – 2 чел.</a:t>
            </a:r>
            <a:r>
              <a:rPr b="0" i="1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Больше мать – 5 чел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Больше отец – 1 чел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24000" y="18864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5b6f"/>
                </a:solidFill>
                <a:latin typeface="Corbel"/>
              </a:rPr>
              <a:t>4. </a:t>
            </a:r>
            <a:r>
              <a:rPr b="0" i="1" lang="ru-RU" sz="3200" spc="-1" strike="noStrike">
                <a:solidFill>
                  <a:srgbClr val="4e5b6f"/>
                </a:solidFill>
                <a:latin typeface="Corbel"/>
              </a:rPr>
              <a:t>Интересуются ли ваши родители вашими отношениями с одноклассниками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Всегда – 6 чел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Иногда – 3 чел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Никогда – 6 чел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Оба – 1 чел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Больше мать – 1 чел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Больше отец – 0 чел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39640" y="115920"/>
            <a:ext cx="8353440" cy="81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5b6f"/>
                </a:solidFill>
                <a:latin typeface="Arial"/>
              </a:rPr>
              <a:t>5. Как, по-вашему, они относятся к школе и педколлектив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оверяют – 15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 доверяют – 1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внодушны  – 1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4e5b6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5b6f"/>
                </a:solidFill>
                <a:latin typeface="Arial"/>
              </a:rPr>
              <a:t>Довольны ли они своей работой, специальность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овольны – 5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довольны -2 ч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куда деваться,  работают из-за зарплаты – 6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ботают  по другим причинам – 3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 работает – 1че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5b6f"/>
                </a:solidFill>
                <a:latin typeface="Corbel"/>
              </a:rPr>
              <a:t>7. Устраивает ли ваших родителей заработная плата и совместный бюджет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Да – 9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Нет – 2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Не очень – 6 чел.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5b6f"/>
                </a:solidFill>
                <a:latin typeface="Corbel"/>
              </a:rPr>
              <a:t>8.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4e5b6f"/>
                </a:solidFill>
                <a:latin typeface="Corbel"/>
              </a:rPr>
              <a:t>Как вы находите вашу семью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Состоятельная – 2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Средняя – 14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Бедная – 1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7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77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8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8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2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7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02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07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03280" y="40464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5b6f"/>
                </a:solidFill>
                <a:latin typeface="Corbel"/>
              </a:rPr>
              <a:t>9. Какие праздники в семье вы любите больше всего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День рождения – 14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Новый год – 14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8 марта – 4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9 мая – 1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Последний звонок – 4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Выпускной – 2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53964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5b6f"/>
                </a:solidFill>
                <a:latin typeface="Corbel"/>
              </a:rPr>
              <a:t>10. Принято ли в вашей семье дарить подарк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Да – 15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Нет – 2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5b6f"/>
                </a:solidFill>
                <a:latin typeface="Corbel"/>
              </a:rPr>
              <a:t>11. Как вы относитесь к своим бабушкам и дедушкам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Хорошо – 5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Отлично – 2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Люблю – 3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Нормально – 2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Когда как – 2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Уважаю – 2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Чуть-чуть с уважением – 1 чел.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4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4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4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4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4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4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2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7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2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7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2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7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2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7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2" dur="500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755280" y="0"/>
            <a:ext cx="75438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5b6f"/>
                </a:solidFill>
                <a:latin typeface="Corbel"/>
              </a:rPr>
              <a:t>12. Как, по-вашему, вы будете счастливым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Да – 7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Нет – 2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Не знаю – 3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Поживем увидим – 1 чел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Будем надеяться на лучшее – 1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Возможно – 1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Буду скорее всего – 1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Нет ответа – 1 че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split dir="in" orient="ver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10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7:44:01Z</dcterms:created>
  <dc:creator/>
  <dc:description/>
  <dc:language>en-US</dc:language>
  <cp:lastModifiedBy>User</cp:lastModifiedBy>
  <dcterms:modified xsi:type="dcterms:W3CDTF">2012-03-01T12:37:28Z</dcterms:modified>
  <cp:revision>380</cp:revision>
  <dc:subject/>
  <dc:title>PowerPoint Presentation</dc:title>
</cp:coreProperties>
</file>