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11.jpeg" ContentType="image/jpe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.jpeg" ContentType="image/jpeg"/>
  <Override PartName="/ppt/media/image30.jpeg" ContentType="image/jpeg"/>
  <Override PartName="/ppt/media/image32.png" ContentType="image/png"/>
  <Override PartName="/ppt/media/image7.png" ContentType="image/png"/>
  <Override PartName="/ppt/media/image1.jpeg" ContentType="image/jpeg"/>
  <Override PartName="/ppt/media/image13.jpeg" ContentType="image/jpeg"/>
  <Override PartName="/ppt/media/image33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4.jpeg" ContentType="image/jpe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9.jpeg" ContentType="image/jpeg"/>
  <Override PartName="/ppt/media/image8.png" ContentType="image/png"/>
  <Override PartName="/ppt/media/image38.png" ContentType="image/png"/>
  <Override PartName="/ppt/media/image4.jpeg" ContentType="image/jpeg"/>
  <Override PartName="/ppt/media/image40.png" ContentType="image/png"/>
  <Override PartName="/ppt/media/image12.png" ContentType="image/png"/>
  <Override PartName="/ppt/media/image20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6.jpeg" ContentType="image/jpeg"/>
  <Override PartName="/ppt/media/image42.png" ContentType="image/pn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9A2-DBBC-4AAE-93DE-929ADE48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A1D-C966-4E77-A07C-4FF5A8B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DCA-8E28-4DB1-9A7E-8CF30593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EFC-F20F-4F23-AE24-B526E7D2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9D2E4-2814-4226-99C4-A05FD94F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9828E-612E-46AA-87E6-D73A77D4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17891-A6AF-4F09-A2CF-CE735354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0E49F-1070-401B-8FAD-085EE135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A658A-AEAC-4216-9BA0-CBA833E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4EA60-2C34-4429-B217-2970F16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52FC2-F9FD-41E6-9436-B9D815D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E6C-88F5-47B2-A018-5F7D6856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39972-0848-4F95-BEF8-F307C117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E0EE7-4163-49A5-8410-487ADF32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F4732-E201-481F-8C37-BFE61976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6C57D-60D6-45AA-8BE9-C7C254F1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1F46F-1041-480A-8AA1-C34D2A4B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D4D-5C76-4D80-991C-3F21D2B4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206-E7F3-4A92-82CE-3F0C9400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85B-2C1B-4FC7-93C9-9BE84C03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C00-0F6F-48BF-BC61-BB6EB323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9AE-D145-47B3-8419-A29B8DE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26F-A958-4CFD-AFFD-B2501D56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570-F37F-4C14-99D3-6895FE45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17B8-4119-4C16-A471-092C0C746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45A0-81E3-4D5B-99F0-999BB441C8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gif"/><Relationship Id="rId3" Type="http://schemas.openxmlformats.org/officeDocument/2006/relationships/image" Target="../media/image4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73"/>
                </a:solidFill>
                <a:latin typeface="Calisto MT"/>
              </a:rPr>
              <a:t>British Symbo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ros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05120" y="1981080"/>
            <a:ext cx="1923840" cy="1940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thistle"/>
          <p:cNvPicPr/>
          <p:nvPr/>
        </p:nvPicPr>
        <p:blipFill>
          <a:blip r:embed="rId2"/>
          <a:stretch/>
        </p:blipFill>
        <p:spPr>
          <a:xfrm>
            <a:off x="304920" y="2209680"/>
            <a:ext cx="1904760" cy="18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shamrock"/>
          <p:cNvPicPr/>
          <p:nvPr/>
        </p:nvPicPr>
        <p:blipFill>
          <a:blip r:embed="rId3"/>
          <a:stretch/>
        </p:blipFill>
        <p:spPr>
          <a:xfrm>
            <a:off x="1905120" y="3429000"/>
            <a:ext cx="1803240" cy="1730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daffodil"/>
          <p:cNvPicPr/>
          <p:nvPr/>
        </p:nvPicPr>
        <p:blipFill>
          <a:blip r:embed="rId4"/>
          <a:stretch/>
        </p:blipFill>
        <p:spPr>
          <a:xfrm>
            <a:off x="304920" y="3733920"/>
            <a:ext cx="1904760" cy="17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royal_banner_uk"/>
          <p:cNvPicPr/>
          <p:nvPr/>
        </p:nvPicPr>
        <p:blipFill>
          <a:blip r:embed="rId5"/>
          <a:stretch/>
        </p:blipFill>
        <p:spPr>
          <a:xfrm>
            <a:off x="5562720" y="1752480"/>
            <a:ext cx="3352680" cy="167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flag of Wales"/>
          <p:cNvPicPr/>
          <p:nvPr/>
        </p:nvPicPr>
        <p:blipFill>
          <a:blip r:embed="rId6"/>
          <a:stretch/>
        </p:blipFill>
        <p:spPr>
          <a:xfrm>
            <a:off x="4800600" y="2709720"/>
            <a:ext cx="2438280" cy="143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Britain's Flag"/>
          <p:cNvPicPr/>
          <p:nvPr/>
        </p:nvPicPr>
        <p:blipFill>
          <a:blip r:embed="rId7"/>
          <a:srcRect l="0" t="0" r="3999" b="6022"/>
          <a:stretch/>
        </p:blipFill>
        <p:spPr>
          <a:xfrm>
            <a:off x="6858000" y="23623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f70635c68c58afaa651d8b9f30eff95f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6324480" y="4343400"/>
            <a:ext cx="2819520" cy="188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london"/>
          <p:cNvPicPr/>
          <p:nvPr/>
        </p:nvPicPr>
        <p:blipFill>
          <a:blip r:embed="rId9"/>
          <a:stretch/>
        </p:blipFill>
        <p:spPr>
          <a:xfrm>
            <a:off x="4343400" y="5029200"/>
            <a:ext cx="18288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AP-GB-weather"/>
          <p:cNvPicPr/>
          <p:nvPr/>
        </p:nvPicPr>
        <p:blipFill>
          <a:blip r:embed="rId1"/>
          <a:stretch/>
        </p:blipFill>
        <p:spPr>
          <a:xfrm>
            <a:off x="228600" y="0"/>
            <a:ext cx="3657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4582c"/>
                </a:solidFill>
                <a:latin typeface="Calisto MT"/>
                <a:ea typeface="宋体"/>
              </a:rPr>
              <a:t>The national flower of Northern Ireland is the shamrock, </a:t>
            </a:r>
            <a:r>
              <a:rPr b="0" lang="en-GB" sz="3200" spc="-1" strike="noStrike">
                <a:solidFill>
                  <a:srgbClr val="84582c"/>
                </a:solidFill>
                <a:latin typeface="Calisto MT"/>
                <a:ea typeface="宋体"/>
              </a:rPr>
              <a:t>a three-leaved plant similar to clover. It is a symbol of tri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AG00092_"/>
          <p:cNvPicPr/>
          <p:nvPr/>
        </p:nvPicPr>
        <p:blipFill>
          <a:blip r:embed="rId2"/>
          <a:stretch/>
        </p:blipFill>
        <p:spPr>
          <a:xfrm rot="16200000">
            <a:off x="318960" y="4176000"/>
            <a:ext cx="1119240" cy="385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3520" y="5257800"/>
            <a:ext cx="26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Lucida Sans Typewriter"/>
              </a:rPr>
              <a:t>Northern Irelan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9" descr="shamrock"/>
          <p:cNvPicPr/>
          <p:nvPr/>
        </p:nvPicPr>
        <p:blipFill>
          <a:blip r:embed="rId3"/>
          <a:stretch/>
        </p:blipFill>
        <p:spPr>
          <a:xfrm>
            <a:off x="5867280" y="609480"/>
            <a:ext cx="2057400" cy="1973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4"/>
          <a:stretch/>
        </p:blipFill>
        <p:spPr>
          <a:xfrm>
            <a:off x="228600" y="2786040"/>
            <a:ext cx="11286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georges_flag"/>
          <p:cNvPicPr/>
          <p:nvPr/>
        </p:nvPicPr>
        <p:blipFill>
          <a:blip r:embed="rId1"/>
          <a:stretch/>
        </p:blipFill>
        <p:spPr>
          <a:xfrm>
            <a:off x="3708360" y="1844640"/>
            <a:ext cx="4946760" cy="24732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431640" y="404640"/>
            <a:ext cx="828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sper"/>
              </a:rPr>
              <a:t>St.George’s flag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sper"/>
              <a:ea typeface="Casper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11280" y="4581360"/>
            <a:ext cx="7920000" cy="1739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Myriad Pro Light"/>
              </a:rPr>
              <a:t>It is the first flag of England. St.George is a patron of England. He won the drag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saintgeorge"/>
          <p:cNvPicPr/>
          <p:nvPr/>
        </p:nvPicPr>
        <p:blipFill>
          <a:blip r:embed="rId3"/>
          <a:stretch/>
        </p:blipFill>
        <p:spPr>
          <a:xfrm>
            <a:off x="1332000" y="1844640"/>
            <a:ext cx="1622160" cy="2376360"/>
          </a:xfrm>
          <a:prstGeom prst="rect">
            <a:avLst/>
          </a:prstGeom>
          <a:ln w="127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andrew_flag"/>
          <p:cNvPicPr/>
          <p:nvPr/>
        </p:nvPicPr>
        <p:blipFill>
          <a:blip r:embed="rId1"/>
          <a:stretch/>
        </p:blipFill>
        <p:spPr>
          <a:xfrm>
            <a:off x="2679840" y="4508640"/>
            <a:ext cx="3782880" cy="2093760"/>
          </a:xfrm>
          <a:prstGeom prst="rect">
            <a:avLst/>
          </a:prstGeom>
          <a:ln w="123840">
            <a:solidFill>
              <a:srgbClr val="ffff00"/>
            </a:solidFill>
            <a:miter/>
          </a:ln>
        </p:spPr>
      </p:pic>
      <p:sp>
        <p:nvSpPr>
          <p:cNvPr id="134" name="WordArt 5"/>
          <p:cNvSpPr txBox="1"/>
          <p:nvPr/>
        </p:nvSpPr>
        <p:spPr>
          <a:xfrm>
            <a:off x="539640" y="404640"/>
            <a:ext cx="806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sper"/>
              </a:rPr>
              <a:t>St.Andrew’s flag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sper"/>
              <a:ea typeface="Casper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95280" y="141300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yriad Pro Light"/>
              </a:rPr>
              <a:t>St. Andrew is one of the 12 apostles</a:t>
            </a:r>
            <a:r>
              <a:rPr b="1" lang="ru-RU" sz="3200" spc="-1" strike="noStrike">
                <a:solidFill>
                  <a:srgbClr val="ffffff"/>
                </a:solidFill>
                <a:latin typeface="Myriad Pro Light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Myriad Pro Light"/>
              </a:rPr>
              <a:t>which is known as the patron of Scotland.  He advocated  Christian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Topleft St Andrew Logo"/>
          <p:cNvPicPr/>
          <p:nvPr/>
        </p:nvPicPr>
        <p:blipFill>
          <a:blip r:embed="rId4"/>
          <a:stretch/>
        </p:blipFill>
        <p:spPr>
          <a:xfrm>
            <a:off x="6948360" y="1484280"/>
            <a:ext cx="19051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092240" y="620640"/>
            <a:ext cx="6958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Patrick’s flag</a:t>
            </a:r>
            <a:endParaRPr b="0" lang="en-US" sz="1800" spc="1" strike="noStrike">
              <a:ln w="381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5" descr="160_nothern_ireland_flag"/>
          <p:cNvPicPr/>
          <p:nvPr/>
        </p:nvPicPr>
        <p:blipFill>
          <a:blip r:embed="rId1"/>
          <a:stretch/>
        </p:blipFill>
        <p:spPr>
          <a:xfrm>
            <a:off x="395280" y="1628640"/>
            <a:ext cx="3382920" cy="2676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790560" y="443700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St.Patrick is the first bishop of the Irish Christian church. This red cross is the 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«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part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»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 of  Ireland which is represented on the flag of the United Kingdom of Great Brit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stpatflg"/>
          <p:cNvPicPr/>
          <p:nvPr/>
        </p:nvPicPr>
        <p:blipFill>
          <a:blip r:embed="rId2"/>
          <a:stretch/>
        </p:blipFill>
        <p:spPr>
          <a:xfrm>
            <a:off x="4788000" y="1700280"/>
            <a:ext cx="40240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Britain's Flag sequence"/>
          <p:cNvPicPr/>
          <p:nvPr/>
        </p:nvPicPr>
        <p:blipFill>
          <a:blip r:embed="rId1"/>
          <a:srcRect l="0" t="0" r="2524" b="0"/>
          <a:stretch/>
        </p:blipFill>
        <p:spPr>
          <a:xfrm>
            <a:off x="152280" y="3200400"/>
            <a:ext cx="8839440" cy="25146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181160" y="4536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73"/>
                </a:solidFill>
                <a:latin typeface="Arno Pro Caption"/>
              </a:rPr>
              <a:t>The flag of the UK is a combination of the flags of England (the cross of St. George), Scotland (the cross of St. Andrew), and Ireland (the cross of St. Patrick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British Flag"/>
          <p:cNvPicPr/>
          <p:nvPr/>
        </p:nvPicPr>
        <p:blipFill>
          <a:blip r:embed="rId1"/>
          <a:stretch/>
        </p:blipFill>
        <p:spPr>
          <a:xfrm>
            <a:off x="2124000" y="1820880"/>
            <a:ext cx="5361120" cy="32162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557280" y="765000"/>
            <a:ext cx="8028000" cy="33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9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01f9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dverGothic"/>
              </a:rPr>
              <a:t>The British flag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101f9"/>
                  </a:gs>
                  <a:gs pos="100000">
                    <a:srgbClr val="ff3300"/>
                  </a:gs>
                </a:gsLst>
                <a:lin ang="18900000"/>
              </a:gradFill>
              <a:latin typeface="AdverGothic"/>
              <a:ea typeface="AdverGothic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790560" y="3429000"/>
            <a:ext cx="756144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834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101f9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comic"/>
              </a:rPr>
              <a:t>UNION JAC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101f9"/>
                  </a:gs>
                  <a:gs pos="100000">
                    <a:srgbClr val="ff3300"/>
                  </a:gs>
                </a:gsLst>
                <a:lin ang="2700000"/>
              </a:gra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4582c"/>
                </a:solidFill>
                <a:latin typeface="Calisto MT"/>
              </a:rPr>
              <a:t>UK Royal Coat of Arm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952880" y="1658880"/>
            <a:ext cx="3724560" cy="354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33520" y="1584360"/>
            <a:ext cx="37335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coat_of_arms"/>
          <p:cNvPicPr/>
          <p:nvPr/>
        </p:nvPicPr>
        <p:blipFill>
          <a:blip r:embed="rId1"/>
          <a:stretch/>
        </p:blipFill>
        <p:spPr>
          <a:xfrm>
            <a:off x="255600" y="1112760"/>
            <a:ext cx="4316400" cy="46306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7"/>
          <p:cNvSpPr txBox="1"/>
          <p:nvPr/>
        </p:nvSpPr>
        <p:spPr>
          <a:xfrm>
            <a:off x="1332000" y="404640"/>
            <a:ext cx="660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AdverGothic"/>
              </a:rPr>
              <a:t>               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cc00"/>
                  </a:gs>
                  <a:gs pos="100000">
                    <a:srgbClr val="ff3300"/>
                  </a:gs>
                </a:gsLst>
                <a:lin ang="5400000"/>
              </a:gradFill>
              <a:latin typeface="AdverGothic"/>
              <a:ea typeface="AdverGothic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572000" y="1268280"/>
            <a:ext cx="4572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On the coat of arms you see three yellow leopards on the red background  (coat of arms of England), a red lion on the yellow background (coat of arms of Scotland),  a yellow harp on the blue background (coat of arms of Irela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England has a leading rol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5600" y="274680"/>
            <a:ext cx="4429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bfe"/>
                </a:solidFill>
                <a:latin typeface="Calisto MT"/>
              </a:rPr>
              <a:t>Other British symb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Изображение 199"/>
          <p:cNvPicPr/>
          <p:nvPr/>
        </p:nvPicPr>
        <p:blipFill>
          <a:blip r:embed="rId1"/>
          <a:stretch/>
        </p:blipFill>
        <p:spPr>
          <a:xfrm>
            <a:off x="4214880" y="4572000"/>
            <a:ext cx="3143160" cy="207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3000240" y="242892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6000840" y="285840"/>
            <a:ext cx="2666880" cy="221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4"/>
          <a:stretch/>
        </p:blipFill>
        <p:spPr>
          <a:xfrm>
            <a:off x="285840" y="4643280"/>
            <a:ext cx="2523960" cy="2067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5"/>
          <a:stretch/>
        </p:blipFill>
        <p:spPr>
          <a:xfrm>
            <a:off x="6286680" y="2643120"/>
            <a:ext cx="2452680" cy="1852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6"/>
          <a:stretch/>
        </p:blipFill>
        <p:spPr>
          <a:xfrm>
            <a:off x="214200" y="857160"/>
            <a:ext cx="3000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28920" y="274320"/>
            <a:ext cx="42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sto MT"/>
              </a:rPr>
              <a:t>British souveni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bigben"/>
          <p:cNvPicPr/>
          <p:nvPr/>
        </p:nvPicPr>
        <p:blipFill>
          <a:blip r:embed="rId1"/>
          <a:stretch/>
        </p:blipFill>
        <p:spPr>
          <a:xfrm>
            <a:off x="457200" y="1295280"/>
            <a:ext cx="2757600" cy="3776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towerbridge2"/>
          <p:cNvPicPr/>
          <p:nvPr/>
        </p:nvPicPr>
        <p:blipFill>
          <a:blip r:embed="rId2"/>
          <a:stretch/>
        </p:blipFill>
        <p:spPr>
          <a:xfrm>
            <a:off x="4572000" y="1295280"/>
            <a:ext cx="4267080" cy="3046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Изображение 293"/>
          <p:cNvPicPr/>
          <p:nvPr/>
        </p:nvPicPr>
        <p:blipFill>
          <a:blip r:embed="rId3"/>
          <a:stretch/>
        </p:blipFill>
        <p:spPr>
          <a:xfrm>
            <a:off x="3500280" y="4429080"/>
            <a:ext cx="3429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BritishIsles_phy"/>
          <p:cNvPicPr/>
          <p:nvPr/>
        </p:nvPicPr>
        <p:blipFill>
          <a:blip r:embed="rId1"/>
          <a:stretch/>
        </p:blipFill>
        <p:spPr>
          <a:xfrm>
            <a:off x="5105520" y="533520"/>
            <a:ext cx="3717720" cy="4887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57200" y="1386000"/>
            <a:ext cx="4343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73"/>
                </a:solidFill>
                <a:latin typeface="Calisto MT"/>
              </a:rPr>
              <a:t>The United Kingd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73"/>
                </a:solidFill>
                <a:latin typeface="Calisto MT"/>
              </a:rPr>
              <a:t>of Great Brita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73"/>
                </a:solidFill>
                <a:latin typeface="Calisto MT"/>
              </a:rPr>
              <a:t>and Northern Ire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national anthem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f Great Brit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gm004.mid" descr=""/>
          <p:cNvPicPr/>
          <p:nvPr/>
        </p:nvPicPr>
        <p:blipFill>
          <a:blip r:embed="rId1"/>
          <a:stretch/>
        </p:blipFill>
        <p:spPr>
          <a:xfrm>
            <a:off x="6215040" y="214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79280" y="4294080"/>
            <a:ext cx="43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od save our gracious Qu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long live our noble Queen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Send her vict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happy and gl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long to reign over u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O Lord our God ari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64000" y="4843440"/>
            <a:ext cx="42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Thy choicest gifts in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on her be pleased to pou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long may she reig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may she defend our law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and ever give us ca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to sing with heart and v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"God save the Queen!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684360" y="1413000"/>
            <a:ext cx="79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The author of the anthem is Henry Car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People sang it first in 1740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951280" y="2500200"/>
            <a:ext cx="3240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Strike down her enemie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And make them fall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Confound their politic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Frustrate their knavish trick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On thee our hopes we fix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od save us all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8128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AP-GB-weather"/>
          <p:cNvPicPr/>
          <p:nvPr/>
        </p:nvPicPr>
        <p:blipFill>
          <a:blip r:embed="rId1"/>
          <a:stretch/>
        </p:blipFill>
        <p:spPr>
          <a:xfrm>
            <a:off x="1857240" y="142920"/>
            <a:ext cx="5172120" cy="6400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6477120" y="3078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Lucida Sans Typewriter"/>
              </a:rPr>
              <a:t>England</a:t>
            </a:r>
            <a:r>
              <a:rPr b="0" lang="en-US" sz="4000" spc="-1" strike="noStrike">
                <a:solidFill>
                  <a:srgbClr val="00b050"/>
                </a:solidFill>
                <a:latin typeface="Lucida Sans Typewriter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3520" y="57913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Lucida Sans Typewriter"/>
              </a:rPr>
              <a:t>Wales</a:t>
            </a:r>
            <a:r>
              <a:rPr b="1" lang="en-US" sz="3600" spc="-1" strike="noStrike">
                <a:solidFill>
                  <a:srgbClr val="cc66ff"/>
                </a:solidFill>
                <a:latin typeface="Lucida Sans Typewrite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867280" y="15238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Lucida Sans Typewriter"/>
              </a:rPr>
              <a:t>Scotland</a:t>
            </a:r>
            <a:r>
              <a:rPr b="1" lang="en-US" sz="4000" spc="-1" strike="noStrike">
                <a:solidFill>
                  <a:srgbClr val="ffcc99"/>
                </a:solidFill>
                <a:latin typeface="Lucida Sans Typewriter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04920" y="1371600"/>
            <a:ext cx="26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Lucida Sans Typewriter"/>
              </a:rPr>
              <a:t>Northern Irelan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ros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04920" y="304920"/>
            <a:ext cx="2336760" cy="235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fthistle"/>
          <p:cNvPicPr/>
          <p:nvPr/>
        </p:nvPicPr>
        <p:blipFill>
          <a:blip r:embed="rId2"/>
          <a:stretch/>
        </p:blipFill>
        <p:spPr>
          <a:xfrm>
            <a:off x="6324480" y="304920"/>
            <a:ext cx="2362320" cy="2342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affodil"/>
          <p:cNvPicPr/>
          <p:nvPr/>
        </p:nvPicPr>
        <p:blipFill>
          <a:blip r:embed="rId3"/>
          <a:stretch/>
        </p:blipFill>
        <p:spPr>
          <a:xfrm>
            <a:off x="533520" y="4114800"/>
            <a:ext cx="2438280" cy="2257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shamrock"/>
          <p:cNvPicPr/>
          <p:nvPr/>
        </p:nvPicPr>
        <p:blipFill>
          <a:blip r:embed="rId4"/>
          <a:stretch/>
        </p:blipFill>
        <p:spPr>
          <a:xfrm>
            <a:off x="6172200" y="4114800"/>
            <a:ext cx="2489040" cy="2387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2781360"/>
            <a:ext cx="556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4582c"/>
                </a:solidFill>
                <a:latin typeface="Calisto MT"/>
                <a:ea typeface="宋体"/>
              </a:rPr>
              <a:t>Each country in Britain has its own patron saint and floral em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rose1"/>
          <p:cNvPicPr/>
          <p:nvPr/>
        </p:nvPicPr>
        <p:blipFill>
          <a:blip r:embed="rId1"/>
          <a:stretch/>
        </p:blipFill>
        <p:spPr>
          <a:xfrm>
            <a:off x="2666880" y="3789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2448000" y="928800"/>
            <a:ext cx="424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Red ros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1289160" y="2779560"/>
            <a:ext cx="65642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blem of Lancaster</a:t>
            </a:r>
            <a:endParaRPr b="0" lang="en-US" sz="1800" spc="1" strike="noStrike">
              <a:ln w="381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роза_белая"/>
          <p:cNvPicPr/>
          <p:nvPr/>
        </p:nvPicPr>
        <p:blipFill>
          <a:blip r:embed="rId1"/>
          <a:stretch/>
        </p:blipFill>
        <p:spPr>
          <a:xfrm>
            <a:off x="3137040" y="1989000"/>
            <a:ext cx="2868480" cy="45468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1763640" y="0"/>
            <a:ext cx="5616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White rose –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emblem of York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pic>
        <p:nvPicPr>
          <p:cNvPr id="110" name="Picture 7" descr="BritishCrown"/>
          <p:cNvPicPr/>
          <p:nvPr/>
        </p:nvPicPr>
        <p:blipFill>
          <a:blip r:embed="rId2"/>
          <a:stretch/>
        </p:blipFill>
        <p:spPr>
          <a:xfrm>
            <a:off x="324000" y="2097000"/>
            <a:ext cx="2263680" cy="2662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1" name="Picture 8" descr="coat_of_arms"/>
          <p:cNvPicPr/>
          <p:nvPr/>
        </p:nvPicPr>
        <p:blipFill>
          <a:blip r:embed="rId3"/>
          <a:stretch/>
        </p:blipFill>
        <p:spPr>
          <a:xfrm>
            <a:off x="6372360" y="2085840"/>
            <a:ext cx="25034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thistle"/>
          <p:cNvPicPr/>
          <p:nvPr/>
        </p:nvPicPr>
        <p:blipFill>
          <a:blip r:embed="rId1"/>
          <a:stretch/>
        </p:blipFill>
        <p:spPr>
          <a:xfrm>
            <a:off x="357120" y="1714680"/>
            <a:ext cx="3606840" cy="4960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2786040" y="285840"/>
            <a:ext cx="635796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Emblem of Scotland –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thistl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071960" y="2357280"/>
            <a:ext cx="474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ccording to the legend the thistle saved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 country from the enemies during the w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4" descr="fthistle"/>
          <p:cNvPicPr/>
          <p:nvPr/>
        </p:nvPicPr>
        <p:blipFill>
          <a:blip r:embed="rId2"/>
          <a:stretch/>
        </p:blipFill>
        <p:spPr>
          <a:xfrm>
            <a:off x="6357960" y="4429080"/>
            <a:ext cx="2133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lukporei"/>
          <p:cNvPicPr/>
          <p:nvPr/>
        </p:nvPicPr>
        <p:blipFill>
          <a:blip r:embed="rId1"/>
          <a:stretch/>
        </p:blipFill>
        <p:spPr>
          <a:xfrm>
            <a:off x="5435640" y="2565360"/>
            <a:ext cx="3292560" cy="38019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5"/>
          <p:cNvSpPr txBox="1"/>
          <p:nvPr/>
        </p:nvSpPr>
        <p:spPr>
          <a:xfrm>
            <a:off x="2071800" y="214200"/>
            <a:ext cx="617220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Leek </a:t>
            </a:r>
            <a:endParaRPr b="1" lang="en-US" sz="1800" spc="1" strike="noStrike">
              <a:ln w="31680">
                <a:solidFill>
                  <a:srgbClr val="8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Symbol of Wales </a:t>
            </a:r>
            <a:endParaRPr b="1" lang="en-US" sz="1800" spc="1" strike="noStrike">
              <a:ln w="31680">
                <a:solidFill>
                  <a:srgbClr val="8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55640" y="2276640"/>
            <a:ext cx="41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Monotype Corsiva"/>
              </a:rPr>
              <a:t>Welsh people think that the leek deals with the legends about St.David. According to the legend this Christian ascetic ate only bread and lee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narkiss"/>
          <p:cNvPicPr/>
          <p:nvPr/>
        </p:nvPicPr>
        <p:blipFill>
          <a:blip r:embed="rId1"/>
          <a:stretch/>
        </p:blipFill>
        <p:spPr>
          <a:xfrm>
            <a:off x="539640" y="2492280"/>
            <a:ext cx="3214800" cy="3861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narciss"/>
          <p:cNvPicPr/>
          <p:nvPr/>
        </p:nvPicPr>
        <p:blipFill>
          <a:blip r:embed="rId2"/>
          <a:stretch/>
        </p:blipFill>
        <p:spPr>
          <a:xfrm>
            <a:off x="6372360" y="333360"/>
            <a:ext cx="2000160" cy="2257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4572000" y="2637000"/>
            <a:ext cx="424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Monotype Corsiva"/>
              </a:rPr>
              <a:t>Welsh people are convinced that daffodils opens  as a sign of their love to St.Davi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826920" y="333360"/>
            <a:ext cx="525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ffodil - </a:t>
            </a:r>
            <a:endParaRPr b="0" lang="en-US" sz="1800" spc="1" strike="noStrike">
              <a:ln w="15840">
                <a:solidFill>
                  <a:srgbClr val="9933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66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blem of Wales</a:t>
            </a:r>
            <a:endParaRPr b="0" lang="en-US" sz="1800" spc="1" strike="noStrike">
              <a:ln w="15840">
                <a:solidFill>
                  <a:srgbClr val="993366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5:14:40Z</dcterms:created>
  <dc:creator/>
  <dc:description/>
  <cp:keywords>символика британии</cp:keywords>
  <dc:language>en-US</dc:language>
  <cp:lastModifiedBy>User</cp:lastModifiedBy>
  <dcterms:modified xsi:type="dcterms:W3CDTF">2012-02-25T15:05:03Z</dcterms:modified>
  <cp:revision>26</cp:revision>
  <dc:subject>презентация к уроку</dc:subject>
  <dc:title>символы великобритании</dc:title>
</cp:coreProperties>
</file>