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1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3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media/image22.jpeg" ContentType="image/jpeg"/>
  <Override PartName="/ppt/media/image23.jpeg" ContentType="image/jpeg"/>
  <Override PartName="/ppt/media/image2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A633-D2A0-4959-94E1-9206CFCC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FB8D-0C82-4D3E-BA9E-C3DB6558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A170F-5228-4FBB-BE2E-8F92A5B7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10D08-A747-4B68-8F74-396ABA7A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F0C67-836F-4BF8-A6CB-55B4EAC3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F2CD9-0EF8-450D-AA02-5E40F9FA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AE210-15B9-4EAE-B746-25339FF5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00FBF-0A24-40A8-807C-2B83FE4E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F452E-4491-410F-BEF2-5E91F100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CE8A3-2735-480D-983C-6B64447D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A73A7-6750-454E-9D18-3B4710EA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7B3F7-601A-484C-9E94-602BF5F0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3495-B500-4836-9C78-29BECEB0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8E50A-81A4-4C84-BC8B-12BBD65B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AB329-1B19-4F07-B06E-C9445507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53370-6EAF-4025-9444-7BF205D4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5DC6D-3B75-4738-BAC7-AA538AA0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5A80B-4C21-440A-A995-1835179A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2A2C1-A1F1-4C1A-B6F3-33DDDDEC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73712-ADAD-4DD0-AC92-55EEBD9A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3C2E0-B848-432E-B98D-6E1DF090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00F65-738B-4105-AB91-8393C3BC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9630D-287E-4D1E-9DEA-F3F8D33F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526B-998A-4ED3-9692-1D15BAAA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11F82-7B9D-4E79-AC9A-58E4BC32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6847B-176D-4146-BFE8-3A998F4F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E7F1F-703D-401B-9841-CE1D74A1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C498D-C217-463C-BF66-09D35967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F468E-FE56-4941-BEC1-B2A512F1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32DC9-52B9-403C-B568-04946A92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2B8ED-DD31-4435-9723-A3F38C36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08B2C-6ADA-4472-A445-64066ACB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5793E-F3F5-430B-A93D-F39F5913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573D5-3105-40B0-B879-224506C7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D544-3277-4EFD-985E-7DD84C8A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97FAE-86A8-45D4-AA43-7E7FAE78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53868-83F4-4886-A1FB-418665AB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9620C-8EC4-4665-B661-BD827424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8636C-26F1-4362-A8CD-15FD7AB3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BC192-27F7-4624-93AD-834887A9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06D29-46D2-4FB3-BC32-70CD0F1C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5350D-A8EB-4403-902E-CF677A93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D3921-159C-44B5-862E-C31823EB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F132D-D6F5-4587-BCF9-00EA3666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434C6-743A-4AFD-BABF-D3437814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C2BC-4FAD-4420-AB78-34F7BA61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D5E7A-33FF-4773-95F6-B5FA0F8A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F129E-6646-49D4-AE4F-C365DF3B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CC174-7E27-48CF-BB29-9BCC5BE9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5D012-D97C-4AC9-8990-8358158C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ECB9C-128D-4CF4-BA85-19485509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26CE74-C35C-45A4-AA5B-3669EA0A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505902-3928-43F1-9B94-55AA46C8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EA6E57-FDB3-4A51-A7B1-6FC70A19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91DECE-764F-4ACC-AD89-7058642D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F5BD35-40E0-4A20-A543-A0632D64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69C2-0884-47EC-9157-DA4DA260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97A82E-440B-4176-B381-7BA3B237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4896A4-014F-4264-B520-EDBF05A0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94601A-9DBE-454C-989D-859FF402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54E94E-FB4C-407F-89B7-09A9D65C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99B41-0F1F-4A08-B111-C6B7DC25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8A93EF-7E02-4006-A842-8952E683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23DB47-1D7D-440A-B47D-E07C0F00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4BB05E-8D4F-4BC1-AAC4-E118D38D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6E37C7-6EFD-4139-9A1B-4B27D693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EB6154-546C-42D6-8288-AF9F1684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A185-819D-42DE-A46B-DF544720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38F339-BD2D-4ADE-B457-BF65DA9F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904611-4C29-4D28-A87B-5CD9C924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257536-3E69-4CAC-BDDA-C06656BA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D4542B-775A-45DF-B377-3839EE67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7FD760-4C39-4FAA-99A8-5A943EA9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04F28C-33BA-4F11-A6A4-8CF9681B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87245A-D72B-41B7-A7F8-F29A1892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B8BE4B-C6B6-4915-8CAF-46439F22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E9B586-E549-4E4C-BDD4-3219CD97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5BE0-8111-4D66-BBAC-DAF345EA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AD34-8EF1-4988-AEAE-D508D269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296E-864B-4061-B673-E7A134BF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70FB-30D6-4B49-910D-03D3CB13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B115-8F6A-4C81-A8FA-D32DBFC7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C4C0-38A7-4A77-83AB-6CAE453F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418C-D4F3-4A7E-86E0-C403544B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8A47-A2CA-4E6B-A0B1-1F424198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5F96-A5E2-415B-AA6E-8C0B4EF9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7A94D-28F3-4013-AB4A-5E714D21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D3B6F-B669-4E27-98F6-ECC29C7B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1F503-ABEE-4D47-B457-7C0FF789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8F55B-B42E-4FAE-B899-FEB8E4A5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89145-A96D-4003-8ECE-48B5A098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DE71-CCC8-496A-AE47-F08458BF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AF672-462F-4DAE-A1CF-4D0F9536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A8EF0-9709-4F9E-A3B2-EA170C7F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DDCAD-C2C0-4B1C-AD0A-F9213C4B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42578-1D0B-4101-A020-1160BBDA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908D9-CF8F-4779-A9FF-F06C186F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E397E-8582-43BD-91E7-6D85B153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328D0-5428-4809-8F80-D62BA59F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69880-7953-42D4-AD85-390A1080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8A7A7-0AC1-4271-AF8F-B1B8379D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7718A-B5A5-410F-A07A-67E1CD2F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C358-9B6B-4DCA-93C5-182FC270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CE8AD-F488-47D3-B651-679A1884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537DB-2992-4678-B0F0-8FAC0D41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94899-B219-4055-A7AF-A15151C7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BCC36-F228-4B9D-8282-19E688D1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230BA-22BE-43F6-A307-BC37A5E0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F5954-414F-44C1-8017-3F6428AC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F8FB7-CB70-43D5-88C7-7E0D936C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9AFEF-DBF2-440A-8B18-E16F22E0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B6204-CD19-4446-BA26-35B9C483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25F4F-204D-4C12-8B42-C61DCB61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EDB2-940D-4E9B-8491-40ED847B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862A7-D81A-4835-A0C7-8CA4E7CC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30E2C-1008-4869-BEA7-EB40B003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589DE-7A25-4922-AC51-72557D50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25914-D4F8-49A0-AB8E-B304D628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6057B-997E-4A98-8E85-EF550B7D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97DCC-7F51-4412-92D8-8343159F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58FEC-D0CB-4DCE-A48B-80107FAF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7AEAF-E7A0-42DA-A9D0-5D6ABCDD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D7E0D-D766-4683-BEF3-C815B302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B45CE-EB79-47FC-A2A1-DBD67614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0A4B-1298-4333-AEC5-11C853BF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9F454-7478-45B3-A35E-1FD72E67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29577-D611-4D0B-8A38-16120F04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1603C-169F-4937-BE91-7257F6EF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245CD-8F72-429C-BEE0-D8B236F8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09556-C1B6-4790-8D18-CA9FC5BB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79C7E-18C5-491C-BAA6-ED4E3152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D7BB3-154E-479A-93F8-C0A2F5B3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B135A-F06B-4A8A-A8EE-06ED8121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BA6A8-AE37-4C81-8544-5255ADA7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228FC-66DB-4193-935B-E03C094B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21BD-E56E-40BC-B7EB-78AF9A1C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86EE6-03DF-441E-8CA1-E93E201A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A9CE1-DE1D-48B5-BBDC-86ADF9E0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6F568-921E-4E62-B03F-FC3CC540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90B45-DBB4-472C-9051-A1F7710B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A66D3-FF58-49FF-8D9F-48C203A1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775F4-22D0-4EA4-B546-278D7663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93B18-EBAF-4C31-9A78-12988055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33DBE-0966-4B92-984F-55C33930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6E826-2D66-4DA5-B50A-AA751670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21E73-E3B6-4DFB-B3BE-D9DEA25D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22E3-5144-4804-A9B0-2F419EE4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AF132-187E-46B0-99B1-E6FECEB4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6EA0C-8F96-4EB8-9399-DAC56353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79D05-4036-4843-BC13-87887704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B4B0D-1769-43A8-8807-74E340B5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DB5B7-2272-4B78-889A-925E4B9D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34B7B-11AA-4C7A-8F23-4C1BE9D2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7A146-83C2-4C12-84B0-1C3E8296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34AB6-1651-4DFB-A676-DE812614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CB496-6EC3-4E13-86D0-A3F5F2AF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C111B-7BF0-4F71-8455-49971610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5A9B-98DD-42D5-9CCA-DE837C20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B8E57-0E30-4486-A132-6A1894F1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7DF86-E827-4A15-8497-32FD9BB8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EF7A1-8EDE-41F6-97B9-DA07AFA3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E094F-A60E-4124-B61D-9BBD7711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76D98-C6D5-4807-941C-E2A58911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6FEE1-83FA-4AE0-BC78-BF720AFE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0EFD7-FE32-4181-B2EF-842D4093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F2528-E97D-47E7-B5F8-0C1E044B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9A4F0-3900-4CBA-8FF8-B30E80D8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0D016-779A-4B8E-8BE5-2BC43785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7845-26E3-4429-964C-518A7689CA0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0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2E80-BB53-43F8-9EF4-A7318FCA7B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66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66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67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67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67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68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68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8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8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69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0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0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70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71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71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71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72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72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73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73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3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4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4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4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74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75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75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75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76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76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76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76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77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77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77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8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F494-73DA-4617-A648-2FF26E2AA1B5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84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84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84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84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85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85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85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85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86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86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86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86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87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87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87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88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88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88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89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89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89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89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90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90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90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91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91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1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91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92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92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92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93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93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93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94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94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94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94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5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95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95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96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3FE0-AF4A-4C68-BD0C-9E205802D7EF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017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 type="dt" idx="3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 type="ftr" idx="3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C989-276C-4B6A-9A9D-7F0340D4336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1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062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dt" idx="4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ftr" idx="4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sldNum" idx="4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02E1-8402-49EA-B134-6C900091F43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77CF-8D14-4FDD-8704-9F5AD9BEAFB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AC69-30AD-46F5-96AE-8BA022B2E5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1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F4AB-76A6-4766-A29E-2D5B6731A6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5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7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9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0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325F-6C56-47CF-8C3E-1FD1D9D452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6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6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7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9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1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D43B-2CFB-42F3-A723-266ACEA17A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C5E0-5775-4B0F-8C90-49B747E733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2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FC3E-ADC5-417A-8D5F-E64B32753F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4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8C3D-5B3A-462C-9509-183FE6B2AE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52.radikal.ru/i137/1010/bb/9d988d052346.jpg" TargetMode="External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2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3/75/47/75047744_3019244_1238530273_1881.jpg" TargetMode="External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3/76/498/76498087_rainbow.jpg" TargetMode="External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lifeglobe.net/media/entry/462/1247327110_radugapict_narod_ru119_3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ymbolsbook.ru/images/R/Rainbow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gorod.tomsk.ru/i/u/7966/147695.jpeg" TargetMode="External"/><Relationship Id="rId4" Type="http://schemas.openxmlformats.org/officeDocument/2006/relationships/image" Target="../media/image19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1/ksivanova2008.d/0_f810_eb7c56a5_L" TargetMode="External"/><Relationship Id="rId2" Type="http://schemas.openxmlformats.org/officeDocument/2006/relationships/image" Target="../media/image2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5810/124075818.d/0_676c7_537d9697_XL" TargetMode="External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kozanbilgi.net/Resimler/manzara/26.jpg" TargetMode="External"/><Relationship Id="rId2" Type="http://schemas.openxmlformats.org/officeDocument/2006/relationships/image" Target="../media/image2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adikal.ua/data/upload/ba193/49112/56aefb084c.jpg" TargetMode="External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9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opsci.com/files/imagecache/article_image_large/articles/701px-Lightning3_0.jpg" TargetMode="External"/><Relationship Id="rId2" Type="http://schemas.openxmlformats.org/officeDocument/2006/relationships/image" Target="../media/image2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tutoriallounge.com/wp-content/uploads/1881.jpg" TargetMode="External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1/63/980/63980441_list.jpg" TargetMode="External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age6a.gym2.ru/Vovnjanko/images/3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g13.imageshost.ru/img/2011/10/07/image_4e8eedfec935e.jpg" TargetMode="External"/><Relationship Id="rId4" Type="http://schemas.openxmlformats.org/officeDocument/2006/relationships/image" Target="../media/image8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ndostan.ru/forum/foto-video/8607/278300_1_o.jpg" TargetMode="External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015.radikal.ru/1011/1e/da62ed5d5cd2.jpg" TargetMode="External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90.imageshack.us/img174/8210/9280tk0.jpg" TargetMode="External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5405/milkamilkina.8d/0_6ce43_c45d7866_XL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.piccy.info/i4/b5/09/42f3dba4619440cf77ab971b3593.jpeg" TargetMode="External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В мире природы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Сергиванова Юлия Юрьевна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5 класс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МБОУ «Старосуркинская СОШ» Альметьевского муниципального района РТ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6" name="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3" name="" descr="Картинка 22 из 3849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8600"/>
            <a:ext cx="8229600" cy="6400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РАДУГ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Ра́дуга — атмосферное оптическое и метеорологическое явление, наблюдаемое обычно в поле повышенной влажности. Оно выглядит как разноцветная дуга или окружность, составленная из цветов спектра (глядя снаружи — внутрь дуги: красный, оранжевый, жёлтый, зелёный, голубой, синий, фиолетовый). Эти семь цветов — основные названия цветов, которые принято выделять в радуге в русской культуре (возможно, вслед за Ньютоном, см. ниже), но следует иметь в виду, что на самом деле спектр непрерывен, и цвета эти в радуге переходят друг в друга с плавным изменением через множество промежуточных оттенков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5000">
    <p:pull dir="d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8" name="" descr="Картинка 15 из 1680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8600"/>
            <a:ext cx="8229600" cy="6400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1" name="" descr="Картинка 14 из 1680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8600"/>
            <a:ext cx="8381880" cy="6400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4" name="" descr="Картинка 2 из 1680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8458200" cy="62481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7" name="" descr="Картинка 4 из 1680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52280"/>
            <a:ext cx="4419720" cy="6477120"/>
          </a:xfrm>
          <a:prstGeom prst="rect">
            <a:avLst/>
          </a:prstGeom>
          <a:ln w="0">
            <a:noFill/>
          </a:ln>
        </p:spPr>
      </p:pic>
      <p:pic>
        <p:nvPicPr>
          <p:cNvPr id="1148" name="" descr="Картинка 57 из 1680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152280"/>
            <a:ext cx="4267080" cy="6477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  <p:sndAc>
      <p:stSnd>
        <p:snd r:embed="rId5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1" name="" descr="Картинка 33 из 1680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8600"/>
            <a:ext cx="8229600" cy="6400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4" name="" descr="Картинка 85 из 1680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8600"/>
            <a:ext cx="8229600" cy="6400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  <p:sndAc>
      <p:stSnd>
        <p:snd r:embed="rId3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7" name="" descr="Картинка 112 из 1680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860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  <p:sndAc>
      <p:stSnd>
        <p:snd r:embed="rId3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0" name="" descr="Картинка 157 из 1680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8600"/>
            <a:ext cx="8229600" cy="6400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ИСТОПА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истопа́д — биологический процесс сбрасывания листвы растения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условиях умеренного климата зимой многим растениям не хватает воды. Вода в замёрзшем грунте находится в состоянии льда и не может проникать в клетки корней. В то же время испарение с поверхности листьев не прекращается (хотя оно, естественно, снижается, так как зависит от температуры воздуха). Если бы деревья и кустарники, а также и некоторые травянистые растения не сбрасывали листву, они бы засыха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ull dir="d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МОЛ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Мо́лния — гигантский электрический искровой разряд в атмосфере, обычно происходит во время грозы, проявляющийся яркой вспышкой света и сопровождающим её громом. Молнии также были зафиксированы на Венере, Юпитере, Сатурне и Уране. Ток в разряде молнии достигает 10-100 тысяч ампер, напряжение — 1 000 000 вольт (иногда достигает 50 000 000 вольт), тем не менее, погибает после удара молнией лишь 10,2 % людей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5" name="" descr="Картинка 5 из 1766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860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8" name="" descr="Картинка 14 из 1772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860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155520" y="46080"/>
            <a:ext cx="4762440" cy="3809880"/>
            <a:chOff x="155520" y="46080"/>
            <a:chExt cx="4762440" cy="3809880"/>
          </a:xfrm>
        </p:grpSpPr>
        <p:sp>
          <p:nvSpPr>
            <p:cNvPr id="1172" name=""/>
            <p:cNvSpPr txBox="1"/>
            <p:nvPr/>
          </p:nvSpPr>
          <p:spPr>
            <a:xfrm>
              <a:off x="155520" y="46080"/>
              <a:ext cx="4762440" cy="380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2057400" y="1523880"/>
            <a:ext cx="4762440" cy="3810240"/>
            <a:chOff x="2057400" y="1523880"/>
            <a:chExt cx="4762440" cy="3810240"/>
          </a:xfrm>
        </p:grpSpPr>
        <p:sp>
          <p:nvSpPr>
            <p:cNvPr id="1174" name=""/>
            <p:cNvSpPr txBox="1"/>
            <p:nvPr/>
          </p:nvSpPr>
          <p:spPr>
            <a:xfrm>
              <a:off x="2057400" y="1523880"/>
              <a:ext cx="4762440" cy="3810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75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8" name="" descr="Картинка 26 из 177236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6477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  <p:sndAc>
      <p:stSnd>
        <p:snd r:embed="rId2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1" name="" descr="Картинка 29 из 177236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400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4" name="" descr="Картинка 36 из 177236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400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1" name="" descr="Картинка 3 из 3849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860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4" name="" descr="Картинка 10 из 3849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152280"/>
            <a:ext cx="4191120" cy="6477120"/>
          </a:xfrm>
          <a:prstGeom prst="rect">
            <a:avLst/>
          </a:prstGeom>
          <a:ln w="0">
            <a:noFill/>
          </a:ln>
        </p:spPr>
      </p:pic>
      <p:pic>
        <p:nvPicPr>
          <p:cNvPr id="1115" name="" descr="Картинка 15 из 38490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52280"/>
            <a:ext cx="4495680" cy="6477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  <p:sndAc>
      <p:stSnd>
        <p:snd r:embed="rId5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8" name="" descr="Картинка 26 из 3849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6477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1" name="" descr="Картинка 38 из 3849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8600"/>
            <a:ext cx="8229600" cy="6400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4" name="" descr="Картинка 51 из 3849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860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7" name="" descr="Картинка 2 из 3849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62481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0" name="" descr="Картинка 23 из 3849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62481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01T17:42:3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