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F75F-3AFB-40B7-B1D5-38830896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25E9-11FA-4E91-99FE-935A3E54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D0FD-AABD-483A-942A-9517F652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B2D3-2884-44C0-9A18-40CBC325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5D50-1E98-4BC8-83D8-3AF69CDF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75EB-D1BE-4E76-BE81-1EACAD0E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F3A0-10F8-41E5-B026-5CEDFEFE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C8A1-99CE-49E9-ABF0-FE6BFDB7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46A5-475D-49D3-BFCF-3D7034CA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DD54-2596-4B44-B676-B7A86ECB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F3C2-CA57-433F-A83A-5980D405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362C-E14D-44C9-B2C0-B4767B22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5EFE-0323-4416-9A83-894E1901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0C36-3743-4502-BA27-35B6E59F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0552-CBFA-4B3B-B4E1-55E992D9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C199-54A7-4B9A-80F8-AADE6B98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9DA6-EC12-47BA-A4E9-E55377AD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3DF7-F9F9-45A0-849E-8BC9C242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BD41-9821-4FA5-A0FA-32AE793B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6630-A00C-442C-B31D-087FAE94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35AC-8D5A-46E2-9AB9-5465AD4C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F495-42C2-4E6B-A2B3-91C4154A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09E7-63D8-4753-BD34-FEA30E18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4DFD-6C68-4F91-892B-9139A8E8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3451-0EFC-4358-825E-9F82AF03F58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2B89-AFF7-4EAB-ACE6-606063ADB6E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ace9f"/>
                </a:solidFill>
                <a:latin typeface="Arial"/>
              </a:rPr>
              <a:t>Великие </a:t>
            </a:r>
            <a:br>
              <a:rPr sz="4000"/>
            </a:br>
            <a:r>
              <a:rPr b="0" lang="ru-RU" sz="4000" spc="-1" strike="noStrike">
                <a:solidFill>
                  <a:srgbClr val="1ace9f"/>
                </a:solidFill>
                <a:latin typeface="Arial"/>
              </a:rPr>
              <a:t>географические открыт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Picture 9" descr="парусники"/>
          <p:cNvPicPr/>
          <p:nvPr/>
        </p:nvPicPr>
        <p:blipFill>
          <a:blip r:embed="rId1"/>
          <a:stretch/>
        </p:blipFill>
        <p:spPr>
          <a:xfrm>
            <a:off x="1835280" y="1557360"/>
            <a:ext cx="5616360" cy="42210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1489680" y="5732640"/>
            <a:ext cx="62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Arial"/>
              </a:rPr>
              <a:t>Боева Светлана Валентиновна МКОУ «Углянская СОШ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Arial"/>
              </a:rPr>
              <a:t>Верхнехавский район, Воронежска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ce9f"/>
                </a:solidFill>
                <a:latin typeface="Arial"/>
              </a:rPr>
              <a:t>Завоевание испанцев и португальцев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915920"/>
            <a:ext cx="3600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спанский конкистадор,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авоевавший Мексику и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ничтоживший цивилизацию ацтеков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спанский конкистадор, начавший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авоевание ацтекской империи от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мени императора Священной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имской Империи Карла V, в начале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XVI века.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Кортес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ыл частью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коления испанских конкистадоров,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ачавших колонизацию Латинской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мерик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76360" y="1844280"/>
            <a:ext cx="3024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6" descr="Эрнан Кортес"/>
          <p:cNvPicPr/>
          <p:nvPr/>
        </p:nvPicPr>
        <p:blipFill>
          <a:blip r:embed="rId1"/>
          <a:stretch/>
        </p:blipFill>
        <p:spPr>
          <a:xfrm>
            <a:off x="5076720" y="1844640"/>
            <a:ext cx="307980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ace9f"/>
                </a:solidFill>
                <a:latin typeface="Arial"/>
              </a:rPr>
              <a:t>Конкистодор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446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Франси́ско Писа́рро Гонсалес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(исп. Francisco Pizarro y González, ок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475—1541) — испанский авантюрист,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онкистадор, завоевавший империю инков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 основавший город Лиму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516360" y="1599840"/>
            <a:ext cx="136836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7" descr="Франсиско Писарро"/>
          <p:cNvPicPr/>
          <p:nvPr/>
        </p:nvPicPr>
        <p:blipFill>
          <a:blip r:embed="rId1"/>
          <a:stretch/>
        </p:blipFill>
        <p:spPr>
          <a:xfrm>
            <a:off x="6516720" y="1628640"/>
            <a:ext cx="1343160" cy="2200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памятник писарро в Лиме Перу"/>
          <p:cNvPicPr/>
          <p:nvPr/>
        </p:nvPicPr>
        <p:blipFill>
          <a:blip r:embed="rId2"/>
          <a:stretch/>
        </p:blipFill>
        <p:spPr>
          <a:xfrm>
            <a:off x="2124000" y="3645000"/>
            <a:ext cx="3600360" cy="24192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9"/>
          <p:cNvSpPr/>
          <p:nvPr/>
        </p:nvSpPr>
        <p:spPr>
          <a:xfrm>
            <a:off x="6139080" y="5105520"/>
            <a:ext cx="27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онная статуя Писарр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 Лиме Пер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758196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1ace9f"/>
                </a:solidFill>
                <a:latin typeface="Arial"/>
              </a:rPr>
              <a:t>Последствия ВГО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77058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e7"/>
                </a:solidFill>
                <a:latin typeface="Times New Roman"/>
              </a:rPr>
              <a:t>Развитие мировой торговли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e7"/>
                </a:solidFill>
                <a:latin typeface="Times New Roman"/>
              </a:rPr>
              <a:t>Перемещение торговых путей из Средиземного моря в океаны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e7"/>
                </a:solidFill>
                <a:latin typeface="Times New Roman"/>
              </a:rPr>
              <a:t>Новый центр мировой торговли- Антверпен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e7"/>
                </a:solidFill>
                <a:latin typeface="Times New Roman"/>
              </a:rPr>
              <a:t>Обогащение купцов и владельцев предприятий в странах Европы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e7"/>
                </a:solidFill>
                <a:latin typeface="Times New Roman"/>
              </a:rPr>
              <a:t>Толчок росту производства товаров в Европе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e7"/>
                </a:solidFill>
                <a:latin typeface="Times New Roman"/>
              </a:rPr>
              <a:t>-  Начало колониального угнетения народов Америки, Африки. Ази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ace9f"/>
                </a:solidFill>
                <a:latin typeface="Arial"/>
              </a:rPr>
              <a:t>Подумай и ответь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115640" y="1628640"/>
            <a:ext cx="7581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ace9f"/>
                </a:solidFill>
                <a:latin typeface="Times New Roman"/>
              </a:rPr>
              <a:t>1.</a:t>
            </a:r>
            <a:r>
              <a:rPr b="0" lang="ru-RU" sz="1600" spc="-1" strike="noStrike">
                <a:solidFill>
                  <a:srgbClr val="ffffe7"/>
                </a:solidFill>
                <a:latin typeface="Times New Roman"/>
              </a:rPr>
              <a:t> Какова роль изобретений в технике кораблестроения и навигационного искусства в осуществлении Великих географических открытий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ace9f"/>
                </a:solidFill>
                <a:latin typeface="Times New Roman"/>
              </a:rPr>
              <a:t>2.</a:t>
            </a:r>
            <a:r>
              <a:rPr b="0" lang="ru-RU" sz="1600" spc="-1" strike="noStrike">
                <a:solidFill>
                  <a:srgbClr val="ffffe7"/>
                </a:solidFill>
                <a:latin typeface="Times New Roman"/>
              </a:rPr>
              <a:t> Каковы причины  Великих географических открытий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ace9f"/>
                </a:solidFill>
                <a:latin typeface="Times New Roman"/>
              </a:rPr>
              <a:t>3.</a:t>
            </a:r>
            <a:r>
              <a:rPr b="0" lang="ru-RU" sz="1600" spc="-1" strike="noStrike">
                <a:solidFill>
                  <a:srgbClr val="ffffe7"/>
                </a:solidFill>
                <a:latin typeface="Times New Roman"/>
              </a:rPr>
              <a:t> Кто и когда первым открыл путь  в Индию вокруг Африки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ace9f"/>
                </a:solidFill>
                <a:latin typeface="Times New Roman"/>
              </a:rPr>
              <a:t>4.</a:t>
            </a:r>
            <a:r>
              <a:rPr b="0" lang="ru-RU" sz="1600" spc="-1" strike="noStrike">
                <a:solidFill>
                  <a:srgbClr val="ffffe7"/>
                </a:solidFill>
                <a:latin typeface="Times New Roman"/>
              </a:rPr>
              <a:t> Кто и когда открыл Америку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ace9f"/>
                </a:solidFill>
                <a:latin typeface="Times New Roman"/>
              </a:rPr>
              <a:t>5.</a:t>
            </a:r>
            <a:r>
              <a:rPr b="0" lang="ru-RU" sz="1600" spc="-1" strike="noStrike">
                <a:solidFill>
                  <a:srgbClr val="ffffe7"/>
                </a:solidFill>
                <a:latin typeface="Times New Roman"/>
              </a:rPr>
              <a:t> Кто и когда первым совершил кругосветное плавание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ace9f"/>
                </a:solidFill>
                <a:latin typeface="Times New Roman"/>
              </a:rPr>
              <a:t>6.</a:t>
            </a:r>
            <a:r>
              <a:rPr b="0" lang="ru-RU" sz="1600" spc="-1" strike="noStrike">
                <a:solidFill>
                  <a:srgbClr val="ffffe7"/>
                </a:solidFill>
                <a:latin typeface="Times New Roman"/>
              </a:rPr>
              <a:t> Покажите на карте завоевания Испании и Португали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ace9f"/>
                </a:solidFill>
                <a:latin typeface="Times New Roman"/>
              </a:rPr>
              <a:t>7.</a:t>
            </a:r>
            <a:r>
              <a:rPr b="0" lang="ru-RU" sz="1600" spc="-1" strike="noStrike">
                <a:solidFill>
                  <a:srgbClr val="ffffe7"/>
                </a:solidFill>
                <a:latin typeface="Times New Roman"/>
              </a:rPr>
              <a:t> Какого значение Великих географических открытий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путь в индийский океан"/>
          <p:cNvPicPr/>
          <p:nvPr/>
        </p:nvPicPr>
        <p:blipFill>
          <a:blip r:embed="rId1"/>
          <a:stretch/>
        </p:blipFill>
        <p:spPr>
          <a:xfrm>
            <a:off x="900000" y="1197000"/>
            <a:ext cx="738036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магеллан карта"/>
          <p:cNvPicPr/>
          <p:nvPr/>
        </p:nvPicPr>
        <p:blipFill>
          <a:blip r:embed="rId1"/>
          <a:stretch/>
        </p:blipFill>
        <p:spPr>
          <a:xfrm>
            <a:off x="971640" y="1484280"/>
            <a:ext cx="7200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ace9f"/>
                </a:solidFill>
                <a:latin typeface="Arial"/>
              </a:rPr>
              <a:t>Памятник Диашу в Кейптаун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0" name="Picture 5" descr="памятник в Кейптауне Диашу"/>
          <p:cNvPicPr/>
          <p:nvPr/>
        </p:nvPicPr>
        <p:blipFill>
          <a:blip r:embed="rId1"/>
          <a:stretch/>
        </p:blipFill>
        <p:spPr>
          <a:xfrm>
            <a:off x="2627280" y="1413000"/>
            <a:ext cx="34099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ace9f"/>
                </a:solidFill>
                <a:latin typeface="Arial"/>
              </a:rPr>
              <a:t>Могила Колумба в Севиль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2" name="Picture 5" descr="могила колумба в севилье"/>
          <p:cNvPicPr/>
          <p:nvPr/>
        </p:nvPicPr>
        <p:blipFill>
          <a:blip r:embed="rId1"/>
          <a:stretch/>
        </p:blipFill>
        <p:spPr>
          <a:xfrm>
            <a:off x="2195640" y="1700280"/>
            <a:ext cx="460836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ace9f"/>
                </a:solidFill>
                <a:latin typeface="Arial"/>
              </a:rPr>
              <a:t>Памятник Колумбу в Гаван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4" name="Picture 5" descr="памятник колумбу в гаване"/>
          <p:cNvPicPr/>
          <p:nvPr/>
        </p:nvPicPr>
        <p:blipFill>
          <a:blip r:embed="rId1"/>
          <a:stretch/>
        </p:blipFill>
        <p:spPr>
          <a:xfrm>
            <a:off x="2771640" y="1844640"/>
            <a:ext cx="34610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ace9f"/>
                </a:solidFill>
                <a:latin typeface="Arial"/>
              </a:rPr>
              <a:t>План урок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ce9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e7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e7"/>
                </a:solidFill>
                <a:latin typeface="Verdana"/>
              </a:rPr>
              <a:t>Открытия и изобретения </a:t>
            </a:r>
            <a:r>
              <a:rPr b="0" lang="en-US" sz="2000" spc="-1" strike="noStrike">
                <a:solidFill>
                  <a:srgbClr val="ffffe7"/>
                </a:solidFill>
                <a:latin typeface="Verdana"/>
              </a:rPr>
              <a:t>XV-XVI</a:t>
            </a:r>
            <a:r>
              <a:rPr b="0" lang="ru-RU" sz="2000" spc="-1" strike="noStrike">
                <a:solidFill>
                  <a:srgbClr val="ffffe7"/>
                </a:solidFill>
                <a:latin typeface="Verdana"/>
              </a:rPr>
              <a:t>в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ace9f"/>
                </a:solidFill>
                <a:latin typeface="Verdana"/>
              </a:rPr>
              <a:t>2.</a:t>
            </a:r>
            <a:r>
              <a:rPr b="0" lang="ru-RU" sz="2000" spc="-1" strike="noStrike">
                <a:solidFill>
                  <a:srgbClr val="ffffe7"/>
                </a:solidFill>
                <a:latin typeface="Verdana"/>
              </a:rPr>
              <a:t> Причины Великих географических открыти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ace9f"/>
                </a:solidFill>
                <a:latin typeface="Verdana"/>
              </a:rPr>
              <a:t>3.</a:t>
            </a:r>
            <a:r>
              <a:rPr b="0" lang="ru-RU" sz="2000" spc="-1" strike="noStrike">
                <a:solidFill>
                  <a:srgbClr val="ffffe7"/>
                </a:solidFill>
                <a:latin typeface="Verdana"/>
              </a:rPr>
              <a:t> Великие географические открытия  и великие мореплавател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ace9f"/>
                </a:solidFill>
                <a:latin typeface="Verdana"/>
              </a:rPr>
              <a:t>4.</a:t>
            </a:r>
            <a:r>
              <a:rPr b="0" lang="ru-RU" sz="2000" spc="-1" strike="noStrike">
                <a:solidFill>
                  <a:srgbClr val="ffffe7"/>
                </a:solidFill>
                <a:latin typeface="Verdana"/>
              </a:rPr>
              <a:t> Завоевание испанцев и португальце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ace9f"/>
                </a:solidFill>
                <a:latin typeface="Verdana"/>
              </a:rPr>
              <a:t>5.</a:t>
            </a:r>
            <a:r>
              <a:rPr b="0" lang="ru-RU" sz="2000" spc="-1" strike="noStrike">
                <a:solidFill>
                  <a:srgbClr val="ffffe7"/>
                </a:solidFill>
                <a:latin typeface="Verdana"/>
              </a:rPr>
              <a:t> Последствия Великих географических открыти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ace9f"/>
                </a:solidFill>
                <a:latin typeface="Arial"/>
              </a:rPr>
              <a:t>Технические открыт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дяной двигатель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оменная печь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звитие и усовершенствование огнестрельного оружи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совершенствование кораблестроени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зобретения книгопечатани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никновение крупных предприятий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спользование двигателя в горном дел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величение выплавки метал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ереворот в военном деле, падение роли рыцарской конницы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лительные плавания в морях и океанах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ыстрое распространение накопленных знаний. Развитие просвещени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рфи, типографи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ace9f"/>
                </a:solidFill>
                <a:latin typeface="Arial"/>
              </a:rPr>
              <a:t>Причины ВГО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95280" y="69228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Organization Chart 5"/>
          <p:cNvGrpSpPr/>
          <p:nvPr/>
        </p:nvGrpSpPr>
        <p:grpSpPr>
          <a:xfrm>
            <a:off x="468360" y="1773360"/>
            <a:ext cx="8256960" cy="4031280"/>
            <a:chOff x="468360" y="1773360"/>
            <a:chExt cx="8256960" cy="4031280"/>
          </a:xfrm>
        </p:grpSpPr>
        <p:cxnSp>
          <p:nvCxnSpPr>
            <p:cNvPr id="167" name="_s1028"/>
            <p:cNvCxnSpPr>
              <a:stCxn id="168" idx="0"/>
              <a:endCxn id="169" idx="2"/>
            </p:cNvCxnSpPr>
            <p:nvPr/>
          </p:nvCxnSpPr>
          <p:spPr>
            <a:xfrm flipV="1">
              <a:off x="2364120" y="4309560"/>
              <a:ext cx="5400" cy="487080"/>
            </a:xfrm>
            <a:prstGeom prst="bentConnector2">
              <a:avLst/>
            </a:prstGeom>
            <a:ln w="28440">
              <a:solidFill>
                <a:srgbClr val="005856"/>
              </a:solidFill>
              <a:miter/>
            </a:ln>
          </p:spPr>
        </p:cxnSp>
        <p:cxnSp>
          <p:nvCxnSpPr>
            <p:cNvPr id="170" name="_s1029"/>
            <p:cNvCxnSpPr>
              <a:stCxn id="171" idx="0"/>
              <a:endCxn id="172" idx="2"/>
            </p:cNvCxnSpPr>
            <p:nvPr/>
          </p:nvCxnSpPr>
          <p:spPr>
            <a:xfrm flipH="1" flipV="1" rot="5400000">
              <a:off x="6557040" y="4524480"/>
              <a:ext cx="504360" cy="40320"/>
            </a:xfrm>
            <a:prstGeom prst="bentConnector3">
              <a:avLst>
                <a:gd name="adj1" fmla="val 22642"/>
              </a:avLst>
            </a:prstGeom>
            <a:ln w="28440">
              <a:solidFill>
                <a:srgbClr val="005856"/>
              </a:solidFill>
              <a:miter/>
            </a:ln>
          </p:spPr>
        </p:cxnSp>
        <p:cxnSp>
          <p:nvCxnSpPr>
            <p:cNvPr id="173" name="_s1030"/>
            <p:cNvCxnSpPr>
              <a:stCxn id="172" idx="0"/>
              <a:endCxn id="174" idx="2"/>
            </p:cNvCxnSpPr>
            <p:nvPr/>
          </p:nvCxnSpPr>
          <p:spPr>
            <a:xfrm flipV="1" rot="16200000">
              <a:off x="5450760" y="1906200"/>
              <a:ext cx="504360" cy="2252160"/>
            </a:xfrm>
            <a:prstGeom prst="bentConnector3">
              <a:avLst>
                <a:gd name="adj1" fmla="val 22642"/>
              </a:avLst>
            </a:prstGeom>
            <a:ln w="28440">
              <a:solidFill>
                <a:srgbClr val="005856"/>
              </a:solidFill>
              <a:miter/>
            </a:ln>
          </p:spPr>
        </p:cxnSp>
        <p:cxnSp>
          <p:nvCxnSpPr>
            <p:cNvPr id="175" name="_s1031"/>
            <p:cNvCxnSpPr>
              <a:stCxn id="169" idx="0"/>
              <a:endCxn id="174" idx="2"/>
            </p:cNvCxnSpPr>
            <p:nvPr/>
          </p:nvCxnSpPr>
          <p:spPr>
            <a:xfrm flipH="1" flipV="1" rot="5400000">
              <a:off x="3209760" y="1934640"/>
              <a:ext cx="522000" cy="2213640"/>
            </a:xfrm>
            <a:prstGeom prst="bentConnector3">
              <a:avLst>
                <a:gd name="adj1" fmla="val 21118"/>
              </a:avLst>
            </a:prstGeom>
            <a:ln w="28440">
              <a:solidFill>
                <a:srgbClr val="005856"/>
              </a:solidFill>
              <a:miter/>
            </a:ln>
          </p:spPr>
        </p:cxnSp>
        <p:sp>
          <p:nvSpPr>
            <p:cNvPr id="174" name="_s1032"/>
            <p:cNvSpPr/>
            <p:nvPr/>
          </p:nvSpPr>
          <p:spPr>
            <a:xfrm>
              <a:off x="2681280" y="1773360"/>
              <a:ext cx="3792600" cy="10076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1ace9f"/>
              </a:solidFill>
              <a:miter/>
            </a:ln>
            <a:effectLst>
              <a:outerShdw dist="63504" dir="19383909" blurRad="0" rotWithShape="0">
                <a:srgbClr val="1ace9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РОСТ ПРОИЗВОДСТВА ТОВАРО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РАСШИРЕНИЕ ТОРГОВЛИ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_s1033"/>
            <p:cNvSpPr/>
            <p:nvPr/>
          </p:nvSpPr>
          <p:spPr>
            <a:xfrm>
              <a:off x="468360" y="3302640"/>
              <a:ext cx="3792600" cy="1007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48cce"/>
              </a:solidFill>
              <a:miter/>
            </a:ln>
            <a:effectLst>
              <a:outerShdw dist="63504" dir="19383909" blurRad="0" rotWithShape="0">
                <a:srgbClr val="948c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РОСТ ПОТРЕБНОСТЕЙ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ЕВРОПЕЙЦЕВ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В ЗОЛОТЕ И СЕРЕБРЕ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_s1034"/>
            <p:cNvSpPr/>
            <p:nvPr/>
          </p:nvSpPr>
          <p:spPr>
            <a:xfrm>
              <a:off x="4932720" y="3285000"/>
              <a:ext cx="3792600" cy="1007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48cce"/>
              </a:solidFill>
              <a:miter/>
            </a:ln>
            <a:effectLst>
              <a:outerShdw dist="63504" dir="19383909" blurRad="0" rotWithShape="0">
                <a:srgbClr val="948c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НЕВЫГОДНОСТЬ ТОРГОВЛ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О СТРАНАМИ ВОСТО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ПОСЛЕ ЗАВОЕВА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ТУРОК- ОСМАНО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_s1035"/>
            <p:cNvSpPr/>
            <p:nvPr/>
          </p:nvSpPr>
          <p:spPr>
            <a:xfrm>
              <a:off x="4893120" y="4797000"/>
              <a:ext cx="3792600" cy="10076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ПОИСКИ НОВЫ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МОРСКИХ ПУТЕ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В СТРАНАХ ВОСТО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1036"/>
            <p:cNvSpPr/>
            <p:nvPr/>
          </p:nvSpPr>
          <p:spPr>
            <a:xfrm>
              <a:off x="468360" y="4797000"/>
              <a:ext cx="3792600" cy="10076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« ЖАЖДА ЗОЛОТА»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И ПОИСКИ ЕГ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ЕВРОПЕЙСКИМИ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МОРЕПЛАВАТЕЛЯМ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ace9f"/>
                </a:solidFill>
                <a:latin typeface="Arial"/>
              </a:rPr>
              <a:t>Великие мореплавател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4360" y="1628640"/>
          <a:ext cx="7859520" cy="4284720"/>
        </p:xfrm>
        <a:graphic>
          <a:graphicData uri="http://schemas.openxmlformats.org/drawingml/2006/table">
            <a:tbl>
              <a:tblPr/>
              <a:tblGrid>
                <a:gridCol w="1863720"/>
                <a:gridCol w="2867040"/>
                <a:gridCol w="3128760"/>
              </a:tblGrid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ace9f"/>
                          </a:solidFill>
                          <a:latin typeface="Times New Roman"/>
                        </a:rPr>
                        <a:t>1466-14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фанасий Никит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бывал в Инд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ace9f"/>
                          </a:solidFill>
                          <a:latin typeface="Times New Roman"/>
                        </a:rPr>
                        <a:t>14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артоломеу Диаш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огнул Южную оконечность Афр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ace9f"/>
                          </a:solidFill>
                          <a:latin typeface="Times New Roman"/>
                        </a:rPr>
                        <a:t>1487-14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артоломеу Диа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крытие морского пути в Индийский оке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ace9f"/>
                          </a:solidFill>
                          <a:latin typeface="Times New Roman"/>
                        </a:rPr>
                        <a:t>1497-14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ска да Га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крытие морского пути в Индию (Каликут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ace9f"/>
                          </a:solidFill>
                          <a:latin typeface="Times New Roman"/>
                        </a:rPr>
                        <a:t>14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ристофор Колум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крытие Америк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ace9f"/>
                          </a:solidFill>
                          <a:latin typeface="Times New Roman"/>
                        </a:rPr>
                        <a:t>1519-15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рнандо Магелл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вое кругосветное путешеств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ace9f"/>
                </a:solidFill>
                <a:latin typeface="Arial"/>
              </a:rPr>
              <a:t>Бартоломеу Диаш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личайший из португальских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реходов, которые бороздили воды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тлантики в XV веке. В 1488 в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исках морского пути в Индию он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рвым из европейцев обогнул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фрику с юга, открыл мыс Добро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дежды и вышел в Индийский океан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76360" y="1600200"/>
            <a:ext cx="309564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6" descr="диаш фото"/>
          <p:cNvPicPr/>
          <p:nvPr/>
        </p:nvPicPr>
        <p:blipFill>
          <a:blip r:embed="rId1"/>
          <a:stretch/>
        </p:blipFill>
        <p:spPr>
          <a:xfrm>
            <a:off x="5076720" y="1628640"/>
            <a:ext cx="31273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ace9f"/>
                </a:solidFill>
                <a:latin typeface="Arial"/>
              </a:rPr>
              <a:t>Васко да Гам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9528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ртугальский исследователь, известен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ак первый европеец, совершивший морско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утешествие в Индию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ско да Гама родился в 1469 году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уществует версия, согласно которой король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ануэл I первоначально поручил экспедицию в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ндию отцу Васко да Гама, но в связи с его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мертью в июле 1497 Васко да Гама принял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омандование экспедицией на себя и отправился в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уть из Лиссабона 8 июля 1497 года, обошёл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фрику с юга, обогнув мыс Доброй Надежды, и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остиг юго-западного берега Индии 20 мая 1498 г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258156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ace9f"/>
                </a:solidFill>
                <a:latin typeface="Arial"/>
              </a:rPr>
              <a:t>Христофор Колумб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9 октября 1451 на острове Корсика,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огдашнем владении Генуи, Италия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(по одной из версий) — 20 мая 1506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льядолид, Испания) — испанский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ореплаватель и открыватель новых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емель, всемирно известен своим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ткрытием Америки (1492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ервое путешествие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(3 августа 1492 — 15 марта 1493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торое путешестви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(25 сентября 1493 — 11 июня 1496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ретье путешествие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(30 мая 1498 — 25 ноября 1500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Четвёртое путешествие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(9 мая 1502 — ноябрь 1504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63640" y="1844640"/>
            <a:ext cx="2808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Picture 13" descr=""/>
          <p:cNvPicPr/>
          <p:nvPr/>
        </p:nvPicPr>
        <p:blipFill>
          <a:blip r:embed="rId1"/>
          <a:stretch/>
        </p:blipFill>
        <p:spPr>
          <a:xfrm>
            <a:off x="5342040" y="1844640"/>
            <a:ext cx="28479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ace9f"/>
                </a:solidFill>
                <a:latin typeface="Arial"/>
              </a:rPr>
              <a:t>Фернан Магеллан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735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ртугальский и испанский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ореплаватель. Принято считать, что он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вершил первое кругосветное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утешестви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агеллановы облак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агелланов пролив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дводная возвышенность Магеллана в Тихом океане, возле Маршалловых островов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агеллан (космический аппарат) 1990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18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2782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31T22:43:47Z</dcterms:created>
  <dc:creator>Боева С.В.</dc:creator>
  <dc:description/>
  <dc:language>en-US</dc:language>
  <cp:lastModifiedBy>Admin</cp:lastModifiedBy>
  <dcterms:modified xsi:type="dcterms:W3CDTF">2012-03-01T06:50:07Z</dcterms:modified>
  <cp:revision>19</cp:revision>
  <dc:subject/>
  <dc:title>Великие географические открытия</dc:title>
</cp:coreProperties>
</file>