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6.png" ContentType="image/png"/>
  <Override PartName="/ppt/media/image40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49.jpeg" ContentType="image/jpeg"/>
  <Override PartName="/ppt/media/image48.jpeg" ContentType="image/jpeg"/>
  <Override PartName="/ppt/media/image6.jpeg" ContentType="image/jpeg"/>
  <Override PartName="/ppt/media/image60.png" ContentType="image/png"/>
  <Override PartName="/ppt/media/image63.jpeg" ContentType="image/jpeg"/>
  <Override PartName="/ppt/media/image50.jpeg" ContentType="image/jpeg"/>
  <Override PartName="/ppt/media/image52.png" ContentType="image/png"/>
  <Override PartName="/ppt/media/image62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5.jpeg" ContentType="image/jpeg"/>
  <Override PartName="/ppt/media/image61.png" ContentType="image/png"/>
  <Override PartName="/ppt/media/image1.png" ContentType="image/png"/>
  <Override PartName="/ppt/media/image54.png" ContentType="image/png"/>
  <Override PartName="/ppt/media/image14.jpeg" ContentType="image/jpeg"/>
  <Override PartName="/ppt/media/image41.jpeg" ContentType="image/jpeg"/>
  <Override PartName="/ppt/media/image66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67.png" ContentType="image/png"/>
  <Override PartName="/ppt/media/image3.jpeg" ContentType="image/jpeg"/>
  <Override PartName="/ppt/media/image65.png" ContentType="image/png"/>
  <Override PartName="/ppt/media/image21.png" ContentType="image/png"/>
  <Override PartName="/ppt/media/image46.jpeg" ContentType="image/jpeg"/>
  <Override PartName="/ppt/media/image58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4.jpeg" ContentType="image/jpeg"/>
  <Override PartName="/ppt/media/image19.jpeg" ContentType="image/jpeg"/>
  <Override PartName="/ppt/media/image17.jpeg" ContentType="image/jpeg"/>
  <Override PartName="/ppt/media/image11.jpeg" ContentType="image/jpeg"/>
  <Override PartName="/ppt/media/image28.jpeg" ContentType="image/jpeg"/>
  <Override PartName="/ppt/media/image37.jpeg" ContentType="image/jpeg"/>
  <Override PartName="/ppt/media/image20.png" ContentType="image/png"/>
  <Override PartName="/ppt/media/image57.png" ContentType="image/png"/>
  <Override PartName="/ppt/media/image7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png" ContentType="image/png"/>
  <Override PartName="/ppt/media/image43.jpeg" ContentType="image/jpeg"/>
  <Override PartName="/ppt/media/image9.jpeg" ContentType="image/jpeg"/>
  <Override PartName="/ppt/media/image36.png" ContentType="image/png"/>
  <Override PartName="/ppt/media/image39.png" ContentType="image/png"/>
  <Override PartName="/ppt/media/image38.png" ContentType="image/png"/>
  <Override PartName="/ppt/media/image44.jpeg" ContentType="image/jpeg"/>
  <Override PartName="/ppt/media/image45.jpeg" ContentType="image/jpeg"/>
  <Override PartName="/ppt/media/image55.png" ContentType="image/png"/>
  <Override PartName="/ppt/media/image68.png" ContentType="image/png"/>
  <Override PartName="/ppt/media/image4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AC17-644D-4769-80B0-7F28ADCE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9F79-B143-4E39-84A4-3A8FDD14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A90-B6B5-4CBB-B44C-DFF595D5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1A66-479E-433F-96DF-1CD25634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2B8-1272-4F80-A2BE-0802D81C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6F12-F1CC-47C6-9138-2D8EFD05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B0F9-5D44-421E-82A6-C4AA9C5A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AAAD-D6F2-401C-A9CA-3C59C659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26D4-4176-43CE-92B8-76166931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BCA-F8E1-4860-B06A-6DCB524D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B6E6-C0D5-40AD-B336-274F7FAD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1668-D450-4F2C-A429-46647B6C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B1CA-D87E-4718-BCAC-B9A08251A2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image" Target="../media/image49.jpeg"/><Relationship Id="rId14" Type="http://schemas.openxmlformats.org/officeDocument/2006/relationships/image" Target="../media/image50.jpeg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58.png"/><Relationship Id="rId4" Type="http://schemas.openxmlformats.org/officeDocument/2006/relationships/image" Target="../media/image59.jpe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jpeg"/><Relationship Id="rId8" Type="http://schemas.openxmlformats.org/officeDocument/2006/relationships/image" Target="../media/image63.jpe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08120" cy="2708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132000" y="2924280"/>
            <a:ext cx="28450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II ча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6877080" y="189000"/>
            <a:ext cx="1295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cc009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Япо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908000" y="189000"/>
            <a:ext cx="1295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cc009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Росс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225" name="i-main-pic" descr="Картинка 6 из 64000"/>
          <p:cNvPicPr/>
          <p:nvPr/>
        </p:nvPicPr>
        <p:blipFill>
          <a:blip r:embed="rId3"/>
          <a:stretch/>
        </p:blipFill>
        <p:spPr>
          <a:xfrm>
            <a:off x="179280" y="4076640"/>
            <a:ext cx="2055960" cy="2521080"/>
          </a:xfrm>
          <a:prstGeom prst="rect">
            <a:avLst/>
          </a:prstGeom>
          <a:ln w="0">
            <a:noFill/>
          </a:ln>
        </p:spPr>
      </p:pic>
      <p:pic>
        <p:nvPicPr>
          <p:cNvPr id="226" name="i-main-pic" descr="Картинка 18 из 64000"/>
          <p:cNvPicPr/>
          <p:nvPr/>
        </p:nvPicPr>
        <p:blipFill>
          <a:blip r:embed="rId4"/>
          <a:stretch/>
        </p:blipFill>
        <p:spPr>
          <a:xfrm>
            <a:off x="2556000" y="4724280"/>
            <a:ext cx="2447640" cy="19576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6516720" y="2997360"/>
            <a:ext cx="2376360" cy="1693800"/>
          </a:xfrm>
          <a:prstGeom prst="rect">
            <a:avLst/>
          </a:prstGeom>
          <a:ln w="0">
            <a:noFill/>
          </a:ln>
        </p:spPr>
      </p:pic>
      <p:pic>
        <p:nvPicPr>
          <p:cNvPr id="228" name="ber" descr="Картинка 11 из 64000"/>
          <p:cNvPicPr/>
          <p:nvPr/>
        </p:nvPicPr>
        <p:blipFill>
          <a:blip r:embed="rId6"/>
          <a:stretch/>
        </p:blipFill>
        <p:spPr>
          <a:xfrm>
            <a:off x="324000" y="1197000"/>
            <a:ext cx="1457280" cy="1944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-38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1275769106_103708_1" descr="Картинка 138 из 64000"/>
          <p:cNvPicPr/>
          <p:nvPr/>
        </p:nvPicPr>
        <p:blipFill>
          <a:blip r:embed="rId7"/>
          <a:stretch/>
        </p:blipFill>
        <p:spPr>
          <a:xfrm>
            <a:off x="0" y="22221720"/>
            <a:ext cx="5076720" cy="3800520"/>
          </a:xfrm>
          <a:prstGeom prst="rect">
            <a:avLst/>
          </a:prstGeom>
          <a:ln w="0">
            <a:noFill/>
          </a:ln>
        </p:spPr>
      </p:pic>
      <p:pic>
        <p:nvPicPr>
          <p:cNvPr id="232" name="1275769106_103708_1" descr="Картинка 138 из 64000"/>
          <p:cNvPicPr/>
          <p:nvPr/>
        </p:nvPicPr>
        <p:blipFill>
          <a:blip r:embed="rId8"/>
          <a:stretch/>
        </p:blipFill>
        <p:spPr>
          <a:xfrm>
            <a:off x="6588000" y="981000"/>
            <a:ext cx="2305080" cy="1725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219640" y="4581360"/>
            <a:ext cx="26640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2268360" y="836640"/>
            <a:ext cx="1873080" cy="2087640"/>
            <a:chOff x="2268360" y="836640"/>
            <a:chExt cx="1873080" cy="2087640"/>
          </a:xfrm>
        </p:grpSpPr>
        <p:pic>
          <p:nvPicPr>
            <p:cNvPr id="235" name="i-main-pic" descr="Картинка 24 из 64000"/>
            <p:cNvPicPr/>
            <p:nvPr/>
          </p:nvPicPr>
          <p:blipFill>
            <a:blip r:embed="rId10"/>
            <a:stretch/>
          </p:blipFill>
          <p:spPr>
            <a:xfrm>
              <a:off x="2268360" y="836640"/>
              <a:ext cx="1852920" cy="20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Содержимое 9" descr="красавица в кокошнике.jpg"/>
            <p:cNvPicPr/>
            <p:nvPr/>
          </p:nvPicPr>
          <p:blipFill>
            <a:blip r:embed="rId11"/>
            <a:stretch/>
          </p:blipFill>
          <p:spPr>
            <a:xfrm>
              <a:off x="3517560" y="2052000"/>
              <a:ext cx="623880" cy="87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7" name="Picture 7" descr="G:\Фото\Мама\Круиз\P7150064.JPG"/>
          <p:cNvPicPr/>
          <p:nvPr/>
        </p:nvPicPr>
        <p:blipFill>
          <a:blip r:embed="rId12"/>
          <a:stretch/>
        </p:blipFill>
        <p:spPr>
          <a:xfrm>
            <a:off x="1042920" y="2781360"/>
            <a:ext cx="2449440" cy="1836720"/>
          </a:xfrm>
          <a:prstGeom prst="rect">
            <a:avLst/>
          </a:prstGeom>
          <a:ln w="0">
            <a:noFill/>
          </a:ln>
        </p:spPr>
      </p:pic>
      <p:pic>
        <p:nvPicPr>
          <p:cNvPr id="238" name="i-main-pic" descr="Картинка 84 из 64000"/>
          <p:cNvPicPr/>
          <p:nvPr/>
        </p:nvPicPr>
        <p:blipFill>
          <a:blip r:embed="rId13"/>
          <a:stretch/>
        </p:blipFill>
        <p:spPr>
          <a:xfrm>
            <a:off x="4356000" y="2492280"/>
            <a:ext cx="2521080" cy="1575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4"/>
          <a:stretch/>
        </p:blipFill>
        <p:spPr>
          <a:xfrm>
            <a:off x="4356000" y="692280"/>
            <a:ext cx="215928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6659640" y="333360"/>
            <a:ext cx="1295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cc009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Япо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68360" y="333360"/>
            <a:ext cx="1295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cc009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Росс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4643280" y="1844640"/>
            <a:ext cx="2449800" cy="2952720"/>
            <a:chOff x="4643280" y="1844640"/>
            <a:chExt cx="2449800" cy="2952720"/>
          </a:xfrm>
        </p:grpSpPr>
        <p:pic>
          <p:nvPicPr>
            <p:cNvPr id="245" name="" descr="Так выглядит ранняя керамика Японии"/>
            <p:cNvPicPr/>
            <p:nvPr/>
          </p:nvPicPr>
          <p:blipFill>
            <a:blip r:embed="rId3"/>
            <a:stretch/>
          </p:blipFill>
          <p:spPr>
            <a:xfrm>
              <a:off x="5076720" y="1844640"/>
              <a:ext cx="18622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4643280" y="4221000"/>
              <a:ext cx="2449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Древнейшая керам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орнамент из шнура, тонких жгутиков)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442920" y="3429000"/>
            <a:ext cx="2617560" cy="2886480"/>
            <a:chOff x="6442920" y="3429000"/>
            <a:chExt cx="2617560" cy="2886480"/>
          </a:xfrm>
        </p:grpSpPr>
        <p:pic>
          <p:nvPicPr>
            <p:cNvPr id="248" name="" descr="Дзёмон"/>
            <p:cNvPicPr/>
            <p:nvPr/>
          </p:nvPicPr>
          <p:blipFill>
            <a:blip r:embed="rId4"/>
            <a:stretch/>
          </p:blipFill>
          <p:spPr>
            <a:xfrm>
              <a:off x="7093080" y="3429000"/>
              <a:ext cx="1631880" cy="24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6442920" y="5734080"/>
              <a:ext cx="26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Эпоха Дзёмон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(с яп. «Дзё»- «верёвка, шнур»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900000" y="4581360"/>
            <a:ext cx="3969360" cy="2138040"/>
            <a:chOff x="900000" y="4581360"/>
            <a:chExt cx="3969360" cy="2138040"/>
          </a:xfrm>
        </p:grpSpPr>
        <p:pic>
          <p:nvPicPr>
            <p:cNvPr id="251" name="i-main-pic" descr="Картинка 89 из 208"/>
            <p:cNvPicPr/>
            <p:nvPr/>
          </p:nvPicPr>
          <p:blipFill>
            <a:blip r:embed="rId5"/>
            <a:stretch/>
          </p:blipFill>
          <p:spPr>
            <a:xfrm>
              <a:off x="900000" y="4581360"/>
              <a:ext cx="3816360" cy="15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957960" y="6138720"/>
              <a:ext cx="391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осуды со шнуровым орнаменто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позднее средневековье Южного Урала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24000" y="1557360"/>
            <a:ext cx="1871640" cy="2879640"/>
            <a:chOff x="324000" y="1557360"/>
            <a:chExt cx="1871640" cy="2879640"/>
          </a:xfrm>
        </p:grpSpPr>
        <p:pic>
          <p:nvPicPr>
            <p:cNvPr id="254" name="362-1" descr=""/>
            <p:cNvPicPr/>
            <p:nvPr/>
          </p:nvPicPr>
          <p:blipFill>
            <a:blip r:embed="rId6">
              <a:lum bright="-12000"/>
            </a:blip>
            <a:srcRect l="68798" t="0" r="3130" b="28078"/>
            <a:stretch/>
          </p:blipFill>
          <p:spPr>
            <a:xfrm>
              <a:off x="684360" y="1557360"/>
              <a:ext cx="136656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324000" y="4076640"/>
              <a:ext cx="1871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Манякский сосу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979640" y="1197000"/>
            <a:ext cx="936720" cy="3456000"/>
            <a:chOff x="1979640" y="1197000"/>
            <a:chExt cx="936720" cy="3456000"/>
          </a:xfrm>
        </p:grpSpPr>
        <p:sp>
          <p:nvSpPr>
            <p:cNvPr id="257" name=""/>
            <p:cNvSpPr/>
            <p:nvPr/>
          </p:nvSpPr>
          <p:spPr>
            <a:xfrm flipH="1">
              <a:off x="1979640" y="1197000"/>
              <a:ext cx="720720" cy="1008000"/>
            </a:xfrm>
            <a:prstGeom prst="line">
              <a:avLst/>
            </a:prstGeom>
            <a:ln cap="rnd" w="38160">
              <a:solidFill>
                <a:srgbClr val="cc00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00360" y="1197000"/>
              <a:ext cx="216000" cy="3456000"/>
            </a:xfrm>
            <a:prstGeom prst="line">
              <a:avLst/>
            </a:prstGeom>
            <a:ln cap="rnd" w="38160">
              <a:solidFill>
                <a:srgbClr val="cc00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372000" y="1125360"/>
            <a:ext cx="1368720" cy="2232360"/>
            <a:chOff x="6372000" y="1125360"/>
            <a:chExt cx="1368720" cy="2232360"/>
          </a:xfrm>
        </p:grpSpPr>
        <p:sp>
          <p:nvSpPr>
            <p:cNvPr id="260" name=""/>
            <p:cNvSpPr/>
            <p:nvPr/>
          </p:nvSpPr>
          <p:spPr>
            <a:xfrm flipH="1">
              <a:off x="6372000" y="1125360"/>
              <a:ext cx="863640" cy="1224000"/>
            </a:xfrm>
            <a:prstGeom prst="line">
              <a:avLst/>
            </a:prstGeom>
            <a:ln cap="rnd" w="38160">
              <a:solidFill>
                <a:srgbClr val="cc00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08720" y="1125360"/>
              <a:ext cx="432000" cy="2232360"/>
            </a:xfrm>
            <a:prstGeom prst="line">
              <a:avLst/>
            </a:prstGeom>
            <a:ln cap="rnd" w="38160">
              <a:solidFill>
                <a:srgbClr val="cc00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492360" y="494172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Декоративные вазы из тонкой глазурованной керамики, украшенные картинами славянского л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rcRect l="26512" t="0" r="24414" b="0"/>
          <a:stretch/>
        </p:blipFill>
        <p:spPr>
          <a:xfrm>
            <a:off x="324000" y="1773360"/>
            <a:ext cx="1307880" cy="2663640"/>
          </a:xfrm>
          <a:prstGeom prst="rect">
            <a:avLst/>
          </a:prstGeom>
          <a:ln w="0">
            <a:noFill/>
          </a:ln>
        </p:spPr>
      </p:pic>
      <p:pic>
        <p:nvPicPr>
          <p:cNvPr id="266" name="583671_w200_h200_img2100medium" descr=""/>
          <p:cNvPicPr/>
          <p:nvPr/>
        </p:nvPicPr>
        <p:blipFill>
          <a:blip r:embed="rId4"/>
          <a:srcRect l="26512" t="0" r="28175" b="0"/>
          <a:stretch/>
        </p:blipFill>
        <p:spPr>
          <a:xfrm>
            <a:off x="3419640" y="1844640"/>
            <a:ext cx="1287360" cy="2841840"/>
          </a:xfrm>
          <a:prstGeom prst="rect">
            <a:avLst/>
          </a:prstGeom>
          <a:ln w="0">
            <a:noFill/>
          </a:ln>
        </p:spPr>
      </p:pic>
      <p:pic>
        <p:nvPicPr>
          <p:cNvPr id="267" name="583658_w200_h200_img2097medium" descr=""/>
          <p:cNvPicPr/>
          <p:nvPr/>
        </p:nvPicPr>
        <p:blipFill>
          <a:blip r:embed="rId5"/>
          <a:srcRect l="26512" t="0" r="28175" b="0"/>
          <a:stretch/>
        </p:blipFill>
        <p:spPr>
          <a:xfrm>
            <a:off x="1835280" y="3357720"/>
            <a:ext cx="1336680" cy="2952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rcRect l="26417" t="0" r="28250" b="0"/>
          <a:stretch/>
        </p:blipFill>
        <p:spPr>
          <a:xfrm>
            <a:off x="5364000" y="1989000"/>
            <a:ext cx="1338480" cy="2951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>
            <a:lum contrast="6000"/>
          </a:blip>
          <a:srcRect l="26512" t="0" r="24414" b="0"/>
          <a:stretch/>
        </p:blipFill>
        <p:spPr>
          <a:xfrm>
            <a:off x="7451640" y="1341360"/>
            <a:ext cx="1271520" cy="2592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1692360" y="476280"/>
            <a:ext cx="669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cc009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Японские керамические ваз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cc009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cc009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«Славянская пуща»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1692360" y="189000"/>
            <a:ext cx="6480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Прототип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403280" y="981000"/>
            <a:ext cx="266400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нтиквар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японские ваз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012000" y="981000"/>
            <a:ext cx="266364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азы в техник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"Ассамбляж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24000" y="1700280"/>
            <a:ext cx="4093920" cy="4902120"/>
            <a:chOff x="324000" y="1700280"/>
            <a:chExt cx="4093920" cy="4902120"/>
          </a:xfrm>
        </p:grpSpPr>
        <p:pic>
          <p:nvPicPr>
            <p:cNvPr id="277" name="" descr="японская антикварная фарфоровая ваза Имари"/>
            <p:cNvPicPr/>
            <p:nvPr/>
          </p:nvPicPr>
          <p:blipFill>
            <a:blip r:embed="rId3"/>
            <a:stretch/>
          </p:blipFill>
          <p:spPr>
            <a:xfrm>
              <a:off x="2843280" y="3284640"/>
              <a:ext cx="157464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японская антикварная ваза Сацума. Интернет-магазин Японика"/>
            <p:cNvPicPr/>
            <p:nvPr/>
          </p:nvPicPr>
          <p:blipFill>
            <a:blip r:embed="rId4"/>
            <a:stretch/>
          </p:blipFill>
          <p:spPr>
            <a:xfrm>
              <a:off x="324000" y="1700280"/>
              <a:ext cx="1911240" cy="24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ваза"/>
            <p:cNvPicPr/>
            <p:nvPr/>
          </p:nvPicPr>
          <p:blipFill>
            <a:blip r:embed="rId5"/>
            <a:stretch/>
          </p:blipFill>
          <p:spPr>
            <a:xfrm>
              <a:off x="1042920" y="4076640"/>
              <a:ext cx="2021040" cy="25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 flipH="1">
              <a:off x="1979280" y="1773360"/>
              <a:ext cx="863640" cy="3603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411280" y="1773360"/>
              <a:ext cx="432000" cy="20872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43280" y="1773360"/>
              <a:ext cx="720720" cy="15112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572000" y="1700280"/>
            <a:ext cx="4427640" cy="4897440"/>
            <a:chOff x="4572000" y="1700280"/>
            <a:chExt cx="4427640" cy="4897440"/>
          </a:xfrm>
        </p:grpSpPr>
        <p:pic>
          <p:nvPicPr>
            <p:cNvPr id="284" name="" descr="Декор предметов,  Ассамбляж, : Бутылочка до... после... Бусинки, Бутылки, Краска, Крупа, Скорлупа яичная, Соль "/>
            <p:cNvPicPr/>
            <p:nvPr/>
          </p:nvPicPr>
          <p:blipFill>
            <a:blip r:embed="rId6"/>
            <a:srcRect l="50642" t="0" r="5978" b="0"/>
            <a:stretch/>
          </p:blipFill>
          <p:spPr>
            <a:xfrm>
              <a:off x="6084720" y="2924280"/>
              <a:ext cx="1177920" cy="3313080"/>
            </a:xfrm>
            <a:prstGeom prst="rect">
              <a:avLst/>
            </a:prstGeom>
            <a:ln w="19080">
              <a:solidFill>
                <a:srgbClr val="ff99ff"/>
              </a:solidFill>
              <a:miter/>
            </a:ln>
          </p:spPr>
        </p:pic>
        <p:pic>
          <p:nvPicPr>
            <p:cNvPr id="285" name="" descr="Декор предметов, Мастер-класс,  Аппликация, : КРАСАВИЦА МК Бутылки, Краска, Крупа . Фото 1"/>
            <p:cNvPicPr/>
            <p:nvPr/>
          </p:nvPicPr>
          <p:blipFill>
            <a:blip r:embed="rId7">
              <a:lum contrast="24000"/>
            </a:blip>
            <a:stretch/>
          </p:blipFill>
          <p:spPr>
            <a:xfrm>
              <a:off x="7451640" y="3933720"/>
              <a:ext cx="1548000" cy="2664000"/>
            </a:xfrm>
            <a:prstGeom prst="rect">
              <a:avLst/>
            </a:prstGeom>
            <a:ln w="19080">
              <a:solidFill>
                <a:srgbClr val="ff99ff"/>
              </a:solidFill>
              <a:miter/>
            </a:ln>
          </p:spPr>
        </p:pic>
        <p:pic>
          <p:nvPicPr>
            <p:cNvPr id="286" name="" descr="Декор предметов,  Роспись, : Подарочная бутылочка Бутылки, Ленты День рождения, "/>
            <p:cNvPicPr/>
            <p:nvPr/>
          </p:nvPicPr>
          <p:blipFill>
            <a:blip r:embed="rId8"/>
            <a:stretch/>
          </p:blipFill>
          <p:spPr>
            <a:xfrm>
              <a:off x="4572000" y="1844640"/>
              <a:ext cx="1405080" cy="3314880"/>
            </a:xfrm>
            <a:prstGeom prst="rect">
              <a:avLst/>
            </a:prstGeom>
            <a:ln w="19080">
              <a:solidFill>
                <a:srgbClr val="ff99ff"/>
              </a:solidFill>
              <a:miter/>
            </a:ln>
          </p:spPr>
        </p:pic>
        <p:sp>
          <p:nvSpPr>
            <p:cNvPr id="287" name=""/>
            <p:cNvSpPr/>
            <p:nvPr/>
          </p:nvSpPr>
          <p:spPr>
            <a:xfrm flipH="1">
              <a:off x="6156360" y="1700280"/>
              <a:ext cx="1440000" cy="5763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6948360" y="1700280"/>
              <a:ext cx="648000" cy="11523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96360" y="1700280"/>
              <a:ext cx="647640" cy="20160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2916360" y="333360"/>
            <a:ext cx="302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Times New Roman"/>
              </a:rPr>
              <a:t>Банк ид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Times New Roman"/>
              <a:ea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55680" y="1557360"/>
            <a:ext cx="1657440" cy="3357720"/>
            <a:chOff x="355680" y="1557360"/>
            <a:chExt cx="1657440" cy="335772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355680" y="1557360"/>
              <a:ext cx="165744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 txBox="1"/>
            <p:nvPr/>
          </p:nvSpPr>
          <p:spPr>
            <a:xfrm>
              <a:off x="900000" y="4508640"/>
              <a:ext cx="559080" cy="40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66"/>
                  </a:solidFill>
                  <a:latin typeface="Times New Roman"/>
                </a:rPr>
                <a:t>№</a:t>
              </a: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66"/>
                  </a:solidFill>
                  <a:latin typeface="Times New Roman"/>
                </a:rPr>
                <a:t>1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050920" y="2781360"/>
            <a:ext cx="1598760" cy="3646440"/>
            <a:chOff x="2050920" y="2781360"/>
            <a:chExt cx="1598760" cy="3646440"/>
          </a:xfrm>
        </p:grpSpPr>
        <p:pic>
          <p:nvPicPr>
            <p:cNvPr id="297" name="" descr=""/>
            <p:cNvPicPr/>
            <p:nvPr/>
          </p:nvPicPr>
          <p:blipFill>
            <a:blip r:embed="rId4"/>
            <a:stretch/>
          </p:blipFill>
          <p:spPr>
            <a:xfrm>
              <a:off x="2050920" y="2781360"/>
              <a:ext cx="1598760" cy="33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 txBox="1"/>
            <p:nvPr/>
          </p:nvSpPr>
          <p:spPr>
            <a:xfrm>
              <a:off x="2556000" y="6021360"/>
              <a:ext cx="558720" cy="40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66"/>
                  </a:solidFill>
                  <a:latin typeface="Times New Roman"/>
                </a:rPr>
                <a:t>№</a:t>
              </a: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66"/>
                  </a:solidFill>
                  <a:latin typeface="Times New Roman"/>
                </a:rPr>
                <a:t>2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995640" y="2276640"/>
            <a:ext cx="1189080" cy="3719520"/>
            <a:chOff x="3995640" y="2276640"/>
            <a:chExt cx="1189080" cy="3719520"/>
          </a:xfrm>
        </p:grpSpPr>
        <p:pic>
          <p:nvPicPr>
            <p:cNvPr id="300" name="" descr=""/>
            <p:cNvPicPr/>
            <p:nvPr/>
          </p:nvPicPr>
          <p:blipFill>
            <a:blip r:embed="rId5"/>
            <a:stretch/>
          </p:blipFill>
          <p:spPr>
            <a:xfrm>
              <a:off x="3995640" y="2276640"/>
              <a:ext cx="118908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 txBox="1"/>
            <p:nvPr/>
          </p:nvSpPr>
          <p:spPr>
            <a:xfrm>
              <a:off x="4356000" y="5589720"/>
              <a:ext cx="559080" cy="40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66"/>
                  </a:solidFill>
                  <a:latin typeface="Times New Roman"/>
                </a:rPr>
                <a:t>№</a:t>
              </a: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66"/>
                  </a:solidFill>
                  <a:latin typeface="Times New Roman"/>
                </a:rPr>
                <a:t>3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940360" y="2781360"/>
            <a:ext cx="1165320" cy="3790800"/>
            <a:chOff x="5940360" y="2781360"/>
            <a:chExt cx="1165320" cy="3790800"/>
          </a:xfrm>
        </p:grpSpPr>
        <p:pic>
          <p:nvPicPr>
            <p:cNvPr id="303" name="" descr=""/>
            <p:cNvPicPr/>
            <p:nvPr/>
          </p:nvPicPr>
          <p:blipFill>
            <a:blip r:embed="rId6"/>
            <a:stretch/>
          </p:blipFill>
          <p:spPr>
            <a:xfrm>
              <a:off x="5940360" y="2781360"/>
              <a:ext cx="1165320" cy="32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 txBox="1"/>
            <p:nvPr/>
          </p:nvSpPr>
          <p:spPr>
            <a:xfrm>
              <a:off x="6227640" y="6165720"/>
              <a:ext cx="559080" cy="40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66"/>
                  </a:solidFill>
                  <a:latin typeface="Times New Roman"/>
                </a:rPr>
                <a:t>№</a:t>
              </a: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66"/>
                  </a:solidFill>
                  <a:latin typeface="Times New Roman"/>
                </a:rPr>
                <a:t>4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380360" y="1844640"/>
            <a:ext cx="1245960" cy="3430800"/>
            <a:chOff x="7380360" y="1844640"/>
            <a:chExt cx="1245960" cy="3430800"/>
          </a:xfrm>
        </p:grpSpPr>
        <p:pic>
          <p:nvPicPr>
            <p:cNvPr id="306" name="" descr=""/>
            <p:cNvPicPr/>
            <p:nvPr/>
          </p:nvPicPr>
          <p:blipFill>
            <a:blip r:embed="rId7"/>
            <a:stretch/>
          </p:blipFill>
          <p:spPr>
            <a:xfrm>
              <a:off x="7380360" y="1844640"/>
              <a:ext cx="124596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 txBox="1"/>
            <p:nvPr/>
          </p:nvSpPr>
          <p:spPr>
            <a:xfrm>
              <a:off x="7740720" y="4869000"/>
              <a:ext cx="558720" cy="40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66"/>
                  </a:solidFill>
                  <a:latin typeface="Times New Roman"/>
                </a:rPr>
                <a:t>№</a:t>
              </a: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66"/>
                  </a:solidFill>
                  <a:latin typeface="Times New Roman"/>
                </a:rPr>
                <a:t>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 flipH="1">
            <a:off x="1834920" y="1125360"/>
            <a:ext cx="1368360" cy="1008360"/>
          </a:xfrm>
          <a:prstGeom prst="line">
            <a:avLst/>
          </a:prstGeom>
          <a:ln cap="rnd" w="38160">
            <a:solidFill>
              <a:srgbClr val="cc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3059280" y="1125360"/>
            <a:ext cx="504720" cy="1582920"/>
          </a:xfrm>
          <a:prstGeom prst="line">
            <a:avLst/>
          </a:prstGeom>
          <a:ln cap="rnd" w="38160">
            <a:solidFill>
              <a:srgbClr val="cc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1125360"/>
            <a:ext cx="0" cy="935280"/>
          </a:xfrm>
          <a:prstGeom prst="line">
            <a:avLst/>
          </a:prstGeom>
          <a:ln cap="rnd" w="38160">
            <a:solidFill>
              <a:srgbClr val="cc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19640" y="1125360"/>
            <a:ext cx="865080" cy="1582920"/>
          </a:xfrm>
          <a:prstGeom prst="line">
            <a:avLst/>
          </a:prstGeom>
          <a:ln cap="rnd" w="38160">
            <a:solidFill>
              <a:srgbClr val="cc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40360" y="1125360"/>
            <a:ext cx="1440000" cy="1008360"/>
          </a:xfrm>
          <a:prstGeom prst="line">
            <a:avLst/>
          </a:prstGeom>
          <a:ln cap="rnd" w="38160">
            <a:solidFill>
              <a:srgbClr val="cc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96000" y="2565360"/>
            <a:ext cx="1511280" cy="4149720"/>
          </a:xfrm>
          <a:prstGeom prst="ellipse">
            <a:avLst/>
          </a:prstGeom>
          <a:noFill/>
          <a:ln cap="rnd" w="38160">
            <a:solidFill>
              <a:srgbClr val="cc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1280" y="1341360"/>
            <a:ext cx="777708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здание вазы как декоративного элемента интерьера комн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знакомиться с историческими открытиями и ценностями вазы как декоративного элемента интерь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следовать и проанализировать образы и мотивы японского искус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явить связь культур России и Яп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полнить багаж знаний об оформлении интерь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готовить вазу из бросового материала по различным технолог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19280" y="476280"/>
            <a:ext cx="32605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Times New Roman"/>
              </a:rPr>
              <a:t>Цель проек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55640" y="2637000"/>
            <a:ext cx="22906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Задачи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2916360" y="2997360"/>
            <a:ext cx="3528720" cy="1368360"/>
            <a:chOff x="2916360" y="2997360"/>
            <a:chExt cx="3528720" cy="1368360"/>
          </a:xfrm>
        </p:grpSpPr>
        <p:sp>
          <p:nvSpPr>
            <p:cNvPr id="51" name=""/>
            <p:cNvSpPr/>
            <p:nvPr/>
          </p:nvSpPr>
          <p:spPr>
            <a:xfrm>
              <a:off x="2916360" y="2997360"/>
              <a:ext cx="3528720" cy="136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3421080" y="3286440"/>
              <a:ext cx="2592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top">
                <a:avLst>
                  <a:gd name="adj" fmla="val 125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Ваза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258920" y="4365720"/>
            <a:ext cx="2521080" cy="1798560"/>
            <a:chOff x="1258920" y="4365720"/>
            <a:chExt cx="2521080" cy="1798560"/>
          </a:xfrm>
        </p:grpSpPr>
        <p:grpSp>
          <p:nvGrpSpPr>
            <p:cNvPr id="54" name=""/>
            <p:cNvGrpSpPr/>
            <p:nvPr/>
          </p:nvGrpSpPr>
          <p:grpSpPr>
            <a:xfrm>
              <a:off x="1258920" y="5156280"/>
              <a:ext cx="2521080" cy="1008000"/>
              <a:chOff x="1258920" y="5156280"/>
              <a:chExt cx="2521080" cy="1008000"/>
            </a:xfrm>
          </p:grpSpPr>
          <p:sp>
            <p:nvSpPr>
              <p:cNvPr id="55" name=""/>
              <p:cNvSpPr/>
              <p:nvPr/>
            </p:nvSpPr>
            <p:spPr>
              <a:xfrm>
                <a:off x="1258920" y="5156280"/>
                <a:ext cx="2521080" cy="1008000"/>
              </a:xfrm>
              <a:prstGeom prst="ellipse">
                <a:avLst/>
              </a:prstGeom>
              <a:gradFill rotWithShape="0">
                <a:gsLst>
                  <a:gs pos="0">
                    <a:srgbClr val="ffccff"/>
                  </a:gs>
                  <a:gs pos="100000">
                    <a:srgbClr val="755e75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 txBox="1"/>
              <p:nvPr/>
            </p:nvSpPr>
            <p:spPr>
              <a:xfrm>
                <a:off x="1474920" y="5372280"/>
                <a:ext cx="2073240" cy="515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top">
                  <a:avLst>
                    <a:gd name="adj" fmla="val 125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Теоретические</a:t>
                </a:r>
                <a:endPara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сведения</a:t>
                </a:r>
                <a:endPara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 flipH="1">
              <a:off x="3132000" y="4365720"/>
              <a:ext cx="648000" cy="790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780000" y="4437000"/>
            <a:ext cx="2449080" cy="2160720"/>
            <a:chOff x="3780000" y="4437000"/>
            <a:chExt cx="2449080" cy="2160720"/>
          </a:xfrm>
        </p:grpSpPr>
        <p:grpSp>
          <p:nvGrpSpPr>
            <p:cNvPr id="59" name=""/>
            <p:cNvGrpSpPr/>
            <p:nvPr/>
          </p:nvGrpSpPr>
          <p:grpSpPr>
            <a:xfrm>
              <a:off x="3780000" y="5589720"/>
              <a:ext cx="2449080" cy="1008000"/>
              <a:chOff x="3780000" y="5589720"/>
              <a:chExt cx="2449080" cy="1008000"/>
            </a:xfrm>
          </p:grpSpPr>
          <p:sp>
            <p:nvSpPr>
              <p:cNvPr id="60" name=""/>
              <p:cNvSpPr/>
              <p:nvPr/>
            </p:nvSpPr>
            <p:spPr>
              <a:xfrm>
                <a:off x="3780000" y="5589720"/>
                <a:ext cx="2449080" cy="1008000"/>
              </a:xfrm>
              <a:prstGeom prst="ellipse">
                <a:avLst/>
              </a:prstGeom>
              <a:gradFill rotWithShape="0">
                <a:gsLst>
                  <a:gs pos="0">
                    <a:srgbClr val="ffccff"/>
                  </a:gs>
                  <a:gs pos="100000">
                    <a:srgbClr val="755e75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 txBox="1"/>
              <p:nvPr/>
            </p:nvSpPr>
            <p:spPr>
              <a:xfrm>
                <a:off x="4024440" y="5805360"/>
                <a:ext cx="2041200" cy="57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top">
                  <a:avLst>
                    <a:gd name="adj" fmla="val 125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История и </a:t>
                </a:r>
                <a:endPara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совремнность</a:t>
                </a:r>
                <a:endPara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4788000" y="4437000"/>
              <a:ext cx="0" cy="10796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203640" y="1052640"/>
            <a:ext cx="2520720" cy="1871280"/>
            <a:chOff x="3203640" y="1052640"/>
            <a:chExt cx="2520720" cy="1871280"/>
          </a:xfrm>
        </p:grpSpPr>
        <p:grpSp>
          <p:nvGrpSpPr>
            <p:cNvPr id="64" name=""/>
            <p:cNvGrpSpPr/>
            <p:nvPr/>
          </p:nvGrpSpPr>
          <p:grpSpPr>
            <a:xfrm>
              <a:off x="3203640" y="1052640"/>
              <a:ext cx="2520720" cy="1150920"/>
              <a:chOff x="3203640" y="1052640"/>
              <a:chExt cx="2520720" cy="1150920"/>
            </a:xfrm>
          </p:grpSpPr>
          <p:sp>
            <p:nvSpPr>
              <p:cNvPr id="65" name=""/>
              <p:cNvSpPr/>
              <p:nvPr/>
            </p:nvSpPr>
            <p:spPr>
              <a:xfrm>
                <a:off x="3203640" y="1052640"/>
                <a:ext cx="2520720" cy="1150920"/>
              </a:xfrm>
              <a:prstGeom prst="ellipse">
                <a:avLst/>
              </a:prstGeom>
              <a:gradFill rotWithShape="0">
                <a:gsLst>
                  <a:gs pos="0">
                    <a:srgbClr val="ffccff"/>
                  </a:gs>
                  <a:gs pos="100000">
                    <a:srgbClr val="755e75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 txBox="1"/>
              <p:nvPr/>
            </p:nvSpPr>
            <p:spPr>
              <a:xfrm>
                <a:off x="3421080" y="1341720"/>
                <a:ext cx="2016000" cy="576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top">
                  <a:avLst>
                    <a:gd name="adj" fmla="val 125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Параметры и </a:t>
                </a:r>
                <a:endPara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ограничения</a:t>
                </a:r>
                <a:endPara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 flipV="1">
              <a:off x="4500720" y="2131560"/>
              <a:ext cx="0" cy="792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724360" y="1484280"/>
            <a:ext cx="2734920" cy="1584000"/>
            <a:chOff x="5724360" y="1484280"/>
            <a:chExt cx="2734920" cy="1584000"/>
          </a:xfrm>
        </p:grpSpPr>
        <p:grpSp>
          <p:nvGrpSpPr>
            <p:cNvPr id="69" name=""/>
            <p:cNvGrpSpPr/>
            <p:nvPr/>
          </p:nvGrpSpPr>
          <p:grpSpPr>
            <a:xfrm>
              <a:off x="5867280" y="1484280"/>
              <a:ext cx="2592000" cy="1079280"/>
              <a:chOff x="5867280" y="1484280"/>
              <a:chExt cx="2592000" cy="1079280"/>
            </a:xfrm>
          </p:grpSpPr>
          <p:sp>
            <p:nvSpPr>
              <p:cNvPr id="70" name=""/>
              <p:cNvSpPr/>
              <p:nvPr/>
            </p:nvSpPr>
            <p:spPr>
              <a:xfrm>
                <a:off x="5867280" y="1484280"/>
                <a:ext cx="2592000" cy="1079280"/>
              </a:xfrm>
              <a:prstGeom prst="ellipse">
                <a:avLst/>
              </a:prstGeom>
              <a:gradFill rotWithShape="0">
                <a:gsLst>
                  <a:gs pos="0">
                    <a:srgbClr val="ffccff"/>
                  </a:gs>
                  <a:gs pos="100000">
                    <a:srgbClr val="755e75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 txBox="1"/>
              <p:nvPr/>
            </p:nvSpPr>
            <p:spPr>
              <a:xfrm>
                <a:off x="6299280" y="1715400"/>
                <a:ext cx="1641960" cy="462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top">
                  <a:avLst>
                    <a:gd name="adj" fmla="val 125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Реклама</a:t>
                </a:r>
                <a:endPara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 flipV="1">
              <a:off x="5724360" y="2420640"/>
              <a:ext cx="432000" cy="6476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84360" y="1700280"/>
            <a:ext cx="2950920" cy="1368000"/>
            <a:chOff x="684360" y="1700280"/>
            <a:chExt cx="2950920" cy="1368000"/>
          </a:xfrm>
        </p:grpSpPr>
        <p:grpSp>
          <p:nvGrpSpPr>
            <p:cNvPr id="74" name=""/>
            <p:cNvGrpSpPr/>
            <p:nvPr/>
          </p:nvGrpSpPr>
          <p:grpSpPr>
            <a:xfrm>
              <a:off x="684360" y="1700280"/>
              <a:ext cx="2592000" cy="1078920"/>
              <a:chOff x="684360" y="1700280"/>
              <a:chExt cx="2592000" cy="1078920"/>
            </a:xfrm>
          </p:grpSpPr>
          <p:sp>
            <p:nvSpPr>
              <p:cNvPr id="75" name=""/>
              <p:cNvSpPr/>
              <p:nvPr/>
            </p:nvSpPr>
            <p:spPr>
              <a:xfrm>
                <a:off x="684360" y="1700280"/>
                <a:ext cx="2592000" cy="1078920"/>
              </a:xfrm>
              <a:prstGeom prst="ellipse">
                <a:avLst/>
              </a:prstGeom>
              <a:gradFill rotWithShape="0">
                <a:gsLst>
                  <a:gs pos="0">
                    <a:srgbClr val="ffccff"/>
                  </a:gs>
                  <a:gs pos="100000">
                    <a:srgbClr val="755e75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 txBox="1"/>
              <p:nvPr/>
            </p:nvSpPr>
            <p:spPr>
              <a:xfrm>
                <a:off x="942840" y="1776240"/>
                <a:ext cx="2089800" cy="924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top">
                  <a:avLst>
                    <a:gd name="adj" fmla="val 125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Технология </a:t>
                </a:r>
                <a:endPara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декорирования</a:t>
                </a:r>
                <a:endPara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предмета</a:t>
                </a:r>
                <a:endPara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 flipH="1" flipV="1">
              <a:off x="3132000" y="2491920"/>
              <a:ext cx="503280" cy="576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0" y="2852640"/>
            <a:ext cx="2987640" cy="1008000"/>
            <a:chOff x="0" y="2852640"/>
            <a:chExt cx="2987640" cy="1008000"/>
          </a:xfrm>
        </p:grpSpPr>
        <p:grpSp>
          <p:nvGrpSpPr>
            <p:cNvPr id="79" name=""/>
            <p:cNvGrpSpPr/>
            <p:nvPr/>
          </p:nvGrpSpPr>
          <p:grpSpPr>
            <a:xfrm>
              <a:off x="0" y="2852640"/>
              <a:ext cx="2663640" cy="1008000"/>
              <a:chOff x="0" y="2852640"/>
              <a:chExt cx="2663640" cy="10080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2852640"/>
                <a:ext cx="2663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fccff"/>
                  </a:gs>
                  <a:gs pos="100000">
                    <a:srgbClr val="755e75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234720" y="3070080"/>
                <a:ext cx="2116080" cy="503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top">
                  <a:avLst>
                    <a:gd name="adj" fmla="val 125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Техника </a:t>
                </a:r>
                <a:endPara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безопасности</a:t>
                </a:r>
                <a:endPara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 flipH="1" flipV="1">
              <a:off x="2700360" y="3355560"/>
              <a:ext cx="287280" cy="73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95280" y="4005360"/>
            <a:ext cx="2664000" cy="1152000"/>
            <a:chOff x="395280" y="4005360"/>
            <a:chExt cx="2664000" cy="1152000"/>
          </a:xfrm>
        </p:grpSpPr>
        <p:grpSp>
          <p:nvGrpSpPr>
            <p:cNvPr id="84" name=""/>
            <p:cNvGrpSpPr/>
            <p:nvPr/>
          </p:nvGrpSpPr>
          <p:grpSpPr>
            <a:xfrm>
              <a:off x="395280" y="4076640"/>
              <a:ext cx="2304720" cy="1080720"/>
              <a:chOff x="395280" y="4076640"/>
              <a:chExt cx="2304720" cy="1080720"/>
            </a:xfrm>
          </p:grpSpPr>
          <p:sp>
            <p:nvSpPr>
              <p:cNvPr id="85" name=""/>
              <p:cNvSpPr/>
              <p:nvPr/>
            </p:nvSpPr>
            <p:spPr>
              <a:xfrm>
                <a:off x="395280" y="4076640"/>
                <a:ext cx="2304720" cy="1080720"/>
              </a:xfrm>
              <a:prstGeom prst="ellipse">
                <a:avLst/>
              </a:prstGeom>
              <a:gradFill rotWithShape="0">
                <a:gsLst>
                  <a:gs pos="0">
                    <a:srgbClr val="ffccff"/>
                  </a:gs>
                  <a:gs pos="100000">
                    <a:srgbClr val="755e75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 txBox="1"/>
              <p:nvPr/>
            </p:nvSpPr>
            <p:spPr>
              <a:xfrm>
                <a:off x="544680" y="4231440"/>
                <a:ext cx="2094840" cy="734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top">
                  <a:avLst>
                    <a:gd name="adj" fmla="val 125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Материалы и</a:t>
                </a:r>
                <a:endPara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инструменты</a:t>
                </a:r>
                <a:endPara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 flipH="1">
              <a:off x="2556000" y="4005360"/>
              <a:ext cx="503280" cy="2872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797440" y="4292640"/>
            <a:ext cx="2663640" cy="1773000"/>
            <a:chOff x="5797440" y="4292640"/>
            <a:chExt cx="2663640" cy="1773000"/>
          </a:xfrm>
        </p:grpSpPr>
        <p:grpSp>
          <p:nvGrpSpPr>
            <p:cNvPr id="89" name=""/>
            <p:cNvGrpSpPr/>
            <p:nvPr/>
          </p:nvGrpSpPr>
          <p:grpSpPr>
            <a:xfrm>
              <a:off x="6084720" y="5013360"/>
              <a:ext cx="2376360" cy="1052280"/>
              <a:chOff x="6084720" y="5013360"/>
              <a:chExt cx="2376360" cy="1052280"/>
            </a:xfrm>
          </p:grpSpPr>
          <p:sp>
            <p:nvSpPr>
              <p:cNvPr id="90" name=""/>
              <p:cNvSpPr/>
              <p:nvPr/>
            </p:nvSpPr>
            <p:spPr>
              <a:xfrm>
                <a:off x="6084720" y="5013360"/>
                <a:ext cx="2376360" cy="1052280"/>
              </a:xfrm>
              <a:prstGeom prst="ellipse">
                <a:avLst/>
              </a:prstGeom>
              <a:gradFill rotWithShape="0">
                <a:gsLst>
                  <a:gs pos="0">
                    <a:srgbClr val="ffccff"/>
                  </a:gs>
                  <a:gs pos="100000">
                    <a:srgbClr val="755e75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 txBox="1"/>
              <p:nvPr/>
            </p:nvSpPr>
            <p:spPr>
              <a:xfrm>
                <a:off x="6402600" y="5244840"/>
                <a:ext cx="1836720" cy="539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top">
                  <a:avLst>
                    <a:gd name="adj" fmla="val 125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Связь</a:t>
                </a:r>
                <a:endPara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культур</a:t>
                </a:r>
                <a:endPara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5797440" y="4292640"/>
              <a:ext cx="719280" cy="7920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300720" y="3932280"/>
            <a:ext cx="2735280" cy="1008000"/>
            <a:chOff x="6300720" y="3932280"/>
            <a:chExt cx="2735280" cy="1008000"/>
          </a:xfrm>
        </p:grpSpPr>
        <p:grpSp>
          <p:nvGrpSpPr>
            <p:cNvPr id="94" name=""/>
            <p:cNvGrpSpPr/>
            <p:nvPr/>
          </p:nvGrpSpPr>
          <p:grpSpPr>
            <a:xfrm>
              <a:off x="6588000" y="3932280"/>
              <a:ext cx="2448000" cy="1008000"/>
              <a:chOff x="6588000" y="3932280"/>
              <a:chExt cx="2448000" cy="1008000"/>
            </a:xfrm>
          </p:grpSpPr>
          <p:sp>
            <p:nvSpPr>
              <p:cNvPr id="95" name=""/>
              <p:cNvSpPr/>
              <p:nvPr/>
            </p:nvSpPr>
            <p:spPr>
              <a:xfrm>
                <a:off x="6588000" y="3932280"/>
                <a:ext cx="2448000" cy="1008000"/>
              </a:xfrm>
              <a:prstGeom prst="ellipse">
                <a:avLst/>
              </a:prstGeom>
              <a:gradFill rotWithShape="0">
                <a:gsLst>
                  <a:gs pos="0">
                    <a:srgbClr val="ffccff"/>
                  </a:gs>
                  <a:gs pos="100000">
                    <a:srgbClr val="755e75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6860880" y="4075200"/>
                <a:ext cx="1890360" cy="649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top">
                  <a:avLst>
                    <a:gd name="adj" fmla="val 125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Экологическое</a:t>
                </a:r>
                <a:endPara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обоснование</a:t>
                </a:r>
                <a:endPara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6300720" y="4005360"/>
              <a:ext cx="432000" cy="2156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372360" y="2637000"/>
            <a:ext cx="2663280" cy="1080720"/>
            <a:chOff x="6372360" y="2637000"/>
            <a:chExt cx="2663280" cy="1080720"/>
          </a:xfrm>
        </p:grpSpPr>
        <p:grpSp>
          <p:nvGrpSpPr>
            <p:cNvPr id="99" name=""/>
            <p:cNvGrpSpPr/>
            <p:nvPr/>
          </p:nvGrpSpPr>
          <p:grpSpPr>
            <a:xfrm>
              <a:off x="6588000" y="2637000"/>
              <a:ext cx="2447640" cy="1080720"/>
              <a:chOff x="6588000" y="2637000"/>
              <a:chExt cx="2447640" cy="1080720"/>
            </a:xfrm>
          </p:grpSpPr>
          <p:sp>
            <p:nvSpPr>
              <p:cNvPr id="100" name=""/>
              <p:cNvSpPr/>
              <p:nvPr/>
            </p:nvSpPr>
            <p:spPr>
              <a:xfrm>
                <a:off x="6588000" y="2637000"/>
                <a:ext cx="2447640" cy="1080720"/>
              </a:xfrm>
              <a:prstGeom prst="ellipse">
                <a:avLst/>
              </a:prstGeom>
              <a:gradFill rotWithShape="0">
                <a:gsLst>
                  <a:gs pos="0">
                    <a:srgbClr val="ffccff"/>
                  </a:gs>
                  <a:gs pos="100000">
                    <a:srgbClr val="755e75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 txBox="1"/>
              <p:nvPr/>
            </p:nvSpPr>
            <p:spPr>
              <a:xfrm>
                <a:off x="6850080" y="2792160"/>
                <a:ext cx="2010240" cy="694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top">
                  <a:avLst>
                    <a:gd name="adj" fmla="val 125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Экономическое</a:t>
                </a:r>
                <a:endPara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обоснование</a:t>
                </a:r>
                <a:endPara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 flipV="1">
              <a:off x="6372360" y="3355560"/>
              <a:ext cx="287280" cy="73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 txBox="1"/>
          <p:nvPr/>
        </p:nvSpPr>
        <p:spPr>
          <a:xfrm>
            <a:off x="1763640" y="260280"/>
            <a:ext cx="676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Схема обдумы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250920" y="1341360"/>
            <a:ext cx="3384360" cy="2374920"/>
            <a:chOff x="250920" y="1341360"/>
            <a:chExt cx="3384360" cy="2374920"/>
          </a:xfrm>
        </p:grpSpPr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250920" y="1341360"/>
              <a:ext cx="3384360" cy="2052720"/>
            </a:xfrm>
            <a:prstGeom prst="rect">
              <a:avLst/>
            </a:prstGeom>
            <a:ln cap="rnd" w="38160">
              <a:solidFill>
                <a:srgbClr val="cc0099"/>
              </a:solidFill>
              <a:custDash>
                <a:ds d="100000" sp="1000"/>
              </a:custDash>
              <a:miter/>
            </a:ln>
          </p:spPr>
        </p:pic>
        <p:sp>
          <p:nvSpPr>
            <p:cNvPr id="108" name=""/>
            <p:cNvSpPr txBox="1"/>
            <p:nvPr/>
          </p:nvSpPr>
          <p:spPr>
            <a:xfrm>
              <a:off x="1042920" y="3500280"/>
              <a:ext cx="13734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Рокок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084720" y="1341360"/>
            <a:ext cx="2880000" cy="2519280"/>
            <a:chOff x="6084720" y="1341360"/>
            <a:chExt cx="2880000" cy="2519280"/>
          </a:xfrm>
        </p:grpSpPr>
        <p:sp>
          <p:nvSpPr>
            <p:cNvPr id="110" name=""/>
            <p:cNvSpPr txBox="1"/>
            <p:nvPr/>
          </p:nvSpPr>
          <p:spPr>
            <a:xfrm>
              <a:off x="6877080" y="3645000"/>
              <a:ext cx="144288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Барокк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6084720" y="1341360"/>
              <a:ext cx="2880000" cy="2160720"/>
            </a:xfrm>
            <a:prstGeom prst="rect">
              <a:avLst/>
            </a:prstGeom>
            <a:ln cap="rnd" w="38160">
              <a:solidFill>
                <a:srgbClr val="cc0099"/>
              </a:solidFill>
              <a:custDash>
                <a:ds d="100000" sp="1000"/>
              </a:custDash>
              <a:miter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3708360" y="3500280"/>
            <a:ext cx="2143080" cy="3024360"/>
            <a:chOff x="3708360" y="3500280"/>
            <a:chExt cx="2143080" cy="3024360"/>
          </a:xfrm>
        </p:grpSpPr>
        <p:sp>
          <p:nvSpPr>
            <p:cNvPr id="113" name=""/>
            <p:cNvSpPr txBox="1"/>
            <p:nvPr/>
          </p:nvSpPr>
          <p:spPr>
            <a:xfrm>
              <a:off x="3924360" y="6237360"/>
              <a:ext cx="173196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Классицизм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5"/>
            <a:stretch/>
          </p:blipFill>
          <p:spPr>
            <a:xfrm>
              <a:off x="3708360" y="3500280"/>
              <a:ext cx="2143080" cy="2592720"/>
            </a:xfrm>
            <a:prstGeom prst="rect">
              <a:avLst/>
            </a:prstGeom>
            <a:ln cap="rnd" w="38160">
              <a:solidFill>
                <a:srgbClr val="cc0099"/>
              </a:solidFill>
              <a:custDash>
                <a:ds d="100000" sp="1000"/>
              </a:custDash>
              <a:miter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300720" y="4149720"/>
            <a:ext cx="2641680" cy="2374920"/>
            <a:chOff x="6300720" y="4149720"/>
            <a:chExt cx="2641680" cy="2374920"/>
          </a:xfrm>
        </p:grpSpPr>
        <p:sp>
          <p:nvSpPr>
            <p:cNvPr id="116" name=""/>
            <p:cNvSpPr txBox="1"/>
            <p:nvPr/>
          </p:nvSpPr>
          <p:spPr>
            <a:xfrm>
              <a:off x="6877080" y="6308640"/>
              <a:ext cx="144288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Модерн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6"/>
            <a:stretch/>
          </p:blipFill>
          <p:spPr>
            <a:xfrm>
              <a:off x="6300720" y="4149720"/>
              <a:ext cx="2641680" cy="1981080"/>
            </a:xfrm>
            <a:prstGeom prst="rect">
              <a:avLst/>
            </a:prstGeom>
            <a:ln cap="rnd" w="38160">
              <a:solidFill>
                <a:srgbClr val="cc0099"/>
              </a:solidFill>
              <a:custDash>
                <a:ds d="100000" sp="1000"/>
              </a:custDash>
              <a:miter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250920" y="4005360"/>
            <a:ext cx="3002040" cy="2448000"/>
            <a:chOff x="250920" y="4005360"/>
            <a:chExt cx="3002040" cy="2448000"/>
          </a:xfrm>
        </p:grpSpPr>
        <p:sp>
          <p:nvSpPr>
            <p:cNvPr id="119" name=""/>
            <p:cNvSpPr txBox="1"/>
            <p:nvPr/>
          </p:nvSpPr>
          <p:spPr>
            <a:xfrm>
              <a:off x="468360" y="6237360"/>
              <a:ext cx="23796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Минимализм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7"/>
            <a:stretch/>
          </p:blipFill>
          <p:spPr>
            <a:xfrm>
              <a:off x="250920" y="4005360"/>
              <a:ext cx="3002040" cy="2081160"/>
            </a:xfrm>
            <a:prstGeom prst="rect">
              <a:avLst/>
            </a:prstGeom>
            <a:ln cap="rnd" w="38160">
              <a:solidFill>
                <a:srgbClr val="cc0099"/>
              </a:solidFill>
              <a:custDash>
                <a:ds d="100000" sp="1000"/>
              </a:custDash>
              <a:miter/>
            </a:ln>
          </p:spPr>
        </p:pic>
      </p:grpSp>
      <p:sp>
        <p:nvSpPr>
          <p:cNvPr id="121" name=""/>
          <p:cNvSpPr txBox="1"/>
          <p:nvPr/>
        </p:nvSpPr>
        <p:spPr>
          <a:xfrm>
            <a:off x="2195640" y="260280"/>
            <a:ext cx="5202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Исторически сложившиес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стили в интерьер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1116000" y="1197000"/>
            <a:ext cx="3119400" cy="2448000"/>
            <a:chOff x="1116000" y="1197000"/>
            <a:chExt cx="3119400" cy="2448000"/>
          </a:xfrm>
        </p:grpSpPr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1116000" y="1197000"/>
              <a:ext cx="3119400" cy="2079720"/>
            </a:xfrm>
            <a:prstGeom prst="rect">
              <a:avLst/>
            </a:prstGeom>
            <a:ln cap="rnd" w="38160">
              <a:solidFill>
                <a:srgbClr val="cc0099"/>
              </a:solidFill>
              <a:custDash>
                <a:ds d="100000" sp="1000"/>
              </a:custDash>
              <a:miter/>
            </a:ln>
          </p:spPr>
        </p:pic>
        <p:sp>
          <p:nvSpPr>
            <p:cNvPr id="126" name=""/>
            <p:cNvSpPr txBox="1"/>
            <p:nvPr/>
          </p:nvSpPr>
          <p:spPr>
            <a:xfrm>
              <a:off x="1763640" y="3429000"/>
              <a:ext cx="13734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Китч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932360" y="1197000"/>
            <a:ext cx="3156120" cy="2448000"/>
            <a:chOff x="4932360" y="1197000"/>
            <a:chExt cx="3156120" cy="2448000"/>
          </a:xfrm>
        </p:grpSpPr>
        <p:sp>
          <p:nvSpPr>
            <p:cNvPr id="128" name=""/>
            <p:cNvSpPr txBox="1"/>
            <p:nvPr/>
          </p:nvSpPr>
          <p:spPr>
            <a:xfrm>
              <a:off x="5940360" y="3429000"/>
              <a:ext cx="13734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Этн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4932360" y="1197000"/>
              <a:ext cx="3156120" cy="2112840"/>
            </a:xfrm>
            <a:prstGeom prst="rect">
              <a:avLst/>
            </a:prstGeom>
            <a:ln cap="rnd" w="38160">
              <a:solidFill>
                <a:srgbClr val="cc0099"/>
              </a:solidFill>
              <a:custDash>
                <a:ds d="100000" sp="1000"/>
              </a:custDash>
              <a:miter/>
            </a:ln>
          </p:spPr>
        </p:pic>
      </p:grpSp>
      <p:grpSp>
        <p:nvGrpSpPr>
          <p:cNvPr id="130" name=""/>
          <p:cNvGrpSpPr/>
          <p:nvPr/>
        </p:nvGrpSpPr>
        <p:grpSpPr>
          <a:xfrm>
            <a:off x="5148360" y="3860640"/>
            <a:ext cx="2735280" cy="2664000"/>
            <a:chOff x="5148360" y="3860640"/>
            <a:chExt cx="2735280" cy="2664000"/>
          </a:xfrm>
        </p:grpSpPr>
        <p:sp>
          <p:nvSpPr>
            <p:cNvPr id="131" name=""/>
            <p:cNvSpPr txBox="1"/>
            <p:nvPr/>
          </p:nvSpPr>
          <p:spPr>
            <a:xfrm>
              <a:off x="5940360" y="6308640"/>
              <a:ext cx="10130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Эк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5"/>
            <a:stretch/>
          </p:blipFill>
          <p:spPr>
            <a:xfrm>
              <a:off x="5148360" y="3860640"/>
              <a:ext cx="2735280" cy="2354400"/>
            </a:xfrm>
            <a:prstGeom prst="rect">
              <a:avLst/>
            </a:prstGeom>
            <a:ln cap="rnd" w="38160">
              <a:solidFill>
                <a:srgbClr val="cc0099"/>
              </a:solidFill>
              <a:custDash>
                <a:ds d="100000" sp="1000"/>
              </a:custDash>
              <a:miter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1187280" y="4005360"/>
            <a:ext cx="3021120" cy="2303280"/>
            <a:chOff x="1187280" y="4005360"/>
            <a:chExt cx="3021120" cy="2303280"/>
          </a:xfrm>
        </p:grpSpPr>
        <p:sp>
          <p:nvSpPr>
            <p:cNvPr id="134" name=""/>
            <p:cNvSpPr txBox="1"/>
            <p:nvPr/>
          </p:nvSpPr>
          <p:spPr>
            <a:xfrm>
              <a:off x="1908000" y="6021360"/>
              <a:ext cx="16606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Хай тек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6"/>
            <a:stretch/>
          </p:blipFill>
          <p:spPr>
            <a:xfrm>
              <a:off x="1187280" y="4005360"/>
              <a:ext cx="3021120" cy="1887480"/>
            </a:xfrm>
            <a:prstGeom prst="rect">
              <a:avLst/>
            </a:prstGeom>
            <a:ln cap="rnd" w="38160">
              <a:solidFill>
                <a:srgbClr val="cc0099"/>
              </a:solidFill>
              <a:custDash>
                <a:ds d="100000" sp="1000"/>
              </a:custDash>
              <a:miter/>
            </a:ln>
          </p:spPr>
        </p:pic>
      </p:grpSp>
      <p:sp>
        <p:nvSpPr>
          <p:cNvPr id="136" name=""/>
          <p:cNvSpPr txBox="1"/>
          <p:nvPr/>
        </p:nvSpPr>
        <p:spPr>
          <a:xfrm>
            <a:off x="1476360" y="333360"/>
            <a:ext cx="6886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Современные стили в интерьер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11280" y="5950080"/>
            <a:ext cx="79200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Японии ваза является почти единственным украшением д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ычно ваза стоит в специальной нише под свитком или карти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284720" y="404640"/>
            <a:ext cx="1774800" cy="2303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732720" y="260280"/>
            <a:ext cx="1769760" cy="2592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588000" y="3068640"/>
            <a:ext cx="2232000" cy="2592360"/>
          </a:xfrm>
          <a:prstGeom prst="rect">
            <a:avLst/>
          </a:prstGeom>
          <a:ln w="0">
            <a:noFill/>
          </a:ln>
        </p:spPr>
      </p:pic>
      <p:pic>
        <p:nvPicPr>
          <p:cNvPr id="143" name="shTopImg" descr=""/>
          <p:cNvPicPr/>
          <p:nvPr/>
        </p:nvPicPr>
        <p:blipFill>
          <a:blip r:embed="rId6"/>
          <a:stretch/>
        </p:blipFill>
        <p:spPr>
          <a:xfrm>
            <a:off x="2484360" y="2924280"/>
            <a:ext cx="1909800" cy="2682720"/>
          </a:xfrm>
          <a:prstGeom prst="rect">
            <a:avLst/>
          </a:prstGeom>
          <a:ln w="0">
            <a:noFill/>
          </a:ln>
        </p:spPr>
      </p:pic>
      <p:pic>
        <p:nvPicPr>
          <p:cNvPr id="144" name="shTopImg" descr=""/>
          <p:cNvPicPr/>
          <p:nvPr/>
        </p:nvPicPr>
        <p:blipFill>
          <a:blip r:embed="rId7"/>
          <a:stretch/>
        </p:blipFill>
        <p:spPr>
          <a:xfrm>
            <a:off x="250920" y="419040"/>
            <a:ext cx="2119320" cy="2471760"/>
          </a:xfrm>
          <a:prstGeom prst="rect">
            <a:avLst/>
          </a:prstGeom>
          <a:ln w="0">
            <a:noFill/>
          </a:ln>
        </p:spPr>
      </p:pic>
      <p:pic>
        <p:nvPicPr>
          <p:cNvPr id="145" name="i-main-pic" descr="Картинка 23 из 11910"/>
          <p:cNvPicPr/>
          <p:nvPr/>
        </p:nvPicPr>
        <p:blipFill>
          <a:blip r:embed="rId8"/>
          <a:stretch/>
        </p:blipFill>
        <p:spPr>
          <a:xfrm>
            <a:off x="1111320" y="404640"/>
            <a:ext cx="2778120" cy="2378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4572000" y="3068640"/>
            <a:ext cx="1763640" cy="2519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324000" y="3213000"/>
            <a:ext cx="1780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250920" y="189000"/>
            <a:ext cx="3456000" cy="2163600"/>
            <a:chOff x="250920" y="189000"/>
            <a:chExt cx="3456000" cy="216360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1763640" y="189000"/>
              <a:ext cx="1176480" cy="11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4"/>
            <a:stretch/>
          </p:blipFill>
          <p:spPr>
            <a:xfrm>
              <a:off x="250920" y="9810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 txBox="1"/>
            <p:nvPr/>
          </p:nvSpPr>
          <p:spPr>
            <a:xfrm>
              <a:off x="1476360" y="1341360"/>
              <a:ext cx="22305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«семейка» ваз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364000" y="260280"/>
            <a:ext cx="3313440" cy="1355760"/>
            <a:chOff x="5364000" y="260280"/>
            <a:chExt cx="3313440" cy="1355760"/>
          </a:xfrm>
        </p:grpSpPr>
        <p:pic>
          <p:nvPicPr>
            <p:cNvPr id="155" name="" descr=""/>
            <p:cNvPicPr/>
            <p:nvPr/>
          </p:nvPicPr>
          <p:blipFill>
            <a:blip r:embed="rId5"/>
            <a:stretch/>
          </p:blipFill>
          <p:spPr>
            <a:xfrm>
              <a:off x="7308720" y="260280"/>
              <a:ext cx="136872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 txBox="1"/>
            <p:nvPr/>
          </p:nvSpPr>
          <p:spPr>
            <a:xfrm>
              <a:off x="5364000" y="1052640"/>
              <a:ext cx="201636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декоративна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ваз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435640" y="1989000"/>
            <a:ext cx="3443400" cy="4753080"/>
            <a:chOff x="5435640" y="1989000"/>
            <a:chExt cx="3443400" cy="4753080"/>
          </a:xfrm>
        </p:grpSpPr>
        <p:pic>
          <p:nvPicPr>
            <p:cNvPr id="158" name="" descr=""/>
            <p:cNvPicPr/>
            <p:nvPr/>
          </p:nvPicPr>
          <p:blipFill>
            <a:blip r:embed="rId6"/>
            <a:stretch/>
          </p:blipFill>
          <p:spPr>
            <a:xfrm>
              <a:off x="7093080" y="4292640"/>
              <a:ext cx="1785960" cy="20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7"/>
            <a:stretch/>
          </p:blipFill>
          <p:spPr>
            <a:xfrm>
              <a:off x="7596360" y="1989000"/>
              <a:ext cx="127764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8"/>
            <a:stretch/>
          </p:blipFill>
          <p:spPr>
            <a:xfrm>
              <a:off x="5435640" y="4437000"/>
              <a:ext cx="13017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 txBox="1"/>
            <p:nvPr/>
          </p:nvSpPr>
          <p:spPr>
            <a:xfrm>
              <a:off x="6300720" y="3933720"/>
              <a:ext cx="237492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напольные вазы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557360" y="4437000"/>
            <a:ext cx="3589200" cy="2197080"/>
            <a:chOff x="1557360" y="4437000"/>
            <a:chExt cx="3589200" cy="2197080"/>
          </a:xfrm>
        </p:grpSpPr>
        <p:pic>
          <p:nvPicPr>
            <p:cNvPr id="163" name="" descr=""/>
            <p:cNvPicPr/>
            <p:nvPr/>
          </p:nvPicPr>
          <p:blipFill>
            <a:blip r:embed="rId9"/>
            <a:stretch/>
          </p:blipFill>
          <p:spPr>
            <a:xfrm>
              <a:off x="1557360" y="5229360"/>
              <a:ext cx="1878120" cy="14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10"/>
            <a:stretch/>
          </p:blipFill>
          <p:spPr>
            <a:xfrm>
              <a:off x="3924360" y="5229360"/>
              <a:ext cx="10047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 txBox="1"/>
            <p:nvPr/>
          </p:nvSpPr>
          <p:spPr>
            <a:xfrm>
              <a:off x="2916360" y="4437000"/>
              <a:ext cx="223020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ваз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для журнального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столик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50920" y="2565360"/>
            <a:ext cx="2590560" cy="3888000"/>
            <a:chOff x="250920" y="2565360"/>
            <a:chExt cx="2590560" cy="3888000"/>
          </a:xfrm>
        </p:grpSpPr>
        <p:pic>
          <p:nvPicPr>
            <p:cNvPr id="167" name="" descr=""/>
            <p:cNvPicPr/>
            <p:nvPr/>
          </p:nvPicPr>
          <p:blipFill>
            <a:blip r:embed="rId11"/>
            <a:stretch/>
          </p:blipFill>
          <p:spPr>
            <a:xfrm>
              <a:off x="250920" y="2565360"/>
              <a:ext cx="106812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12"/>
            <a:stretch/>
          </p:blipFill>
          <p:spPr>
            <a:xfrm>
              <a:off x="324000" y="4797360"/>
              <a:ext cx="124128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 txBox="1"/>
            <p:nvPr/>
          </p:nvSpPr>
          <p:spPr>
            <a:xfrm>
              <a:off x="611280" y="3933720"/>
              <a:ext cx="223020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ваз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для обеденного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стол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419640" y="2060640"/>
            <a:ext cx="2592360" cy="1225440"/>
            <a:chOff x="3419640" y="2060640"/>
            <a:chExt cx="2592360" cy="1225440"/>
          </a:xfrm>
        </p:grpSpPr>
        <p:sp>
          <p:nvSpPr>
            <p:cNvPr id="171" name=""/>
            <p:cNvSpPr/>
            <p:nvPr/>
          </p:nvSpPr>
          <p:spPr>
            <a:xfrm>
              <a:off x="3419640" y="2060640"/>
              <a:ext cx="2592360" cy="122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3635640" y="2349360"/>
              <a:ext cx="2174760" cy="71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Разнообразие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ваз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724360" y="3141720"/>
            <a:ext cx="1584360" cy="574560"/>
          </a:xfrm>
          <a:prstGeom prst="line">
            <a:avLst/>
          </a:prstGeom>
          <a:ln cap="rnd" w="76320">
            <a:solidFill>
              <a:srgbClr val="cc00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500720" y="3357720"/>
            <a:ext cx="71280" cy="1223640"/>
          </a:xfrm>
          <a:prstGeom prst="line">
            <a:avLst/>
          </a:prstGeom>
          <a:ln cap="rnd" w="76320">
            <a:solidFill>
              <a:srgbClr val="cc00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907640" y="2997360"/>
            <a:ext cx="1511640" cy="792000"/>
          </a:xfrm>
          <a:prstGeom prst="line">
            <a:avLst/>
          </a:prstGeom>
          <a:ln cap="rnd" w="76320">
            <a:solidFill>
              <a:srgbClr val="cc00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867280" y="1628640"/>
            <a:ext cx="1225800" cy="720720"/>
          </a:xfrm>
          <a:prstGeom prst="line">
            <a:avLst/>
          </a:prstGeom>
          <a:ln cap="rnd" w="76320">
            <a:solidFill>
              <a:srgbClr val="cc00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2050560" y="1773360"/>
            <a:ext cx="1513080" cy="576000"/>
          </a:xfrm>
          <a:prstGeom prst="line">
            <a:avLst/>
          </a:prstGeom>
          <a:ln cap="rnd" w="76320">
            <a:solidFill>
              <a:srgbClr val="cc00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6516720" y="2492280"/>
            <a:ext cx="2496960" cy="2305080"/>
            <a:chOff x="6516720" y="2492280"/>
            <a:chExt cx="2496960" cy="230508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6516720" y="2492280"/>
              <a:ext cx="24969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 txBox="1"/>
            <p:nvPr/>
          </p:nvSpPr>
          <p:spPr>
            <a:xfrm>
              <a:off x="6804000" y="4365720"/>
              <a:ext cx="19573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В технике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"Квиллинг"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940360" y="3357720"/>
            <a:ext cx="576360" cy="287280"/>
          </a:xfrm>
          <a:prstGeom prst="line">
            <a:avLst/>
          </a:prstGeom>
          <a:ln cap="rnd" w="76320">
            <a:solidFill>
              <a:srgbClr val="cc00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716000" y="3573360"/>
            <a:ext cx="71640" cy="863640"/>
          </a:xfrm>
          <a:prstGeom prst="line">
            <a:avLst/>
          </a:prstGeom>
          <a:ln cap="rnd" w="76320">
            <a:solidFill>
              <a:srgbClr val="cc00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835280" y="2707920"/>
            <a:ext cx="1728720" cy="360360"/>
          </a:xfrm>
          <a:prstGeom prst="line">
            <a:avLst/>
          </a:prstGeom>
          <a:ln cap="rnd" w="76320">
            <a:solidFill>
              <a:srgbClr val="cc00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867280" y="2276280"/>
            <a:ext cx="576360" cy="431640"/>
          </a:xfrm>
          <a:prstGeom prst="line">
            <a:avLst/>
          </a:prstGeom>
          <a:ln cap="rnd" w="76320">
            <a:solidFill>
              <a:srgbClr val="cc00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340000" y="3500280"/>
            <a:ext cx="1295280" cy="792360"/>
          </a:xfrm>
          <a:prstGeom prst="line">
            <a:avLst/>
          </a:prstGeom>
          <a:ln cap="rnd" w="76320">
            <a:solidFill>
              <a:srgbClr val="cc00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564000" y="2565360"/>
            <a:ext cx="2592360" cy="1225440"/>
            <a:chOff x="3564000" y="2565360"/>
            <a:chExt cx="2592360" cy="1225440"/>
          </a:xfrm>
        </p:grpSpPr>
        <p:sp>
          <p:nvSpPr>
            <p:cNvPr id="189" name=""/>
            <p:cNvSpPr/>
            <p:nvPr/>
          </p:nvSpPr>
          <p:spPr>
            <a:xfrm>
              <a:off x="3564000" y="2565360"/>
              <a:ext cx="2592360" cy="122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3780000" y="2852640"/>
              <a:ext cx="22478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Способы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декора ваз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508720" y="5084640"/>
            <a:ext cx="3168720" cy="1584360"/>
            <a:chOff x="5508720" y="5084640"/>
            <a:chExt cx="3168720" cy="1584360"/>
          </a:xfrm>
        </p:grpSpPr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7093080" y="5084640"/>
              <a:ext cx="1584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 txBox="1"/>
            <p:nvPr/>
          </p:nvSpPr>
          <p:spPr>
            <a:xfrm>
              <a:off x="5508720" y="5516640"/>
              <a:ext cx="15253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Травлённый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хрусталь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403280" y="0"/>
            <a:ext cx="3830760" cy="1657440"/>
            <a:chOff x="1403280" y="0"/>
            <a:chExt cx="3830760" cy="1657440"/>
          </a:xfrm>
        </p:grpSpPr>
        <p:pic>
          <p:nvPicPr>
            <p:cNvPr id="195" name="" descr=""/>
            <p:cNvPicPr/>
            <p:nvPr/>
          </p:nvPicPr>
          <p:blipFill>
            <a:blip r:embed="rId5"/>
            <a:stretch/>
          </p:blipFill>
          <p:spPr>
            <a:xfrm>
              <a:off x="1403280" y="0"/>
              <a:ext cx="2016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 txBox="1"/>
            <p:nvPr/>
          </p:nvSpPr>
          <p:spPr>
            <a:xfrm>
              <a:off x="3348000" y="1197000"/>
              <a:ext cx="18860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Декоративна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керамик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156360" y="260280"/>
            <a:ext cx="2606760" cy="2160720"/>
            <a:chOff x="6156360" y="260280"/>
            <a:chExt cx="2606760" cy="2160720"/>
          </a:xfrm>
        </p:grpSpPr>
        <p:pic>
          <p:nvPicPr>
            <p:cNvPr id="198" name="" descr=""/>
            <p:cNvPicPr/>
            <p:nvPr/>
          </p:nvPicPr>
          <p:blipFill>
            <a:blip r:embed="rId6"/>
            <a:stretch/>
          </p:blipFill>
          <p:spPr>
            <a:xfrm>
              <a:off x="6156360" y="260280"/>
              <a:ext cx="2020680" cy="16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 txBox="1"/>
            <p:nvPr/>
          </p:nvSpPr>
          <p:spPr>
            <a:xfrm>
              <a:off x="6877080" y="1989000"/>
              <a:ext cx="188604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Декорированные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крючком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419640" y="4581360"/>
            <a:ext cx="1873080" cy="2114640"/>
            <a:chOff x="3419640" y="4581360"/>
            <a:chExt cx="1873080" cy="2114640"/>
          </a:xfrm>
        </p:grpSpPr>
        <p:pic>
          <p:nvPicPr>
            <p:cNvPr id="201" name="" descr=""/>
            <p:cNvPicPr/>
            <p:nvPr/>
          </p:nvPicPr>
          <p:blipFill>
            <a:blip r:embed="rId7"/>
            <a:stretch/>
          </p:blipFill>
          <p:spPr>
            <a:xfrm>
              <a:off x="3419640" y="5157720"/>
              <a:ext cx="1655640" cy="15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 txBox="1"/>
            <p:nvPr/>
          </p:nvSpPr>
          <p:spPr>
            <a:xfrm>
              <a:off x="3419640" y="4581360"/>
              <a:ext cx="1873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Декорированные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кожей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0" y="1700280"/>
            <a:ext cx="3218040" cy="1908000"/>
            <a:chOff x="0" y="1700280"/>
            <a:chExt cx="3218040" cy="1908000"/>
          </a:xfrm>
        </p:grpSpPr>
        <p:pic>
          <p:nvPicPr>
            <p:cNvPr id="204" name="" descr=""/>
            <p:cNvPicPr/>
            <p:nvPr/>
          </p:nvPicPr>
          <p:blipFill>
            <a:blip r:embed="rId8"/>
            <a:stretch/>
          </p:blipFill>
          <p:spPr>
            <a:xfrm>
              <a:off x="0" y="1700280"/>
              <a:ext cx="190800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 txBox="1"/>
            <p:nvPr/>
          </p:nvSpPr>
          <p:spPr>
            <a:xfrm>
              <a:off x="1332000" y="1916280"/>
              <a:ext cx="18860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Декорирование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налепными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эдементами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 flipH="1" flipV="1">
            <a:off x="3419640" y="1557360"/>
            <a:ext cx="1008000" cy="1008000"/>
          </a:xfrm>
          <a:prstGeom prst="line">
            <a:avLst/>
          </a:prstGeom>
          <a:ln cap="rnd" w="76320">
            <a:solidFill>
              <a:srgbClr val="cc00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35640" y="3789360"/>
            <a:ext cx="1368360" cy="1584360"/>
          </a:xfrm>
          <a:prstGeom prst="line">
            <a:avLst/>
          </a:prstGeom>
          <a:ln cap="rnd" w="76320">
            <a:solidFill>
              <a:srgbClr val="cc00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50920" y="3933720"/>
            <a:ext cx="2500200" cy="2519640"/>
            <a:chOff x="250920" y="3933720"/>
            <a:chExt cx="2500200" cy="2519640"/>
          </a:xfrm>
        </p:grpSpPr>
        <p:pic>
          <p:nvPicPr>
            <p:cNvPr id="209" name="" descr=""/>
            <p:cNvPicPr/>
            <p:nvPr/>
          </p:nvPicPr>
          <p:blipFill>
            <a:blip r:embed="rId9"/>
            <a:stretch/>
          </p:blipFill>
          <p:spPr>
            <a:xfrm>
              <a:off x="250920" y="4365720"/>
              <a:ext cx="105084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0"/>
            <a:stretch/>
          </p:blipFill>
          <p:spPr>
            <a:xfrm>
              <a:off x="1403280" y="4653000"/>
              <a:ext cx="13478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 txBox="1"/>
            <p:nvPr/>
          </p:nvSpPr>
          <p:spPr>
            <a:xfrm>
              <a:off x="684360" y="3933720"/>
              <a:ext cx="16700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Декупированные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вазы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1692360" y="476280"/>
            <a:ext cx="669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cc009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Древние японские керамические ваз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cc009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95280" y="1773360"/>
            <a:ext cx="3887280" cy="4247640"/>
            <a:chOff x="395280" y="1773360"/>
            <a:chExt cx="3887280" cy="4247640"/>
          </a:xfrm>
        </p:grpSpPr>
        <p:pic>
          <p:nvPicPr>
            <p:cNvPr id="216" name="" descr="Так выглядит ранняя керамика Японии"/>
            <p:cNvPicPr/>
            <p:nvPr/>
          </p:nvPicPr>
          <p:blipFill>
            <a:blip r:embed="rId3"/>
            <a:stretch/>
          </p:blipFill>
          <p:spPr>
            <a:xfrm>
              <a:off x="1082880" y="1773360"/>
              <a:ext cx="2954880" cy="38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95280" y="5191920"/>
              <a:ext cx="3887280" cy="8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Древнейшая керам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орнамент из шнура, тонких жгутиков)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787280" y="2133720"/>
            <a:ext cx="3446640" cy="3887280"/>
            <a:chOff x="4787280" y="2133720"/>
            <a:chExt cx="3446640" cy="3887280"/>
          </a:xfrm>
        </p:grpSpPr>
        <p:pic>
          <p:nvPicPr>
            <p:cNvPr id="219" name="" descr="Дзёмон"/>
            <p:cNvPicPr/>
            <p:nvPr/>
          </p:nvPicPr>
          <p:blipFill>
            <a:blip r:embed="rId4"/>
            <a:stretch/>
          </p:blipFill>
          <p:spPr>
            <a:xfrm>
              <a:off x="5769000" y="2133720"/>
              <a:ext cx="2464920" cy="35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787280" y="5439600"/>
              <a:ext cx="26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Эпоха Дзёмон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(с яп. «Дзё»- «верёвка, шнур»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8:03:41Z</dcterms:created>
  <dc:creator>User</dc:creator>
  <dc:description/>
  <dc:language>en-US</dc:language>
  <cp:lastModifiedBy>User</cp:lastModifiedBy>
  <dcterms:modified xsi:type="dcterms:W3CDTF">2012-03-01T18:27:43Z</dcterms:modified>
  <cp:revision>17</cp:revision>
  <dc:subject/>
  <dc:title>Слайд 1</dc:title>
</cp:coreProperties>
</file>