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E47-F586-4BB2-8FAF-30F04E01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BFD-270F-4367-9689-0E963FED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EDE-FA71-4611-AF36-14D19FD1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4A1-7790-44F4-994D-D09C4A96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A05-68B8-4540-976E-B31092B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7B9-2069-41C4-B4B5-823DBE0C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FA7-9AAE-405E-950B-AE602416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1B0-14A1-4391-AE7B-AD959B0F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0E5-B46D-4D81-95C3-704445FD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192-5A97-4D2E-A884-B30BF67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631-3ECA-444E-B57B-DD0C317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D31-4B80-469C-B502-B53C2FC9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3126-AAE9-44F9-9706-AD64EE09B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41520" cy="263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132000" y="2349360"/>
            <a:ext cx="28641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IV ча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1892160" cy="295272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sp>
        <p:nvSpPr>
          <p:cNvPr id="46" name=""/>
          <p:cNvSpPr/>
          <p:nvPr/>
        </p:nvSpPr>
        <p:spPr>
          <a:xfrm>
            <a:off x="900000" y="3789360"/>
            <a:ext cx="470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высыхания сгладить неровности поверхности наждачной мелкозернистой бумаг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Лучше всего при этом пользоваться резиновыми перчатками, чтобы пыль не оседала на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3860640"/>
            <a:ext cx="26208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557360"/>
            <a:ext cx="26172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413000"/>
            <a:ext cx="52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обезжиренную бутылку с помощью шпателя нанести шпатлевку толщиной до 3 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Удобно наносить шпатлев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большим  резиновым шпате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чтобы не поцарапать стеклянную бутыл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56360" y="260280"/>
            <a:ext cx="2052720" cy="273528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sp>
        <p:nvSpPr>
          <p:cNvPr id="51" name=""/>
          <p:cNvSpPr txBox="1"/>
          <p:nvPr/>
        </p:nvSpPr>
        <p:spPr>
          <a:xfrm>
            <a:off x="1187280" y="260280"/>
            <a:ext cx="457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Технолог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декорирования ваз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56360" y="2637000"/>
            <a:ext cx="2441520" cy="313848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sp>
        <p:nvSpPr>
          <p:cNvPr id="55" name=""/>
          <p:cNvSpPr txBox="1"/>
          <p:nvPr/>
        </p:nvSpPr>
        <p:spPr>
          <a:xfrm>
            <a:off x="1042920" y="1628640"/>
            <a:ext cx="26208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557360"/>
            <a:ext cx="58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вести колер нужного отт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Акриловые краски можно разбавлять водой для получения нужной насыщенности кол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1280" y="3933720"/>
            <a:ext cx="26172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860640"/>
            <a:ext cx="52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олнить прорисовку деталей фона акриловыми красками ( голубые горы в перламутровой дымке) в технике свободной рос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С перламутровыми красками надо работать, учитывая, что при высыхании они становятся яр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1341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04000" y="549360"/>
            <a:ext cx="2040120" cy="266364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sp>
        <p:nvSpPr>
          <p:cNvPr id="62" name=""/>
          <p:cNvSpPr txBox="1"/>
          <p:nvPr/>
        </p:nvSpPr>
        <p:spPr>
          <a:xfrm>
            <a:off x="826920" y="620640"/>
            <a:ext cx="3603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76280"/>
            <a:ext cx="54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ложить ветви сакуры из капроновых ниток, обваленных в шпатлевке. Каждую веточку нужно аккуратно прижать к поверхности – шпатлевка «приклеит» 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Делать это нужно осторожно, чтобы не повредить фон. Обратите внимание – ветви сакуры не прямые, а изломанные и узловатые.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4653000"/>
            <a:ext cx="26208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4508640"/>
            <a:ext cx="45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красить ветви после высыхания. Они должны быть тёмно-коричнев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забудьте про светот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435640" y="3645000"/>
            <a:ext cx="3062160" cy="229536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724360" y="4005360"/>
            <a:ext cx="3036960" cy="227808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651640" y="260280"/>
            <a:ext cx="2603520" cy="316872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sp>
        <p:nvSpPr>
          <p:cNvPr id="71" name=""/>
          <p:cNvSpPr/>
          <p:nvPr/>
        </p:nvSpPr>
        <p:spPr>
          <a:xfrm>
            <a:off x="2050920" y="476280"/>
            <a:ext cx="358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клеить декоративные камни для имитации скалистого бере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19280" y="620640"/>
            <a:ext cx="26208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20500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рисовать тонкие веточки для пространственных ощу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920" y="2205000"/>
            <a:ext cx="26172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3789360"/>
            <a:ext cx="504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ластики вылепить цв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них должно быть 5 лепест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Можно цветы не вылепливать, а вырезать с помощью канцелярского ножа или ножниц по предварительно сделанному бумажному шабл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3860640"/>
            <a:ext cx="26208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8:30:32Z</dcterms:created>
  <dc:creator>User</dc:creator>
  <dc:description/>
  <dc:language>en-US</dc:language>
  <cp:lastModifiedBy>User</cp:lastModifiedBy>
  <dcterms:modified xsi:type="dcterms:W3CDTF">2012-03-01T18:42:11Z</dcterms:modified>
  <cp:revision>10</cp:revision>
  <dc:subject/>
  <dc:title>Слайд 1</dc:title>
</cp:coreProperties>
</file>