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6166-EDC4-4809-B48F-823920A60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D712-14ED-4BC5-9A4D-650A5327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6059-5CC2-4C73-9CEC-69D27A82C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B0CD-4224-4469-BA4E-4EA65F386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D5EB-E939-4555-84C6-354A071F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53E5-AF7D-4452-9247-A4A6CC97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80D0-E8CA-4E86-96F9-64501DF5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5CFF-36CE-44C6-B1F5-BCF3A2C9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D853-D987-442D-B1B0-ADE9A069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9A69-FBB3-49A7-836E-73716174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1B5F-B684-4568-9F69-6F88BCEC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2722-6E4C-4FCF-A597-249EB46F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3A74-7AFF-46CE-9218-70CF9C8406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hyperlink" Target="http://fc03.deviantart.net/fs25/f/2008/106/c/c/Cherry_Blossom_Tattoo_by_TheTempestOfNature.jpg" TargetMode="Externa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06520" cy="2492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132000" y="2708280"/>
            <a:ext cx="338472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V час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08040" cy="1628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651640" y="765000"/>
            <a:ext cx="3051000" cy="2289240"/>
          </a:xfrm>
          <a:prstGeom prst="rect">
            <a:avLst/>
          </a:prstGeom>
          <a:ln cap="rnd" w="38160">
            <a:solidFill>
              <a:srgbClr val="cc0099"/>
            </a:solidFill>
            <a:custDash>
              <a:ds d="100000" sp="1000"/>
            </a:custDash>
            <a:miter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443640" y="3357720"/>
            <a:ext cx="2160720" cy="2881080"/>
          </a:xfrm>
          <a:prstGeom prst="rect">
            <a:avLst/>
          </a:prstGeom>
          <a:ln cap="rnd" w="38160">
            <a:solidFill>
              <a:srgbClr val="cc0099"/>
            </a:solidFill>
            <a:custDash>
              <a:ds d="100000" sp="1000"/>
            </a:custDash>
            <a:miter/>
          </a:ln>
        </p:spPr>
      </p:pic>
      <p:sp>
        <p:nvSpPr>
          <p:cNvPr id="47" name=""/>
          <p:cNvSpPr/>
          <p:nvPr/>
        </p:nvSpPr>
        <p:spPr>
          <a:xfrm>
            <a:off x="971640" y="1484280"/>
            <a:ext cx="47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товые цветки запечь в духовке при температуре 130 граду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16000" y="3645000"/>
            <a:ext cx="4556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Цветки приклеить к веткам. Нанести немного клея на них, выдержать 2-3 минуты, и сильно прижать к намеченному мес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Тычинки можно заменить бисером или нарисовать акриловой кра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95280" y="1557360"/>
            <a:ext cx="43164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3789360"/>
            <a:ext cx="43164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1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00000" y="260280"/>
            <a:ext cx="457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Технолог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декорирования ваз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08040" cy="1628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971640" y="1125360"/>
            <a:ext cx="431640" cy="2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219640" y="692280"/>
            <a:ext cx="3024360" cy="2577960"/>
          </a:xfrm>
          <a:prstGeom prst="rect">
            <a:avLst/>
          </a:prstGeom>
          <a:ln cap="rnd" w="38160">
            <a:solidFill>
              <a:srgbClr val="cc0099"/>
            </a:solidFill>
            <a:custDash>
              <a:ds d="100000" sp="1000"/>
            </a:custDash>
            <a:miter/>
          </a:ln>
        </p:spPr>
      </p:pic>
      <p:sp>
        <p:nvSpPr>
          <p:cNvPr id="56" name=""/>
          <p:cNvSpPr txBox="1"/>
          <p:nvPr/>
        </p:nvSpPr>
        <p:spPr>
          <a:xfrm>
            <a:off x="468360" y="2781360"/>
            <a:ext cx="43164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3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95280" y="4869000"/>
            <a:ext cx="43164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4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112536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ля придания сакуре живости прорисовать мелкие цвет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2708280"/>
            <a:ext cx="358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рлышко бутылки задекорировать верёвкой и покрыть её акриловой краск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43120" y="4313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50760" y="4816440"/>
            <a:ext cx="254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крыть изделие лаком и дать ему просохну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140360" y="3860640"/>
            <a:ext cx="3527280" cy="2664000"/>
          </a:xfrm>
          <a:prstGeom prst="rect">
            <a:avLst/>
          </a:prstGeom>
          <a:ln cap="rnd" w="38160">
            <a:solidFill>
              <a:srgbClr val="cc0099"/>
            </a:solidFill>
            <a:custDash>
              <a:ds d="100000" sp="1000"/>
            </a:custDash>
            <a:miter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216000" y="216000"/>
            <a:ext cx="15080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08040" cy="162864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324000" y="1484280"/>
            <a:ext cx="3384360" cy="5184720"/>
            <a:chOff x="324000" y="1484280"/>
            <a:chExt cx="3384360" cy="5184720"/>
          </a:xfrm>
        </p:grpSpPr>
        <p:pic>
          <p:nvPicPr>
            <p:cNvPr id="67" name="" descr=""/>
            <p:cNvPicPr/>
            <p:nvPr/>
          </p:nvPicPr>
          <p:blipFill>
            <a:blip r:embed="rId3"/>
            <a:stretch/>
          </p:blipFill>
          <p:spPr>
            <a:xfrm>
              <a:off x="324000" y="1484280"/>
              <a:ext cx="3384360" cy="518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4"/>
            <a:stretch/>
          </p:blipFill>
          <p:spPr>
            <a:xfrm>
              <a:off x="1576440" y="2544840"/>
              <a:ext cx="1860480" cy="247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"/>
          <p:cNvSpPr/>
          <p:nvPr/>
        </p:nvSpPr>
        <p:spPr>
          <a:xfrm>
            <a:off x="3924360" y="1773360"/>
            <a:ext cx="496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овое решение вазы гармонирует с картиной в интерье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бота выполнена аккуратно и соответствует замыс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целом изделие получилось экологически чистым и экономически выгод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763640" y="260280"/>
            <a:ext cx="5419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Анализ готовой работ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484360" y="1052640"/>
            <a:ext cx="5140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Ваза отвечает следующим требованиям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08040" cy="162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395280" y="549360"/>
          <a:ext cx="8229600" cy="5236920"/>
        </p:xfrm>
        <a:graphic>
          <a:graphicData uri="http://schemas.openxmlformats.org/drawingml/2006/table">
            <a:tbl>
              <a:tblPr/>
              <a:tblGrid>
                <a:gridCol w="2519280"/>
                <a:gridCol w="1728720"/>
                <a:gridCol w="1800360"/>
                <a:gridCol w="2181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 за 1 ш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тылка стеклянн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стая та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елось в налич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патлев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 г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руб за 1кг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елось в наличи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риловые краски (гуашь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цветов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руб  за набор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елось в налич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сти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цвет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ру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елось в налич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а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-150гр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руб за 1 лит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елось в налич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меш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шт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ру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елось в налич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се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пакетик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руб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елось в налич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ль-клей «Момент»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руб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елось в налич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проновая верёвк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 метр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руб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елось в налич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1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1 руб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1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 материальных затра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1ff"/>
                    </a:solidFill>
                  </a:tcPr>
                </a:tc>
              </a:tr>
            </a:tbl>
          </a:graphicData>
        </a:graphic>
      </p:graphicFrame>
      <p:sp>
        <p:nvSpPr>
          <p:cNvPr id="75" name=""/>
          <p:cNvSpPr txBox="1"/>
          <p:nvPr/>
        </p:nvSpPr>
        <p:spPr>
          <a:xfrm>
            <a:off x="1763640" y="189000"/>
            <a:ext cx="6058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Экономическое обоснование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8560" y="5769000"/>
            <a:ext cx="87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обная ваза в магазине стоит от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600ру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Ручная работа гораздо дорож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8760" y="6099120"/>
            <a:ext cx="592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Себестоимость издел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аза получилась без каких-либо материальных затра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41720" cy="2421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3635280" y="1197000"/>
            <a:ext cx="2548080" cy="4824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1763640" y="404640"/>
            <a:ext cx="646740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ccff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В декоре моей вазы нет случайностей</a:t>
            </a:r>
            <a:endParaRPr b="1" lang="en-US" sz="2800" spc="1" strike="noStrike">
              <a:ln w="9360">
                <a:solidFill>
                  <a:srgbClr val="ffccff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00720" y="206064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Горный пейзаж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неотъемлемая часть ландшафта Япони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4149720"/>
            <a:ext cx="345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66"/>
                </a:solidFill>
                <a:latin typeface="Arial"/>
              </a:rPr>
              <a:t>Камн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главная составляющая японской почвы. Они символизируют энергию Янь – мужскую энерг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249228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66"/>
                </a:solidFill>
                <a:latin typeface="Arial"/>
              </a:rPr>
              <a:t>Изображение сакур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Японии ассоциируется с женской красотой, ю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любов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609300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Верёвк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используются японцами с древних времён для декорирования керамических сосуд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4508640"/>
            <a:ext cx="275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66"/>
                </a:solidFill>
                <a:latin typeface="Arial"/>
              </a:rPr>
              <a:t>Вод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символ женской энергии И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43280" y="3357720"/>
            <a:ext cx="2016000" cy="1008000"/>
          </a:xfrm>
          <a:prstGeom prst="line">
            <a:avLst/>
          </a:prstGeom>
          <a:ln w="12600">
            <a:solidFill>
              <a:srgbClr val="cc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2000" y="5084640"/>
            <a:ext cx="1511280" cy="576360"/>
          </a:xfrm>
          <a:prstGeom prst="line">
            <a:avLst/>
          </a:prstGeom>
          <a:ln w="12600">
            <a:solidFill>
              <a:srgbClr val="cc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932000" y="4869000"/>
            <a:ext cx="1368360" cy="504720"/>
          </a:xfrm>
          <a:prstGeom prst="line">
            <a:avLst/>
          </a:prstGeom>
          <a:ln w="12600">
            <a:solidFill>
              <a:srgbClr val="cc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508720" y="2781360"/>
            <a:ext cx="792000" cy="1511280"/>
          </a:xfrm>
          <a:prstGeom prst="line">
            <a:avLst/>
          </a:prstGeom>
          <a:ln w="12600">
            <a:solidFill>
              <a:srgbClr val="cc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08040" cy="1628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95280" y="285264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Фантазия и смелость - вот и все, что требуется для создания такой великолепной вазы, которая может стать оригинальным элементом декора интерьера или эксклюзивным подарком на любой праздн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476360" y="981000"/>
            <a:ext cx="6697800" cy="11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cc0066"/>
                    </a:gs>
                    <a:gs pos="50000">
                      <a:srgbClr val="ffccff"/>
                    </a:gs>
                    <a:gs pos="100000">
                      <a:srgbClr val="cc0066"/>
                    </a:gs>
                  </a:gsLst>
                  <a:lin ang="5400000"/>
                </a:gradFill>
                <a:latin typeface="Times New Roman"/>
              </a:rPr>
              <a:t>Реклама</a:t>
            </a:r>
            <a:endParaRPr b="1" lang="en-US" sz="1800" spc="1" strike="noStrike"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cc0066"/>
                  </a:gs>
                  <a:gs pos="50000">
                    <a:srgbClr val="ffccff"/>
                  </a:gs>
                  <a:gs pos="100000">
                    <a:srgbClr val="cc00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08040" cy="1628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87280" y="836640"/>
            <a:ext cx="7705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ировая художественная культура: Учеб. пособие /Колл. авт.: Б.А. Эренгросс, В.Р. Арсеньев, Н.Н. Воробьев и др.; Под. ред. Б.А. Эренгросс/ - М.: Высшая школа, 2001. - 767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Данилова Г.И. МХК 7-8 кл.-М.: Издательский Дом Магистр-Пресс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Искусство Японии Надежда Виноградова Издательство "Белый город" www.artbatik.ru/gal-pan-flo-0003.ht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Рыбаков Б. А. Язычество древних славян historic.ru/books/.../z00000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 u="sng">
                <a:solidFill>
                  <a:srgbClr val="800000"/>
                </a:solidFill>
                <a:uFillTx/>
                <a:latin typeface="Times New Roman"/>
              </a:rPr>
              <a:t>Интернет-ресур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http://images.goole.ru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http://visaginart.nm.ru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http://culture.mincult.ru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http:/w.w.w.anabarsis.ru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http://aeterna.qip.ru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http://ru.wikipedia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http://stranamasterov.ru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771640" y="189000"/>
            <a:ext cx="381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Литерату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41720" cy="2421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Картинка 37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05360" y="2897280"/>
            <a:ext cx="3338640" cy="3960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 rot="21006000">
            <a:off x="1004400" y="1631520"/>
            <a:ext cx="6985080" cy="214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cap="rnd" w="28440">
                  <a:solidFill>
                    <a:srgbClr val="cc0099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ff99cc"/>
                    </a:gs>
                    <a:gs pos="50000">
                      <a:srgbClr val="cc0099"/>
                    </a:gs>
                    <a:gs pos="100000">
                      <a:srgbClr val="ff99cc"/>
                    </a:gs>
                  </a:gsLst>
                  <a:lin ang="5994000"/>
                </a:gradFill>
                <a:effectLst>
                  <a:outerShdw dist="40186" dir="1096358" blurRad="0" rotWithShape="0">
                    <a:srgbClr val="ff99cc"/>
                  </a:outerShdw>
                </a:effectLst>
                <a:latin typeface="Times New Roman"/>
              </a:rPr>
              <a:t>Благодарю за внимание!</a:t>
            </a:r>
            <a:endParaRPr b="1" lang="en-US" sz="4000" spc="1" strike="noStrike">
              <a:ln cap="rnd" w="28440">
                <a:solidFill>
                  <a:srgbClr val="cc0099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ff99cc"/>
                  </a:gs>
                  <a:gs pos="50000">
                    <a:srgbClr val="cc0099"/>
                  </a:gs>
                  <a:gs pos="100000">
                    <a:srgbClr val="ff99cc"/>
                  </a:gs>
                </a:gsLst>
                <a:lin ang="5994000"/>
              </a:gradFill>
              <a:effectLst>
                <a:outerShdw dist="40186" dir="1096358" blurRad="0" rotWithShape="0">
                  <a:srgbClr val="ff99cc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1T18:46:36Z</dcterms:created>
  <dc:creator>User</dc:creator>
  <dc:description/>
  <dc:language>en-US</dc:language>
  <cp:lastModifiedBy>User</cp:lastModifiedBy>
  <dcterms:modified xsi:type="dcterms:W3CDTF">2012-03-01T19:00:18Z</dcterms:modified>
  <cp:revision>15</cp:revision>
  <dc:subject/>
  <dc:title>Слайд 1</dc:title>
</cp:coreProperties>
</file>