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5BF-1958-49D2-B026-396160D8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AD9-3517-4285-8BC9-18B3B96E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13D-125D-4D8A-8185-A055C452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9BD-0C21-4D8C-8346-44E47CED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1B7-B340-469C-85D6-AE0A0A21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A7D-CE23-44D1-A03A-645897FD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2D5-15E0-426E-851D-600D7192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7EE-A282-448E-95D5-61DBDC0F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5FC-77D8-4E43-AD48-BFB381DD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6DB-E7C3-43EA-9C0C-3F5602C9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83B-A30E-4AAB-8EBC-689D7CDF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7E8-7CB8-4842-93B3-95035D9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E196-C96D-4C4F-8D09-8437E5AFF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colormondays.ru/system/0000/6040/plastika_sonet_fluor.jpg?1283332589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http://www.sima-land.ru/images/photo/big/415366.jpg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img.buzznet.com/assets/imgx/9/7/5/4/9/2/1/orig-9754921.jpg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dic.academic.ru/pictures/wiki/files/83/Seedbeads.jpg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ufa-r.ru/img/000116_b.jpg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carandash.ru/shop/published/publicdata/ARTCAR10SHOP/attachments/SC/products_pictures/decola6_enl.jpg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www.fabrics.ru/images/gamma/4/5/g5010100277.jpg" TargetMode="External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jpeg"/><Relationship Id="rId2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gi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nevskayapalitra.ru/content/files/catalog1/source/7_1_219_8135.jpg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5.png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www.grt.ru/components/com_virtuemart/shop_image/product/c09607.jpg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4880" cy="299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16360" y="2421000"/>
            <a:ext cx="29797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III ча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81440" y="3500280"/>
            <a:ext cx="2386080" cy="1795320"/>
            <a:chOff x="181440" y="3500280"/>
            <a:chExt cx="2386080" cy="1795320"/>
          </a:xfrm>
        </p:grpSpPr>
        <p:sp>
          <p:nvSpPr>
            <p:cNvPr id="46" name=""/>
            <p:cNvSpPr/>
            <p:nvPr/>
          </p:nvSpPr>
          <p:spPr>
            <a:xfrm>
              <a:off x="181440" y="4653000"/>
              <a:ext cx="238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олимерная глин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пластика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Картинка 48 из 10336">
              <a:hlinkClick r:id="rId3"/>
            </p:cNvPr>
            <p:cNvPicPr/>
            <p:nvPr/>
          </p:nvPicPr>
          <p:blipFill>
            <a:blip r:embed="rId4"/>
            <a:srcRect l="3792" t="15087" r="5499" b="22545"/>
            <a:stretch/>
          </p:blipFill>
          <p:spPr>
            <a:xfrm>
              <a:off x="826920" y="3500280"/>
              <a:ext cx="1584360" cy="10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539640" y="1413000"/>
            <a:ext cx="1381320" cy="1900080"/>
            <a:chOff x="539640" y="1413000"/>
            <a:chExt cx="1381320" cy="1900080"/>
          </a:xfrm>
        </p:grpSpPr>
        <p:pic>
          <p:nvPicPr>
            <p:cNvPr id="49" name="" descr="image"/>
            <p:cNvPicPr/>
            <p:nvPr/>
          </p:nvPicPr>
          <p:blipFill>
            <a:blip r:embed="rId5"/>
            <a:stretch/>
          </p:blipFill>
          <p:spPr>
            <a:xfrm>
              <a:off x="539640" y="1413000"/>
              <a:ext cx="138132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38000" y="2944800"/>
              <a:ext cx="57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700360" y="2492280"/>
            <a:ext cx="3313080" cy="1224000"/>
            <a:chOff x="2700360" y="2492280"/>
            <a:chExt cx="3313080" cy="1224000"/>
          </a:xfrm>
        </p:grpSpPr>
        <p:sp>
          <p:nvSpPr>
            <p:cNvPr id="52" name=""/>
            <p:cNvSpPr/>
            <p:nvPr/>
          </p:nvSpPr>
          <p:spPr>
            <a:xfrm>
              <a:off x="2700360" y="2492280"/>
              <a:ext cx="3313080" cy="12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987640" y="2708280"/>
              <a:ext cx="2790720" cy="73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top">
                <a:avLst>
                  <a:gd name="adj" fmla="val 12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Материалы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069800" y="4581360"/>
            <a:ext cx="1523520" cy="1663920"/>
            <a:chOff x="4069800" y="4581360"/>
            <a:chExt cx="1523520" cy="1663920"/>
          </a:xfrm>
        </p:grpSpPr>
        <p:pic>
          <p:nvPicPr>
            <p:cNvPr id="55" name="" descr=""/>
            <p:cNvPicPr/>
            <p:nvPr/>
          </p:nvPicPr>
          <p:blipFill>
            <a:blip r:embed="rId6"/>
            <a:srcRect l="8454" t="12586" r="7392" b="9304"/>
            <a:stretch/>
          </p:blipFill>
          <p:spPr>
            <a:xfrm>
              <a:off x="4140360" y="4581360"/>
              <a:ext cx="11523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069800" y="587700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Шпатлё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153760" y="260280"/>
            <a:ext cx="3716280" cy="1936800"/>
            <a:chOff x="5153760" y="260280"/>
            <a:chExt cx="3716280" cy="1936800"/>
          </a:xfrm>
        </p:grpSpPr>
        <p:pic>
          <p:nvPicPr>
            <p:cNvPr id="58" name="" descr="Картинка 19 из 1368">
              <a:hlinkClick r:id="rId7"/>
            </p:cNvPr>
            <p:cNvPicPr/>
            <p:nvPr/>
          </p:nvPicPr>
          <p:blipFill>
            <a:blip r:embed="rId8"/>
            <a:srcRect l="13210" t="9252" r="11169" b="7258"/>
            <a:stretch/>
          </p:blipFill>
          <p:spPr>
            <a:xfrm>
              <a:off x="6156360" y="836280"/>
              <a:ext cx="1511280" cy="13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153760" y="260280"/>
              <a:ext cx="371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екоративный камен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ло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565800" y="476280"/>
            <a:ext cx="1828440" cy="1655280"/>
            <a:chOff x="3565800" y="476280"/>
            <a:chExt cx="1828440" cy="1655280"/>
          </a:xfrm>
        </p:grpSpPr>
        <p:pic>
          <p:nvPicPr>
            <p:cNvPr id="61" name="" descr="Картинка 1 из 64000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780000" y="476280"/>
              <a:ext cx="11919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565800" y="169992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Бис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Картинка 8 из 64000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572000" y="1196640"/>
              <a:ext cx="822240" cy="93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901080" y="5013360"/>
            <a:ext cx="2662920" cy="1520640"/>
            <a:chOff x="901080" y="5013360"/>
            <a:chExt cx="2662920" cy="1520640"/>
          </a:xfrm>
        </p:grpSpPr>
        <p:pic>
          <p:nvPicPr>
            <p:cNvPr id="65" name="" descr="Картинка 1 из 640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1908000" y="5013360"/>
              <a:ext cx="16560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1080" y="6165720"/>
              <a:ext cx="25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апроновая верё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012000" y="4581360"/>
            <a:ext cx="2961360" cy="1952640"/>
            <a:chOff x="6012000" y="4581360"/>
            <a:chExt cx="2961360" cy="1952640"/>
          </a:xfrm>
        </p:grpSpPr>
        <p:pic>
          <p:nvPicPr>
            <p:cNvPr id="68" name="" descr="Картинка 22 из 4379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6012000" y="4581360"/>
              <a:ext cx="1728720" cy="14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Картинка 11 из 4379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7667640" y="501336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Картинка 87 из 4379"/>
            <p:cNvPicPr/>
            <p:nvPr/>
          </p:nvPicPr>
          <p:blipFill>
            <a:blip r:embed="rId19"/>
            <a:srcRect l="0" t="44826" r="31907" b="0"/>
            <a:stretch/>
          </p:blipFill>
          <p:spPr>
            <a:xfrm>
              <a:off x="6659640" y="5300640"/>
              <a:ext cx="9349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735240" y="616572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Акриловая крас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443640" y="3500280"/>
            <a:ext cx="2283120" cy="1089000"/>
            <a:chOff x="6443640" y="3500280"/>
            <a:chExt cx="2283120" cy="1089000"/>
          </a:xfrm>
        </p:grpSpPr>
        <p:pic>
          <p:nvPicPr>
            <p:cNvPr id="73" name="" descr=""/>
            <p:cNvPicPr/>
            <p:nvPr/>
          </p:nvPicPr>
          <p:blipFill>
            <a:blip r:embed="rId20"/>
            <a:stretch/>
          </p:blipFill>
          <p:spPr>
            <a:xfrm>
              <a:off x="6443640" y="3500280"/>
              <a:ext cx="15858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814520" y="42210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Гуаш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04680" y="1131120"/>
            <a:ext cx="3022560" cy="2301480"/>
            <a:chOff x="6304680" y="1131120"/>
            <a:chExt cx="3022560" cy="2301480"/>
          </a:xfrm>
        </p:grpSpPr>
        <p:pic>
          <p:nvPicPr>
            <p:cNvPr id="76" name="" descr="Универсальный клей Момент Гель прозрачный"/>
            <p:cNvPicPr/>
            <p:nvPr/>
          </p:nvPicPr>
          <p:blipFill>
            <a:blip r:embed="rId21"/>
            <a:stretch/>
          </p:blipFill>
          <p:spPr>
            <a:xfrm rot="2976000">
              <a:off x="7482960" y="1273680"/>
              <a:ext cx="13064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304680" y="299556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Гель-клей «Момент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60320" y="189000"/>
            <a:ext cx="2764080" cy="2230200"/>
            <a:chOff x="760320" y="189000"/>
            <a:chExt cx="2764080" cy="2230200"/>
          </a:xfrm>
        </p:grpSpPr>
        <p:pic>
          <p:nvPicPr>
            <p:cNvPr id="79" name="" descr="Картинка 498 из 3368"/>
            <p:cNvPicPr/>
            <p:nvPr/>
          </p:nvPicPr>
          <p:blipFill>
            <a:blip r:embed="rId22"/>
            <a:stretch/>
          </p:blipFill>
          <p:spPr>
            <a:xfrm>
              <a:off x="2268360" y="476280"/>
              <a:ext cx="55404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60320" y="189000"/>
              <a:ext cx="276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Бутылка стеклянна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64000" y="191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569600" y="138240"/>
            <a:ext cx="2665800" cy="2620800"/>
            <a:chOff x="1569600" y="138240"/>
            <a:chExt cx="2665800" cy="2620800"/>
          </a:xfrm>
        </p:grpSpPr>
        <p:pic>
          <p:nvPicPr>
            <p:cNvPr id="85" name="" descr="Картинка 44 из 1126"/>
            <p:cNvPicPr/>
            <p:nvPr/>
          </p:nvPicPr>
          <p:blipFill>
            <a:blip r:embed="rId3"/>
            <a:stretch/>
          </p:blipFill>
          <p:spPr>
            <a:xfrm rot="1641600">
              <a:off x="1907640" y="476280"/>
              <a:ext cx="19447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3800" y="549360"/>
              <a:ext cx="25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Резак канцелярски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003640" y="333360"/>
            <a:ext cx="3692520" cy="1376280"/>
            <a:chOff x="5003640" y="333360"/>
            <a:chExt cx="3692520" cy="1376280"/>
          </a:xfrm>
        </p:grpSpPr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5003640" y="333360"/>
              <a:ext cx="19447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086160" y="134136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Резиновый шп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278760" y="1127520"/>
            <a:ext cx="2759040" cy="2803320"/>
            <a:chOff x="6278760" y="1127520"/>
            <a:chExt cx="2759040" cy="280332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 rot="2493600">
              <a:off x="6804000" y="1413000"/>
              <a:ext cx="17082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736680" y="314172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исть для ла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7480" y="4131360"/>
            <a:ext cx="4352040" cy="2464920"/>
            <a:chOff x="447480" y="4131360"/>
            <a:chExt cx="4352040" cy="2464920"/>
          </a:xfrm>
        </p:grpSpPr>
        <p:grpSp>
          <p:nvGrpSpPr>
            <p:cNvPr id="94" name=""/>
            <p:cNvGrpSpPr/>
            <p:nvPr/>
          </p:nvGrpSpPr>
          <p:grpSpPr>
            <a:xfrm>
              <a:off x="447480" y="4131360"/>
              <a:ext cx="3692520" cy="2464920"/>
              <a:chOff x="447480" y="4131360"/>
              <a:chExt cx="3692520" cy="2464920"/>
            </a:xfrm>
          </p:grpSpPr>
          <p:pic>
            <p:nvPicPr>
              <p:cNvPr id="95" name="" descr=""/>
              <p:cNvPicPr/>
              <p:nvPr/>
            </p:nvPicPr>
            <p:blipFill>
              <a:blip r:embed="rId6"/>
              <a:stretch/>
            </p:blipFill>
            <p:spPr>
              <a:xfrm rot="13818000">
                <a:off x="1479960" y="3856680"/>
                <a:ext cx="701280" cy="301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42840" y="5155200"/>
                <a:ext cx="2297160" cy="52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2558520" y="5950080"/>
              <a:ext cx="224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исти для кра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88680" y="3926520"/>
            <a:ext cx="2315880" cy="2463120"/>
            <a:chOff x="6088680" y="3926520"/>
            <a:chExt cx="2315880" cy="2463120"/>
          </a:xfrm>
        </p:grpSpPr>
        <p:pic>
          <p:nvPicPr>
            <p:cNvPr id="99" name="" descr="Картинка 27 из 2017"/>
            <p:cNvPicPr/>
            <p:nvPr/>
          </p:nvPicPr>
          <p:blipFill>
            <a:blip r:embed="rId8"/>
            <a:stretch/>
          </p:blipFill>
          <p:spPr>
            <a:xfrm rot="2697000">
              <a:off x="6587640" y="4149360"/>
              <a:ext cx="12556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088680" y="60213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Наждачная бума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0920" y="2133720"/>
            <a:ext cx="2016000" cy="2168280"/>
            <a:chOff x="250920" y="2133720"/>
            <a:chExt cx="2016000" cy="2168280"/>
          </a:xfrm>
        </p:grpSpPr>
        <p:pic>
          <p:nvPicPr>
            <p:cNvPr id="102" name="Picture 13" descr="ножн-ан"/>
            <p:cNvPicPr/>
            <p:nvPr/>
          </p:nvPicPr>
          <p:blipFill>
            <a:blip r:embed="rId9"/>
            <a:stretch/>
          </p:blipFill>
          <p:spPr>
            <a:xfrm>
              <a:off x="250920" y="2133720"/>
              <a:ext cx="201600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2360" y="393372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Ножн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27280" y="2565360"/>
            <a:ext cx="3529080" cy="1368360"/>
            <a:chOff x="2627280" y="2565360"/>
            <a:chExt cx="3529080" cy="1368360"/>
          </a:xfrm>
        </p:grpSpPr>
        <p:sp>
          <p:nvSpPr>
            <p:cNvPr id="105" name=""/>
            <p:cNvSpPr/>
            <p:nvPr/>
          </p:nvSpPr>
          <p:spPr>
            <a:xfrm>
              <a:off x="2627280" y="2565360"/>
              <a:ext cx="3529080" cy="136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914560" y="2854440"/>
              <a:ext cx="300672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top">
                <a:avLst>
                  <a:gd name="adj" fmla="val 12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Инструменты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835280" y="189000"/>
            <a:ext cx="5472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Техника безопасно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41360"/>
            <a:ext cx="390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 работе со шпатлевк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должна быть чистой, сухой и обезжир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бегать конт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а с пищ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также остерег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го попадания в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1197000"/>
            <a:ext cx="379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 работе с акриловыми краск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ливать в канализацию и водо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тилизиров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быт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опадании в глаза промыть в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149720"/>
            <a:ext cx="51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 работе с ножниц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ть ножницы сомкнутыми лезвиями от себя с правой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ть хорошо отрегулированными и заточенными нож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ть ножницы только по на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87 из 4379">
            <a:hlinkClick r:id="rId3"/>
          </p:cNvPr>
          <p:cNvPicPr/>
          <p:nvPr/>
        </p:nvPicPr>
        <p:blipFill>
          <a:blip r:embed="rId4"/>
          <a:srcRect l="0" t="44826" r="31907" b="0"/>
          <a:stretch/>
        </p:blipFill>
        <p:spPr>
          <a:xfrm>
            <a:off x="6948360" y="1989000"/>
            <a:ext cx="1152720" cy="1149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rcRect l="8454" t="12586" r="7392" b="9304"/>
          <a:stretch/>
        </p:blipFill>
        <p:spPr>
          <a:xfrm>
            <a:off x="2916360" y="2133720"/>
            <a:ext cx="1584360" cy="155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ножн-ан"/>
          <p:cNvPicPr/>
          <p:nvPr/>
        </p:nvPicPr>
        <p:blipFill>
          <a:blip r:embed="rId6"/>
          <a:stretch/>
        </p:blipFill>
        <p:spPr>
          <a:xfrm>
            <a:off x="5003640" y="4349880"/>
            <a:ext cx="16560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1052640"/>
            <a:ext cx="3059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 работе с канцелярским нож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анить нож с закрытым лез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работать тупым и неисправным но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   держать нож  лезвием ввер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работе подкладывать дощечку, чтобы не повредить поверхность ст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557360"/>
            <a:ext cx="3764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 работе с пластикой (полимерной глиной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пластики используйте отдельный но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пластики желательно покрыть ла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стика безопасна при соприкосновении с рук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она не должна попа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рганизм, поэт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щательно мойте руки посл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имательно следите за температурой, при которой запекается пластика, ни в коем случае не давайте ей запекаться при повышенной темпер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732720" y="3357720"/>
            <a:ext cx="2307960" cy="173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659640" y="1484280"/>
            <a:ext cx="1616040" cy="1616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Картинка 44 из 1126">
            <a:hlinkClick r:id="rId5"/>
          </p:cNvPr>
          <p:cNvPicPr/>
          <p:nvPr/>
        </p:nvPicPr>
        <p:blipFill>
          <a:blip r:embed="rId6"/>
          <a:stretch/>
        </p:blipFill>
        <p:spPr>
          <a:xfrm rot="399000">
            <a:off x="899640" y="4220640"/>
            <a:ext cx="1986120" cy="1986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835280" y="189000"/>
            <a:ext cx="5472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Техника безопасно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8:06:39Z</dcterms:created>
  <dc:creator>User</dc:creator>
  <dc:description/>
  <dc:language>en-US</dc:language>
  <cp:lastModifiedBy>User</cp:lastModifiedBy>
  <dcterms:modified xsi:type="dcterms:W3CDTF">2012-03-01T18:28:29Z</dcterms:modified>
  <cp:revision>7</cp:revision>
  <dc:subject/>
  <dc:title>Слайд 1</dc:title>
</cp:coreProperties>
</file>