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6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16C-C97B-40DA-9BDF-A2216078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B4A-935A-488B-827E-0095731D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E20-297E-4252-935D-D2C9B2AF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572-FA16-4B0C-96F6-DED8C290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638F-0AFD-4E17-986E-6CC40B08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8465-9EE7-46AF-9E5E-320C71BF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9F71-D344-4267-BCD8-7063FD69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4371-810B-4977-A5F1-64898B3F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C580-5693-4070-BC0D-2171E9FD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E5CF-698F-41D1-8D05-3CA2B17F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118F-D79E-41C9-AC67-81A21BE0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F68-2A18-424B-AF73-2BAC495D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53FC-F4FF-486C-9A6C-099A8A9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DD34-DEEE-44CF-884C-C04E449D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4EF7-1AE9-4753-997B-F3B216D3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E981-BF35-4FDE-A465-CB7C98F9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1FF3-6BE5-4E1C-B6F2-5158DEAE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BBD-C5BE-44A7-8F37-E5EFFF3D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9AE-72F3-4D47-A33C-DD018C1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12D-FB81-42B7-91AD-AD548614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5CA-8CBA-42EE-AA15-54D1C9CC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227-48C8-4506-A062-A4FF646F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346-8405-4F01-B0C7-09336EB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3E5-EAFC-41B3-B69F-E66C7474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91CD-03FC-443E-82CB-30B6A65B6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F326-A395-4B6E-A0B4-B334E37C9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eksii-skala.narod.ru/images/a02b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aleksii-skala.narod.ru/images/page52b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eksii-skala.narod.ru/images/a04b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aleksii-skala.narod.ru/images/a05b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eksii-skala.narod.ru/images/a06b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aleksii-skala.narod.ru/images/a07b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%DE%F0%EE%E4%F1%F2%E2%EE#cite_note-0" TargetMode="External"/><Relationship Id="rId3" Type="http://schemas.openxmlformats.org/officeDocument/2006/relationships/hyperlink" Target="http://ru.wikipedia.org/wiki/%DE%F0%EE%E4%F1%F2%E2%EE#cite_note-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eksii-skala.narod.ru/images/a01b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-nikolas.orthodoxy.ru/ikons/serafim_sarovskiy_chich_bi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5733720"/>
            <a:ext cx="2808360" cy="8161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763- 18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Святой  блаженный Андрей, симбирский Христа ради юродивый"/>
          <p:cNvPicPr/>
          <p:nvPr/>
        </p:nvPicPr>
        <p:blipFill>
          <a:blip r:embed="rId2"/>
          <a:stretch/>
        </p:blipFill>
        <p:spPr>
          <a:xfrm>
            <a:off x="468360" y="333360"/>
            <a:ext cx="4032360" cy="525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932360" y="836640"/>
            <a:ext cx="38386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дрей Блаженный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юродивый земли Симбирск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4896000" y="530064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городников Андрей Иль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ила старца долгое время была местом паломничества симбирян. Но после революции, в конце 20-х - начале 30-х годов, Покровский монастырь и его собор были разрушены, могильные памятники повергнуты и разбиты. Та же участь постигла и место последнего упокоения блаженного Андрея. Разбив богатый памятник, новоявленные вандалы проникли внутрь склепа, вскрыли захоронение старца в надежде обнаружить сокровища, но, не найдя ничего, кроме нательного креста, в ярости разорили могилу, осквернили прах Андрея Ильича, и, вылезши из склепа, обрушили его свод внутрь. Затем остатками стен разрушенного собора, битым кирпичом, щебнем и кусками штукатурки склеп был засыпан полностью, а в последствии скрыт под асфальтовой дорожко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Вид на Покровский мужской монастырь. Над монастырской стеной видны золоченые главки часовни над могилой блаженного Андрея - указаны стрелкой. (с акварели XIX в.). Ульяновск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3527280" cy="525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Благовещенский собор Покровского мужского монастыря, у стен которого был погребен святой  блаженный Андрей. Ульяновск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33360"/>
            <a:ext cx="4032360" cy="5256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5950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Покровский мужской монасты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5805360"/>
            <a:ext cx="36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Благовещенский собор Покровского монастыря. У стен которого был похоронен Огородников А.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876640"/>
            <a:ext cx="76327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Обретение мощей святого блаженного Андрея  3 июня 1998 год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777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жия Милость была явлена Андрею Ильичу и на сей раз. За полчаса до начала панихиды небо заволокло тучами и неожиданно хлынул ливень с градом. Конца ему, казалось, не будет. Но едва гроб с мощами старца был принят на руки священством из машины, доставившей его к месту погребения, дождь сразу стих и засияло яркое солнц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всей панихиды и погребения небесное светило согревало своими лучами это благодатное место. Едва был установлен крест на могиле и после краткой заупокойной литии народ Божий стал расходиться, вновь сошлись тучи, и пошел дождь. Это событие еще раз подтвердило уверенность людей в святости стар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Крестный ход с гробом блаженного к месту его упокоения. 8 сентября 1991 года. Ульяновск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33360"/>
            <a:ext cx="3743280" cy="5759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Симбирск. Погребение мощей Блаженного Андрея на территории бывшего Покровского монастыря (ныне сквер им .И. Н. Ульянова) 8 сентября 1991г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333360"/>
            <a:ext cx="3672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Установка креста над погребением старца 8 сентября 1991г. Ульяновск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60280"/>
            <a:ext cx="3598920" cy="583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Могила Блаженного Андрея. Ульяновск (вид могилы с 8.09.1991 по 3.06.1998 г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260280"/>
            <a:ext cx="3888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4360" y="1197000"/>
            <a:ext cx="62276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числен к лику местночтимых святых - 199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 лику святых РПЦ- 200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 "/>
          <p:cNvPicPr/>
          <p:nvPr/>
        </p:nvPicPr>
        <p:blipFill>
          <a:blip r:embed="rId2"/>
          <a:stretch/>
        </p:blipFill>
        <p:spPr>
          <a:xfrm>
            <a:off x="5508720" y="2852640"/>
            <a:ext cx="324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5406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годня же непрестанно идут и идут к Блаженному люди, преклоняют колени пред его честными останками, просят его о заступничестве и помощи. Не только жители нашего города и области прибегают к предстательству симбирского святого. Приезжают к нему и группы паломников из многих мест необъятной России - матушки; за помощью к нему обращаются и верующие из Москвы, Санкт-Петербурга, Самары, Чувашии, из-за Урала - из всех тех городов и весей, куда народная молва разнесла весть о нашем праведнике. Многочисленные случаи чудесной помощи святого Андрея по его предстательству у Престола Божия за верующих православных, исцеления, которые свершились у раки его мощей, стали истинными свидетельствами богоотмеченности и богоизбранности нашего святого.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Ежедневно у святых мощей праведника во Всесвятском храме читается акафист Блаженному и совершается водосвятный молебен. А в день воскресный на вечерне, после чтения акафиста Всем Святым, рака Святого Андрея открывается и многие сотни приходящих в этот день в храм молящихся прикладываются к многоцелебным мощам праведника, а затем помазуются освященным елеем - тем самым, которым были омыты мощи святого после их обре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-6 сент. 1991 по инициативе Ульяновской епархии произведено вскрытие склепа, идентификация и повторное захоронение праха Андрея Блаженного. На могиле были установлены крест и часовня. В 1998 по благословению Патриарха Алексия II канонизирован и причислен к лику местночтимых святых, в 2004 переведен в статус святого Русской Православной церкви. Рака с мощами А.Б. находится в храме Всех Святых (ул. Минаев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Юрод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Юро́дство (от слав. «оуродъ», «юродъ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[1]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 — дурак, безумный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[2]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) — намеренное старание казаться глупым, безумным.[3] В православии юродивые — слой странствующих монахов и религиозных подвижников.[4] Целями мнимого безумия (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юродства Христа рад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) объявляются обличение внешних мирских ценностей, сокрытие собственных добродетелей и навлечение на себя поношений и оскорблений[5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661000" y="1052640"/>
            <a:ext cx="3282840" cy="540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24360" y="5805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36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рам Всех Свят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624720" cy="4416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нутренне убранство хра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4775040" cy="305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4321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ка с мощами блаженного Андре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6072120" cy="35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435640" y="4149720"/>
            <a:ext cx="35290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983040" cy="4392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0" y="2060640"/>
            <a:ext cx="39765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039840" cy="3384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00720" y="333360"/>
            <a:ext cx="4200480" cy="280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042920" y="3645000"/>
            <a:ext cx="2998800" cy="30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524720" y="2708280"/>
            <a:ext cx="1200240" cy="1733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292720" y="2852640"/>
            <a:ext cx="20955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5640" y="558972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дгорная слобода г. Симбирск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есто жительства Огородникова А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6000" y="228600"/>
            <a:ext cx="3528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з мещ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2708280"/>
            <a:ext cx="756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ство свят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3636000" y="1556280"/>
            <a:ext cx="115272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9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4869000"/>
            <a:ext cx="208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д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та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8905200">
            <a:off x="1476000" y="4365720"/>
            <a:ext cx="1079640" cy="358560"/>
          </a:xfrm>
          <a:prstGeom prst="rightArrow">
            <a:avLst>
              <a:gd name="adj1" fmla="val 50000"/>
              <a:gd name="adj2" fmla="val 75276"/>
            </a:avLst>
          </a:prstGeom>
          <a:solidFill>
            <a:srgbClr val="0079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458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идел сидне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419000">
            <a:off x="5940000" y="407664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0079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Василий Суриков. Боярыня Морозова. Фрагмент. 1887"/>
          <p:cNvPicPr/>
          <p:nvPr/>
        </p:nvPicPr>
        <p:blipFill>
          <a:blip r:embed="rId2"/>
          <a:stretch/>
        </p:blipFill>
        <p:spPr>
          <a:xfrm>
            <a:off x="395280" y="260280"/>
            <a:ext cx="5184720" cy="626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0360" y="1125360"/>
            <a:ext cx="273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 7 лет он носил обычную одежду, с наступлением же этого возраста совершенно перестал оде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Блаженный  Андрей, Симбирский Христа ради юродивый (с гравюры конца XIX века). Ульяновск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60280"/>
            <a:ext cx="3887640" cy="59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92720" y="333360"/>
            <a:ext cx="273672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двиг смирения и нищеты духовной, подвиг отречения от всех благ жизни и умерщвления плоти-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двиг юрод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4611960" y="324576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воспоминани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Картинка 11 из 513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60280"/>
            <a:ext cx="4248360" cy="5905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21004800">
            <a:off x="2992320" y="864720"/>
            <a:ext cx="5112000" cy="2521080"/>
          </a:xfrm>
          <a:prstGeom prst="wedgeRoundRectCallout">
            <a:avLst>
              <a:gd name="adj1" fmla="val -60550"/>
              <a:gd name="adj2" fmla="val 10194"/>
              <a:gd name="adj3" fmla="val 16667"/>
            </a:avLst>
          </a:prstGeom>
          <a:solidFill>
            <a:srgbClr val="0079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986200">
            <a:off x="3995640" y="1052640"/>
            <a:ext cx="390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Зачем это ко мне, убогому вы трудитесь приходить, - у вас лучше есть, Андрей ваш Ильич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1752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зорлив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Благочест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сце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мощь в болезня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403236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95280" y="333360"/>
            <a:ext cx="7257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идетельства о богоотмеченно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нчался Андрей Ильич 27-го ноября 1841 года, от старости. Но рассказам очевидцев, хотя тело его шесть дней покоилось в тесной хижине, где день и ночь толпился народ и служили панихиды, однако смерть не оставила на нем свих следов: старческое лицо покойника отражало радость и умиление, тление не касалось блаженных останков и запаха не был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го декабря 1841 года торжественно перенесли тело в Вознесенский собор, а на следующий день, в сопровождении необычайной толпы народа, отнесли останки Андрея Ильича в Покровский монастырь, где и опустили в могилу, рядом с собором, у южной стороны его. В настоящее время на могиле Андрея Ильича поставлен прекрасный памятник - часовня, с его портретом во весь рост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1280" y="33336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нчина стар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1:17:28Z</dcterms:created>
  <dc:creator>1</dc:creator>
  <dc:description/>
  <dc:language>en-US</dc:language>
  <cp:lastModifiedBy>1</cp:lastModifiedBy>
  <dcterms:modified xsi:type="dcterms:W3CDTF">2012-03-01T21:33:52Z</dcterms:modified>
  <cp:revision>7</cp:revision>
  <dc:subject/>
  <dc:title>Слайд 1</dc:title>
</cp:coreProperties>
</file>