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099-590F-408F-B1B6-84DAD255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8EC-D36E-499C-98B8-FF4342B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2FC-2EAE-4DB2-BB77-F2E4657B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3DA-578E-4C43-B896-34E899DC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863-904E-4F48-AF0E-E52382B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CAC-1043-4D1D-BFDA-2E737F58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943-8D69-4FFE-A680-87A435B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D90-6A38-4D0E-8C0C-74769D7E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32A-1915-429C-9E8A-BAA120C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974-0403-49BA-8431-805E287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9F2-0AFB-403A-8160-DF93E0C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42D-0347-41FB-8204-CD29383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068-4174-4787-92EF-6A8B8E47B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189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ученица 7 «В» класса Паниченко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ла: учитель по физкультуре Степанова С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Правил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92720" y="765000"/>
            <a:ext cx="367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яч, заброшенный с площадки, засчитывается команде, атакующей корзину, в которую он заброшен,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о штрафного броска, засчитывается одно (1) оч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 игры, из 2-х очковой зоны засчитывается два (2) 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из 3-х очковой зоны, засчитывается три (3)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Если Игрок случайно забрасывает мяч с площадки в свою корзину, очки записываются Капитану сопер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Зона трехочковых бро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5435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оной трехочковых бросков с игры для команды является вся игровая площадка, за исключением области около корзины соперника, ограниченн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вумя параллельными линиями, начинающимся с лицевой линии на расстоянии 6.25 м от точки на площадке, полученной на пересечении с ней перпендикуляра, опущенного из центра корзины соперника. Расстояние от этой точки до внутреннего края середины лицевой линии равно 1.57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лукругом радиусом 6.25 м до внешнего края его линии с центром в той же точке, что указана выше, до соединения с параллельными 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линия трехочкового броска"/>
          <p:cNvPicPr/>
          <p:nvPr/>
        </p:nvPicPr>
        <p:blipFill>
          <a:blip r:embed="rId1"/>
          <a:stretch/>
        </p:blipFill>
        <p:spPr>
          <a:xfrm>
            <a:off x="5508720" y="1413000"/>
            <a:ext cx="333360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8-3"/>
          <p:cNvPicPr/>
          <p:nvPr/>
        </p:nvPicPr>
        <p:blipFill>
          <a:blip r:embed="rId2"/>
          <a:stretch/>
        </p:blipFill>
        <p:spPr>
          <a:xfrm>
            <a:off x="5508720" y="4221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4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начинается, когда Игрок, получивший контроль над живым мячом на площадке, бросает, отбивает его в пол или катит его по полу и касается мяча опять, прежде, чем его коснется другой Иг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заканчивается в тот момент, когда Игрок касается мяча одновременно двумя руками или допускает задержку мяча в одной или обе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и ведении мяч может быть подброшен в воздух при условии, что мяч коснется пола раньше, чем Игрок снова коснется мяча своей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Число шагов, которые Игрок может сделать, когда мяч не находится в контакте с его рукой, не огранич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едующие действия не являются вед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следовательные броски в корзину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учайная потеря мяча в начале или в конце 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пытки установить контроль над мячом путем выбивания его из области расположения других Иг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ыбивание мяча из-под контроля другого Иг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епятствование передаче и перехват мя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еребрасывание мяча из руки (рук) в руку (руки) и задержка его прежде, чем он коснется пола, при условии, что Игрок не совершает нарушения в передвижении с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Пробежка</a:t>
            </a: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211640" y="620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робежка - запрещенное перемещение одной или обеих ног в любом направлении, во время контроля живого мяча на площа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29289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8000" y="21333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Три секун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71280" y="3860640"/>
            <a:ext cx="6156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не должен оставаться более трех (3) секунд подряд в ограниченной зоне соперника, когда его команда контролирует живой мяч на площадке и игровые часы вклю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ля того, чтобы Игрок рассматривался находящимся вне ограниченной зоны, он должен расположить обе ноги на полу вне эт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553899"/>
          <p:cNvPicPr/>
          <p:nvPr/>
        </p:nvPicPr>
        <p:blipFill>
          <a:blip r:embed="rId2"/>
          <a:stretch/>
        </p:blipFill>
        <p:spPr>
          <a:xfrm>
            <a:off x="539640" y="33336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9194d"/>
                </a:solidFill>
                <a:latin typeface="comic"/>
              </a:rPr>
              <a:t>           </a:t>
            </a:r>
            <a:r>
              <a:rPr b="0" i="1" lang="ru-RU" sz="4400" spc="-1" strike="noStrike">
                <a:solidFill>
                  <a:srgbClr val="19194d"/>
                </a:solidFill>
                <a:latin typeface="comic"/>
              </a:rPr>
              <a:t>Ф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- это несоблюдение Правил, вследствие персонального контакта с соперником и/или неспортивн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фиксируется провинившемуся и наказывается согласно положениям соответствующей статьи Прави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21830m"/>
          <p:cNvPicPr/>
          <p:nvPr/>
        </p:nvPicPr>
        <p:blipFill>
          <a:blip r:embed="rId2"/>
          <a:stretch/>
        </p:blipFill>
        <p:spPr>
          <a:xfrm>
            <a:off x="-77760" y="0"/>
            <a:ext cx="52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Наказа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95640" y="1052280"/>
            <a:ext cx="468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нападении, никакие очки не засчитываются и мяч передается сопернику для вбрасывания из-за пределов площадки напротив линии штрафного бр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защите, атакующей команде засчиты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ва (2) очка, если мяч был выпущен из 2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три (3) очка, если мяч был выпущен из 3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Засчитывание мяча и последующая процедура таковы, как в случае попадания мяча в корз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одновременно Игроками обеих команд, никакие очки не засчитываются. Игра возобновляется спорным брос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Штрафные брос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425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- это возможность, предоставляемая Игроку, набрать одно (1) очко броском в корзину без помех с позиции за линией штрафного броска и внутри полук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ерия штрафных бросков - это все штрафные броски в результате наказания за один ф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и все действия, связанные с ним, заканчиваются, когда мяч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ходит непосредственно в корзину сверху, остается в ней или проходит сквозь не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Не имеет больше возможности попасть в корзину непосредственно или после касани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авильно был сыгран Игроком после того, как коснулс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асается п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bfc5"/>
                </a:solidFill>
                <a:latin typeface="comic"/>
              </a:rPr>
              <a:t>                   </a:t>
            </a:r>
            <a:r>
              <a:rPr b="1" lang="ru-RU" sz="4000" spc="-1" strike="noStrike">
                <a:solidFill>
                  <a:srgbClr val="72bfc5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569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</a:t>
            </a:r>
            <a:r>
              <a:rPr b="1" lang="ru-RU" sz="2000" spc="-1" strike="noStrike">
                <a:solidFill>
                  <a:srgbClr val="0e1e20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ольцо"/>
          <p:cNvPicPr/>
          <p:nvPr/>
        </p:nvPicPr>
        <p:blipFill>
          <a:blip r:embed="rId1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nd1"/>
          <p:cNvPicPr/>
          <p:nvPr/>
        </p:nvPicPr>
        <p:blipFill>
          <a:blip r:embed="rId2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аждая команда должна состоять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Не более чем десяти (10) членов команды, имеющих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Тренера и, по желанию команды, помощника трен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Капитана, который должен быть одним из членов команды, имеющего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Пять (5) Игроков каждой команды должны находиться на площадке в течение игрового времени и они могут быть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42973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Игровое время, ничейный счет и дополнительные периоды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"/>
              </a:rPr>
              <a:t>Игра состоит из четырех (4) периодов по десять (10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"/>
              </a:rPr>
              <a:t>Продолжительность перерыва между первым и вторым, третьим и четвертым периодами игры и перед каждым дополнительным периодом составляет две (2)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"/>
              </a:rPr>
              <a:t>Продолжительность перерыва между половинами игры - пятнадцать (15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comic"/>
              </a:rPr>
              <a:t>Как играют мячом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24360" y="764640"/>
            <a:ext cx="4402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баскетболе мячом играют только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ежать с мячом, преднамеренно бить по нему ногой, блокировать любой частью ноги или бить по нему кулаком является наруш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Случайное соприкосновение или касание мяча стопой или ногой не является нару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sketballPlayers"/>
          <p:cNvPicPr/>
          <p:nvPr/>
        </p:nvPicPr>
        <p:blipFill>
          <a:blip r:embed="rId1"/>
          <a:stretch/>
        </p:blipFill>
        <p:spPr>
          <a:xfrm>
            <a:off x="5940360" y="4508640"/>
            <a:ext cx="29512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онтроль мяч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контролирует мяч, когда он держит или ведет живой мяч, или живой мяч находится в его распо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манда контролирует мяч, когда Игрок этой команды контролирует живой мяч или Игроки этой команды передают мяч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783-copy"/>
          <p:cNvPicPr/>
          <p:nvPr/>
        </p:nvPicPr>
        <p:blipFill>
          <a:blip r:embed="rId1"/>
          <a:stretch/>
        </p:blipFill>
        <p:spPr>
          <a:xfrm>
            <a:off x="0" y="260280"/>
            <a:ext cx="47149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Татьяна</cp:lastModifiedBy>
  <dcterms:modified xsi:type="dcterms:W3CDTF">2012-03-02T15:41:53Z</dcterms:modified>
  <cp:revision>10</cp:revision>
  <dc:subject/>
  <dc:title>Слайд 1</dc:title>
</cp:coreProperties>
</file>