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1D4-3F47-4B21-9D03-774834AD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F3A-FA5B-4BBB-ACB4-4D6D6D66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447-C12B-435F-9816-90BAE112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C93-D0BE-435F-9943-8DB75FB5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CB79-9401-4827-8D93-96AE3DC2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B7A4-A212-4D53-88AD-52A9CB9D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CFD0-D54B-4F5C-953F-4B5D1D38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F71C-3306-49CF-B283-7813BBA6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4119-77D9-4BAC-989F-54CA2843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8BE9-A93A-4582-A9BF-E49C55DE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C462-41B4-45D5-B349-07223842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FE4-393E-4572-971B-259D35FA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5B07-767D-4A3A-8C13-4C2CDCC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E345-FDE4-480B-874D-52A323C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BF37-B04D-4EC3-9345-2CA1F78E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5CC0-CA17-470D-A41F-8B68C833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9CA-A278-48AB-963E-8BAF41F3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CFE-A90D-4147-AF0A-1ED32C38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265-7170-4C17-9E8C-D7C53C9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997-5C13-47E4-A41D-66D9350A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C8B-9181-4491-8862-980B8835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116-75E3-42C0-BA65-360787F2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611-97B8-427A-9F9D-1EE6025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86A-CF6C-4A31-8448-3C5960CD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4103-02CB-4FAF-9A48-29252E7578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41D-A8A8-42B6-B7E7-7F98E916C4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2205000"/>
            <a:ext cx="730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Arial"/>
              </a:rPr>
              <a:t>Блиц – турнир № 4.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880" y="4508640"/>
            <a:ext cx="770112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 класс. Программа «Школа-2100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Подготовила Михайлова Н.Ю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2879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2880000" cy="367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2951280" cy="30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333360"/>
            <a:ext cx="7313400" cy="56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. В коллекции Леры 67 аудиокассет. Из них со сказками 38 штук, а остальные – с песнями. На сколько больше кассет со сказками, чем с песням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2665440" cy="532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5640" y="2060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ровер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980640"/>
            <a:ext cx="7313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.  150*6=900 (с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.  1) 10+11=21(б.) согласны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) 10+21=31(б.) согласные и гласны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) 33-31=2(б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333360"/>
            <a:ext cx="7313400" cy="56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.  1) 120:2*1=60(ш.) зелены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)  60:2*1=30(ш.) желты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)  120+60+30=210(ш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404640"/>
            <a:ext cx="7313400" cy="553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4.1)30:2=15(цв.)кактус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2) 15-12=3(цв.) герань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3) 30+15+3=48(цв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5. 1)67-38=29(к.)с песням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2)67-29=38(к.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Arial"/>
              </a:rPr>
              <a:t>Спасибо за работу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Verdana"/>
              </a:rPr>
              <a:t>Продолжаем урок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4321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Цель: совершенствование математических умений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Технологи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использование ИКТ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проблемного диалога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оценивания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333360"/>
            <a:ext cx="7313760" cy="56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. В связи с неурожаем сосулек в Англии Дед Мороз прислал Санта Клаусу 6 ящиков с сосульками, по 150 штук в ящике. Сколько сосулек прислал Дед Мороз английскому коллеге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3024000" cy="35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24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-1767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8353440" cy="72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001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. В русском языке 33 буквы. Из них 10 букв служат для обозначения гласных звуков, для обозначения согласных – на 11 букв больше. Сколько букв не обозначают звуков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1371600" cy="196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20000" y="1844640"/>
            <a:ext cx="176832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48360" y="4437000"/>
            <a:ext cx="1501560" cy="185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15303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404640"/>
            <a:ext cx="7313400" cy="553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. К празднику сделали гирлянду из воздушных шариков. Красных шариков было 120, зеленые составляли половину от красных, а желтые – половину от зеленых. Сколько всего было шариков в праздничной гирлянде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5923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24360" y="476280"/>
            <a:ext cx="3743280" cy="3457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673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-28008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259920"/>
            <a:ext cx="7313400" cy="56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. Нина выращивает комнатные растения. У нее дома растет 30 фиалок, кактусов – в 2 раза меньше, чем фиалок, а кустиков герани – на 12 меньше, чем кактусов. Сколько комнатных растений выращивает Нин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8:27:56Z</dcterms:created>
  <dc:creator>Школа</dc:creator>
  <dc:description/>
  <dc:language>en-US</dc:language>
  <cp:lastModifiedBy>Школа</cp:lastModifiedBy>
  <dcterms:modified xsi:type="dcterms:W3CDTF">2012-02-26T09:49:30Z</dcterms:modified>
  <cp:revision>2</cp:revision>
  <dc:subject/>
  <dc:title>Блиц – турнир № 4.</dc:title>
</cp:coreProperties>
</file>