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FA8-5957-4D88-B1DA-9A8B6A61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E59-D497-4632-AB8A-E066923F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DC9-E5E0-459A-B20C-C7CA5808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498-ACA3-42DB-AEA7-990D072E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CB2-6D3A-4F4A-B2B5-A1ACECB3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760D-9D0B-4A07-97C0-68C6A2A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E836-3AAA-4667-B939-4B60A33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37CB-4461-4486-8DFC-E0343A65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EE7D-18C6-4306-A88F-4F8A292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A58-3220-4C15-AC65-502D366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286-B7D7-46E8-B847-409F6BB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869-C602-4560-9875-7BA67418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6D58-2432-481E-9016-BCE755D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FE86-C8AF-4DF4-A6F2-08A5889C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F379-2F3F-4C2C-8E68-00A6EA26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C396-73D1-4791-AA9A-0C1B99D4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CEA5-6F3B-4E2D-8055-AD1A7801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42B-AA4F-4C12-9B46-C2838B11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C40-08E0-42E5-BBF0-7CFBFA4C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3EE-5DC8-4AB9-B6E0-C40A119C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498-C8AF-4A31-AE3E-7C8A800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86F-C912-4191-AC05-180EF695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2A6-763D-4B35-9127-3C8355F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AF5-EF0E-44A0-AC21-DA624C72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BAE-96E3-43E9-98D4-37961B7621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353-5232-4CA4-90BE-CD279FC8D4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Блиц – турнир № 5.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3 класс. Программа «Школа-2100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дготовила Михайлова Надежда Юр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 1) 12*3=36 (руб.) стоят г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90-36=54 (руб.) стоят к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54:6=9 (ру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e1502"/>
                </a:solidFill>
                <a:latin typeface="Garamond"/>
              </a:rPr>
              <a:t>Продолжаем наш урок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753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Цель: совершенствование математических умений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хнолог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пользование ИК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ова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цени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У паучка 8 лапок. Сколько лапок у 9 пауч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519640" cy="32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158292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школьном спектакле участвовало 26 мальчиков, а девочек – в 2 раза больше. Им помогали 3 учителя. Сколько человек играло в спектак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асечник собрал мед в 2 бидона. В одном бидоне было 72 кг меда, а в другом – в 6 раз меньше. Весь мед он разлил в банки, по 3 кг в каждую. Сколько банок ему понадобилос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Поссорились 2 тучи – грозовая и дождевая – и расплакались. Грозовая наплакала 245 слезинок – дождинок, а дождевая – в 2 раза больше. Сколько всего слез пролилось из двух ту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4653000"/>
            <a:ext cx="2743200" cy="24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Крестьянин повез на базар продавать 6 кур и 3 гуся. За каждого гуся он выручил 12 рублей. За сколько он продал каждую курицу, если вся выручка составила 9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720" y="3789360"/>
            <a:ext cx="2411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3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d068"/>
                </a:solidFill>
                <a:latin typeface="Garamond"/>
              </a:rPr>
              <a:t>Проверка.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8*9=72 (л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 1) 26*2=52(ч.) дево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52+26+3=8(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 1) 72:6=12 (кг) во 2 бид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72+12=84 (кг) вс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84:3=28 (б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  1) 245*2=490 (сл.) наплакала дождевая ту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490+245=735 (сл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0:46:07Z</dcterms:created>
  <dc:creator>Школа</dc:creator>
  <dc:description/>
  <dc:language>en-US</dc:language>
  <cp:lastModifiedBy>Школа</cp:lastModifiedBy>
  <dcterms:modified xsi:type="dcterms:W3CDTF">2012-02-26T11:42:10Z</dcterms:modified>
  <cp:revision>2</cp:revision>
  <dc:subject/>
  <dc:title>Блиц – турнир № 5. 3 класс. Программа «Школа-2100».</dc:title>
</cp:coreProperties>
</file>