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CDA-1D9E-4876-8260-FADE5A4B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50B-CC22-44FB-B62E-81B7AF46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086-EF29-4FB7-9599-23C63886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114-E6A6-4344-A2E1-B4645A02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2E9D-B9C9-421B-9E81-E2473549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0D60-FC40-4703-9F8D-B5D1066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7EF6-C0B5-4095-A463-DA8DC38D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1147-BC44-412B-A87E-55A751B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F229-73B4-441D-8448-9E4F6EC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3D1-3435-4EC3-B82B-67299DE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1B2-EB9A-496A-B370-5CEF8330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7B6-F3B2-4F63-95BC-02A38280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0DA7-EE0A-4BED-B65E-11B8BE5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9BF-3BCF-4FAC-960D-1B6F2B6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6F82-C314-4E76-BB52-7051F51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750-9CA5-4FB8-9CEB-D7C435BE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C1B3-1013-4B96-9DA3-541398A3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71FE-755F-4395-9C2A-4944A868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9913-89E7-4AF6-AB60-D463322E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A919-0CF1-4E45-8CB2-9F73932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5728-6ECD-4CA1-B827-5912780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F860-D3BB-4E84-A159-D29A8523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B89-EF8A-4828-9683-4704532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0269-896E-4648-8318-62965972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E2F7-9849-462A-A602-B864949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9F8B-18E8-486C-8B49-D1A939C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7935-FFD9-484F-B122-B17A85D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7F77-72F6-4654-8A90-679E69C1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4D49-E1E2-401D-8C19-D8814BD1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31AB-F85A-4CB4-9928-C7599D22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F2BF-51EA-46B0-8C10-81893ED7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3DE6-7394-426D-9AA4-9B1D87C0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36D2-A01C-4BFE-8B97-8093C63D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55C-D18A-4A7D-B1DA-7B1E0B88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28BE-DE7C-400E-B761-DEB7F52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21E3-1006-46E8-B7F4-74CC5FC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814D-9F42-40B3-92C4-6553FEC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3A30-B4A2-49D3-BF6E-E8DD31A5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A92B-83E5-4DFE-B966-5188464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AF12-6460-4C68-BEF6-F70E0DD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E029-CD05-4F3D-B772-762343E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CB29-81CC-48CF-888D-A3C0367A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EA2E-8D8B-4D14-B8D5-99F00E0F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D8FE7-ACD5-4602-B432-6B15A3E9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6D4-AFD6-4CCE-B03F-8A98900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3E4E-A687-4D9A-9B9B-6A12D27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B8D0-A2B9-4669-9C56-9B8E98C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4B603-4675-4012-8D45-D0C4EF0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8074-9ACA-4DD0-8F7D-A5544D4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B31C-E084-4D28-A9DD-D86C18C9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166D-6F54-43E8-93B4-5CBFC89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8B2C5-B1E7-4872-A0E6-CF8428C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E51A-1036-4CB6-8F40-3C4A8473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0235B-966F-4660-AFB3-6AC26F63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7784-BCE0-4C40-B194-26DDC93B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582-81E7-4766-8520-CADA673F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DD3C-08DC-4DC0-A70F-44DEC2B4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CE192-9D24-4AF8-8A6A-1E3362F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489C-B445-46F8-8AAC-9BC80DF9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8CB7E-5797-4BCD-B92B-C7B7406B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7D57-B72D-4E3C-AA59-5829B5C6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C699-DE22-4239-84D4-E99DA25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8BB8-2C84-4E76-9344-EB7EE29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F087-2C18-4052-A08A-48A9424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F0B7-3BC8-42F4-9DC8-DC958D4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C33A-87D1-4F56-871A-4DA4974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8DC-F715-4D66-9963-81FC611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30A7-BC14-4C1E-BF54-33858BD3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1D9D-6B8E-450D-8988-D3C55AF2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B1CD-C9D4-490B-86F3-32506083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AB3-6A3E-42E8-BA37-0968A82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588-922C-4F07-B7F1-A635E10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98E-AD4D-422F-8CD8-2A9B6D988A62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0069-33BE-4B96-AEA1-AA5382A960D5}" type="slidenum">
              <a:rPr b="0" lang="ru-RU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2" name="Нашивка 10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0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Нашивка 15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06" name="Нашивка 15" descr=""/>
            <p:cNvPicPr/>
            <p:nvPr/>
          </p:nvPicPr>
          <p:blipFill>
            <a:blip r:embed="rId6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532-DE09-4EEA-9C09-7A95B36F4CA4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CBF7-C45B-4D90-9EBE-2FA0E29DE508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4A10-1322-43E3-B838-40DEEDA09437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237" name="Нашивка 19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238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Нашивка 20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24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ED0B-FD52-435B-B17F-3A6B2DFA167B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365040" y="-890640"/>
            <a:ext cx="8004240" cy="6273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семен\Мои документы\Peter_der-Grosse_1838.jpg"/>
          <p:cNvPicPr/>
          <p:nvPr/>
        </p:nvPicPr>
        <p:blipFill>
          <a:blip r:embed="rId2"/>
          <a:stretch/>
        </p:blipFill>
        <p:spPr>
          <a:xfrm>
            <a:off x="0" y="0"/>
            <a:ext cx="3492360" cy="5003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7286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Georgia"/>
            </a:endParaRPr>
          </a:p>
        </p:txBody>
      </p:sp>
      <p:pic>
        <p:nvPicPr>
          <p:cNvPr id="287" name="TextBox 5" descr=""/>
          <p:cNvPicPr/>
          <p:nvPr/>
        </p:nvPicPr>
        <p:blipFill>
          <a:blip r:embed="rId3"/>
          <a:stretch/>
        </p:blipFill>
        <p:spPr>
          <a:xfrm>
            <a:off x="4346640" y="3535200"/>
            <a:ext cx="48099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6" descr="icon150"/>
          <p:cNvPicPr/>
          <p:nvPr/>
        </p:nvPicPr>
        <p:blipFill>
          <a:blip r:embed="rId1"/>
          <a:stretch/>
        </p:blipFill>
        <p:spPr>
          <a:xfrm>
            <a:off x="6500880" y="3643200"/>
            <a:ext cx="2500200" cy="30877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4" descr=""/>
          <p:cNvPicPr/>
          <p:nvPr/>
        </p:nvPicPr>
        <p:blipFill>
          <a:blip r:embed="rId2"/>
          <a:stretch/>
        </p:blipFill>
        <p:spPr>
          <a:xfrm>
            <a:off x="311040" y="1189080"/>
            <a:ext cx="8667720" cy="2962080"/>
          </a:xfrm>
          <a:prstGeom prst="rect">
            <a:avLst/>
          </a:prstGeom>
          <a:ln w="0">
            <a:noFill/>
          </a:ln>
        </p:spPr>
      </p:pic>
      <p:pic>
        <p:nvPicPr>
          <p:cNvPr id="290" name="Заголовок 7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Царь Пётр I"/>
          <p:cNvPicPr/>
          <p:nvPr/>
        </p:nvPicPr>
        <p:blipFill>
          <a:blip r:embed="rId2"/>
          <a:stretch/>
        </p:blipFill>
        <p:spPr>
          <a:xfrm>
            <a:off x="611280" y="1557360"/>
            <a:ext cx="3241440" cy="452592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4427640" y="1197000"/>
            <a:ext cx="46083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оциально-экономическое, политическое и культурное отставание России от Запад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Ослабление международного положения России.              3.  Угроза  потери не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Содержимое 4" descr="ziimniy_old(2).jpg"/>
          <p:cNvPicPr/>
          <p:nvPr/>
        </p:nvPicPr>
        <p:blipFill>
          <a:blip r:embed="rId1"/>
          <a:stretch/>
        </p:blipFill>
        <p:spPr>
          <a:xfrm>
            <a:off x="0" y="0"/>
            <a:ext cx="3786120" cy="28432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"/>
          <p:cNvSpPr/>
          <p:nvPr/>
        </p:nvSpPr>
        <p:spPr>
          <a:xfrm>
            <a:off x="0" y="3213000"/>
            <a:ext cx="6372360" cy="3751560"/>
          </a:xfrm>
          <a:prstGeom prst="rect">
            <a:avLst/>
          </a:prstGeom>
          <a:solidFill>
            <a:srgbClr val="c7ccda"/>
          </a:solidFill>
          <a:ln w="9360">
            <a:solidFill>
              <a:srgbClr val="39639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unga"/>
              </a:rPr>
              <a:t>Петр I использовал опыт западноевропейских стран в развитии промышленности, торговли, культуры. Проводил политику меркантилизма (создание мануфактур, металлургических, горных и других заводов, верфей, пристаней, каналов). Руководил постройкой флота и созданием регулярной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252824-001"/>
          <p:cNvPicPr/>
          <p:nvPr/>
        </p:nvPicPr>
        <p:blipFill>
          <a:blip r:embed="rId2"/>
          <a:stretch/>
        </p:blipFill>
        <p:spPr>
          <a:xfrm>
            <a:off x="6588000" y="476280"/>
            <a:ext cx="2000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0" y="285840"/>
            <a:ext cx="3643200" cy="4357440"/>
          </a:xfrm>
          <a:prstGeom prst="rect">
            <a:avLst/>
          </a:prstGeom>
          <a:solidFill>
            <a:srgbClr val="c7ccda"/>
          </a:solidFill>
          <a:ln w="9360">
            <a:solidFill>
              <a:srgbClr val="39639d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030a0"/>
                </a:solidFill>
                <a:latin typeface="Tunga"/>
              </a:rPr>
              <a:t>Петр I основал Правительствующий сенат, имевший функции главного органа исполнительной, судебной и законодательной власти. С 1717 началось создание коллегий — центральных органов отраслевого управления,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5432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5643720" y="404640"/>
            <a:ext cx="3500280" cy="3448080"/>
          </a:xfrm>
          <a:prstGeom prst="rect">
            <a:avLst/>
          </a:prstGeom>
          <a:solidFill>
            <a:srgbClr val="c7ccda"/>
          </a:solidFill>
          <a:ln w="9360">
            <a:solidFill>
              <a:srgbClr val="39639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unga"/>
              </a:rPr>
              <a:t>Стали появляться светские учебные заведения, основана первая русская газета.. Специальным указом царя были введены ассамблеи, представлявшие новую для России форму общения между люд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Содержимое 17" descr="pic-peter.jpg"/>
          <p:cNvPicPr/>
          <p:nvPr/>
        </p:nvPicPr>
        <p:blipFill>
          <a:blip r:embed="rId1"/>
          <a:stretch/>
        </p:blipFill>
        <p:spPr>
          <a:xfrm>
            <a:off x="3500280" y="214200"/>
            <a:ext cx="2143440" cy="4357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2484360" y="5084640"/>
            <a:ext cx="4587840" cy="916920"/>
          </a:xfrm>
          <a:prstGeom prst="rect">
            <a:avLst/>
          </a:prstGeom>
          <a:solidFill>
            <a:srgbClr val="c7ccda"/>
          </a:solidFill>
          <a:ln w="9360">
            <a:solidFill>
              <a:srgbClr val="39639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unga"/>
              </a:rPr>
              <a:t>Было построено много новых заводов и фабрик, возникли новые отрасли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2" descr=""/>
          <p:cNvPicPr/>
          <p:nvPr/>
        </p:nvPicPr>
        <p:blipFill>
          <a:blip r:embed="rId1"/>
          <a:stretch/>
        </p:blipFill>
        <p:spPr>
          <a:xfrm>
            <a:off x="-66600" y="-139680"/>
            <a:ext cx="9271080" cy="1352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643200" y="785880"/>
            <a:ext cx="52149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тр Великий является одной из самых заметных фигур мировой истории.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Величие этого человека в том, что он лучше других понял и удачно разрешил запросы времени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0" y="642960"/>
            <a:ext cx="3429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7:04:40Z</dcterms:created>
  <dc:creator>user</dc:creator>
  <dc:description/>
  <dc:language>en-US</dc:language>
  <cp:lastModifiedBy>NC</cp:lastModifiedBy>
  <dcterms:modified xsi:type="dcterms:W3CDTF">2012-03-02T19:28:12Z</dcterms:modified>
  <cp:revision>48</cp:revision>
  <dc:subject/>
  <dc:title>Царь Пётр</dc:title>
</cp:coreProperties>
</file>