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2A7B-A873-4747-B69F-AC35749FC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3A54-386D-4936-AE4B-C952019A9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CA17-DF13-4579-8827-1A6DB701C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91BA-862A-4960-A3B4-657C84CE0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220B-3F44-409D-8C27-7B13CF088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F216-77C1-41AA-B947-1EBC2D11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3D18-1219-47AB-9CA7-2123AA439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AA16-A6C3-40B4-995E-65725DC54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F4E6-9BFC-466E-BB4D-23CBD1977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EDE4-E939-43E6-A657-0BD7ED76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BCD4-A422-4562-94A8-1CBB6C6C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CF26-2987-4673-9746-332682BB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D5E2D-79B2-46E7-BE00-F0CE395F0F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 rot="20664000">
            <a:off x="-341280" y="1161720"/>
            <a:ext cx="9339120" cy="36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C</a:t>
            </a:r>
            <a:r>
              <a:rPr b="0" lang="fr-FR" sz="8800" spc="-1" strike="noStrike">
                <a:solidFill>
                  <a:srgbClr val="ffffff"/>
                </a:solidFill>
                <a:latin typeface="Forte"/>
              </a:rPr>
              <a:t>’est quoi- le cosmos ?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00720" y="-360"/>
            <a:ext cx="44640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ede6fe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1640" y="2570040"/>
            <a:ext cx="4824360" cy="35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orte"/>
              </a:rPr>
              <a:t>Chanina Alexandrin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rte"/>
              </a:rPr>
              <a:t>6a clas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rte"/>
              </a:rPr>
              <a:t>L’école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№</a:t>
            </a:r>
            <a:r>
              <a:rPr b="1" lang="en-US" sz="2800" spc="-1" strike="noStrike">
                <a:solidFill>
                  <a:srgbClr val="ffffff"/>
                </a:solidFill>
                <a:latin typeface="Forte"/>
              </a:rPr>
              <a:t>28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rte"/>
              </a:rPr>
              <a:t>Le professeur de français</a:t>
            </a:r>
            <a:r>
              <a:rPr b="1" lang="ru-RU" sz="2800" spc="-1" strike="noStrike">
                <a:solidFill>
                  <a:srgbClr val="ffffff"/>
                </a:solidFill>
                <a:latin typeface="Berlin Sans FB Demi"/>
              </a:rPr>
              <a:t>:</a:t>
            </a:r>
            <a:r>
              <a:rPr b="1" lang="fr-FR" sz="2800" spc="-1" strike="noStrike">
                <a:solidFill>
                  <a:srgbClr val="ffffff"/>
                </a:solidFill>
                <a:latin typeface="Forte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Forte"/>
              </a:rPr>
              <a:t>Krasnova L.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rte"/>
              </a:rPr>
              <a:t>Saint-P</a:t>
            </a:r>
            <a:r>
              <a:rPr b="1" lang="fr-FR" sz="2800" spc="-1" strike="noStrike">
                <a:solidFill>
                  <a:srgbClr val="ffffff"/>
                </a:solidFill>
                <a:latin typeface="Forte"/>
              </a:rPr>
              <a:t>étersbour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rte"/>
              </a:rPr>
              <a:t>2010-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4537080" cy="65530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Forte"/>
              </a:rPr>
              <a:t>Le cosmos- se sont les étoiles</a:t>
            </a:r>
            <a:r>
              <a:rPr b="1" lang="en-US" sz="4400" spc="-1" strike="noStrike">
                <a:solidFill>
                  <a:srgbClr val="ffffff"/>
                </a:solidFill>
                <a:latin typeface="Forte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Forte"/>
              </a:rPr>
              <a:t>Les étoiles se  sont les boules de gaz qui émettent de la lumiè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Схема 3" descr=""/>
          <p:cNvPicPr/>
          <p:nvPr/>
        </p:nvPicPr>
        <p:blipFill>
          <a:blip r:embed="rId1"/>
          <a:stretch/>
        </p:blipFill>
        <p:spPr>
          <a:xfrm>
            <a:off x="1359000" y="2571840"/>
            <a:ext cx="6095880" cy="40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9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9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272880"/>
            <a:ext cx="3240000" cy="178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orte"/>
              </a:rPr>
              <a:t>La planète-c’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2158920" cy="38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Forte"/>
              </a:rPr>
              <a:t>le corps céleste qui tourne autour du solei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2987640" y="0"/>
            <a:ext cx="6042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Forte"/>
              </a:rPr>
              <a:t>Les planètes ont des lun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Forte"/>
              </a:rPr>
              <a:t>Jupiter </a:t>
            </a:r>
            <a:r>
              <a:rPr b="0" lang="ru-RU" sz="3200" spc="-1" strike="noStrike">
                <a:solidFill>
                  <a:srgbClr val="92d050"/>
                </a:solidFill>
                <a:latin typeface="Calibri"/>
              </a:rPr>
              <a:t>– 6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2d05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92d050"/>
                </a:solidFill>
                <a:latin typeface="Forte"/>
              </a:rPr>
              <a:t>Saturn </a:t>
            </a:r>
            <a:r>
              <a:rPr b="0" lang="ru-RU" sz="3200" spc="-1" strike="noStrike">
                <a:solidFill>
                  <a:srgbClr val="92d050"/>
                </a:solidFill>
                <a:latin typeface="Calibri"/>
              </a:rPr>
              <a:t>– 6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2d05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92d050"/>
                </a:solidFill>
                <a:latin typeface="Forte"/>
              </a:rPr>
              <a:t>Uranus </a:t>
            </a:r>
            <a:r>
              <a:rPr b="0" lang="ru-RU" sz="3200" spc="-1" strike="noStrike">
                <a:solidFill>
                  <a:srgbClr val="92d050"/>
                </a:solidFill>
                <a:latin typeface="Calibri"/>
              </a:rPr>
              <a:t>– 2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Forte"/>
              </a:rPr>
              <a:t>Neptune </a:t>
            </a:r>
            <a:r>
              <a:rPr b="0" lang="ru-RU" sz="3200" spc="-1" strike="noStrike">
                <a:solidFill>
                  <a:srgbClr val="92d050"/>
                </a:solidFill>
                <a:latin typeface="Calibri"/>
              </a:rPr>
              <a:t>– 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Forte"/>
              </a:rPr>
              <a:t>Mars </a:t>
            </a:r>
            <a:r>
              <a:rPr b="0" lang="ru-RU" sz="3200" spc="-1" strike="noStrike">
                <a:solidFill>
                  <a:srgbClr val="92d050"/>
                </a:solidFill>
                <a:latin typeface="Calibri"/>
              </a:rPr>
              <a:t>–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Forte"/>
              </a:rPr>
              <a:t>Terre </a:t>
            </a:r>
            <a:r>
              <a:rPr b="0" lang="ru-RU" sz="3200" spc="-1" strike="noStrike">
                <a:solidFill>
                  <a:srgbClr val="92d05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92d050"/>
                </a:solidFill>
                <a:latin typeface="Forte"/>
              </a:rPr>
              <a:t>-</a:t>
            </a:r>
            <a:r>
              <a:rPr b="0" lang="ru-RU" sz="3200" spc="-1" strike="noStrike">
                <a:solidFill>
                  <a:srgbClr val="92d050"/>
                </a:solidFill>
                <a:latin typeface="Calibri"/>
              </a:rPr>
              <a:t>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E:\Документы\школа\из интернета\1256679051_luna.jpg"/>
          <p:cNvPicPr/>
          <p:nvPr/>
        </p:nvPicPr>
        <p:blipFill>
          <a:blip r:embed="rId1"/>
          <a:stretch/>
        </p:blipFill>
        <p:spPr>
          <a:xfrm>
            <a:off x="3786120" y="1857240"/>
            <a:ext cx="4376880" cy="407196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5"/>
          <p:cNvSpPr/>
          <p:nvPr/>
        </p:nvSpPr>
        <p:spPr>
          <a:xfrm>
            <a:off x="5254200" y="5929200"/>
            <a:ext cx="167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Forte"/>
              </a:rPr>
              <a:t>La Lu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9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9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9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9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9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9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9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300360" y="-819000"/>
            <a:ext cx="2592360" cy="775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Forte"/>
              </a:rPr>
              <a:t>C’était le commencement de l’ère cosmiq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2"/>
          <p:cNvSpPr/>
          <p:nvPr/>
        </p:nvSpPr>
        <p:spPr>
          <a:xfrm>
            <a:off x="324000" y="5614920"/>
            <a:ext cx="856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Forte"/>
              </a:rPr>
              <a:t>Merci de votre attention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6193080" cy="5146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4:32:01Z</dcterms:created>
  <dc:creator>SamLab.ws</dc:creator>
  <dc:description/>
  <dc:language>en-US</dc:language>
  <cp:lastModifiedBy>User</cp:lastModifiedBy>
  <dcterms:modified xsi:type="dcterms:W3CDTF">2012-03-01T21:27:06Z</dcterms:modified>
  <cp:revision>51</cp:revision>
  <dc:subject/>
  <dc:title>Слайд 1</dc:title>
</cp:coreProperties>
</file>