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47-F440-47C4-A643-64224270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0CE-3EA0-4B7B-A97F-EF42E53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C35-2C7F-4289-869C-1F199C3F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3FC-B73E-4E7C-B363-20A30D64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583-67AE-4BF2-94F4-8497E6F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C2E-8039-48EE-9512-F10A3298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816-0813-432E-8A21-4A630DC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F76-ACEC-4554-B26C-4D708B3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EA4-9AA5-4F62-96FD-A37F3ED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77A-FD1C-41CD-B4A8-408B7A2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553-1701-4819-B25B-85FAEF0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22F-C474-4761-B746-344DF46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9AC-9BC8-4E25-A6D8-E98D18C1C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Декоративно-прикладное направление в системе дополнительного образования в условиях  Детского дом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3573000"/>
            <a:ext cx="6624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                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нструктор по труду ГКОУ для   детей сирот и детей, оставшихся без попечения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«Детский дом (смешанный) №13» с.Надеж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             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Беспалова Наталья Николае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Дополнительное образование воспитанников осуществляют следующие педагогические работ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узыкальный руководител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структор по труд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структор по физической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03152"/>
                </a:solidFill>
                <a:latin typeface="Calibri"/>
              </a:rPr>
              <a:t>Декоративно-прикладное </a:t>
            </a:r>
            <a:br>
              <a:rPr sz="4800"/>
            </a:br>
            <a:r>
              <a:rPr b="0" i="1" lang="ru-RU" sz="4800" spc="-1" strike="noStrike">
                <a:solidFill>
                  <a:srgbClr val="403152"/>
                </a:solidFill>
                <a:latin typeface="Calibri"/>
              </a:rPr>
              <a:t>и трудовое направлени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тудия «Очумелые р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бота студии ведется по программе составителем которой я являю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грамма предназначена для работы с детьми в возрасте от 7 до 16 лет и состоит из нескольких разделов програм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правление для девоч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правление для мальчик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правление для девоче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 курс «Лепка» (с 7 до 8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 курс «Работа с бумагой и тканью» (с 9 до 10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3 курс «Вышивка» (с 11 до 12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4 курс «Изготовление сувениров» (с 13 до 14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урс «Вязание»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6 курс «Мягкая игрушка» (с 15 до 16 л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правление для мальчик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 курс «Лепка» (с 7 до 8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 курс «Работа с бумагой и тканью» (с 9 до 10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3 курс «Работа с тканью. Изготовление сувениров» (с 11 до 12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4 курс «Изготовление сувениров» (с 13 до 14 ле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урс «Макраме» (с 15 до 16 лет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Численный состав объединений, продолжительность занятий  устанавливается, учитывая возрастные особенности детей, рекомендации психолога, медицинских работников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аряду с групповыми занятиями проводятся и индивидуаль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C:\Users\user\Documents\Мамины поделки\Фото0533.jpg"/>
          <p:cNvPicPr/>
          <p:nvPr/>
        </p:nvPicPr>
        <p:blipFill>
          <a:blip r:embed="rId1"/>
          <a:srcRect l="12283" t="12603" r="1756" b="0"/>
          <a:stretch/>
        </p:blipFill>
        <p:spPr>
          <a:xfrm>
            <a:off x="250920" y="2205000"/>
            <a:ext cx="288108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user\Documents\Мамины поделки\Фото0541.jpg"/>
          <p:cNvPicPr/>
          <p:nvPr/>
        </p:nvPicPr>
        <p:blipFill>
          <a:blip r:embed="rId2"/>
          <a:stretch/>
        </p:blipFill>
        <p:spPr>
          <a:xfrm>
            <a:off x="6156360" y="2133720"/>
            <a:ext cx="273528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user\Documents\Мамины поделки\Фото0535.jpg"/>
          <p:cNvPicPr/>
          <p:nvPr/>
        </p:nvPicPr>
        <p:blipFill>
          <a:blip r:embed="rId3"/>
          <a:srcRect l="0" t="6437" r="2252" b="18491"/>
          <a:stretch/>
        </p:blipFill>
        <p:spPr>
          <a:xfrm>
            <a:off x="3203640" y="2205000"/>
            <a:ext cx="28083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468360" y="537372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на девочка занимается вышивкой лентами второ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403152"/>
                </a:solidFill>
                <a:latin typeface="Calibri"/>
              </a:rPr>
              <a:t>Два ребенка уже третий год занимаются бисероплетением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user\Documents\Мамины поделки\Фото002.jpg"/>
          <p:cNvPicPr/>
          <p:nvPr/>
        </p:nvPicPr>
        <p:blipFill>
          <a:blip r:embed="rId1"/>
          <a:srcRect l="22720" t="10007" r="23986" b="3336"/>
          <a:stretch/>
        </p:blipFill>
        <p:spPr>
          <a:xfrm>
            <a:off x="900000" y="2708280"/>
            <a:ext cx="2016360" cy="266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user\Documents\Мамины поделки\Фото006.jpg"/>
          <p:cNvPicPr/>
          <p:nvPr/>
        </p:nvPicPr>
        <p:blipFill>
          <a:blip r:embed="rId2"/>
          <a:srcRect l="20394" t="3126" r="22530" b="3126"/>
          <a:stretch/>
        </p:blipFill>
        <p:spPr>
          <a:xfrm>
            <a:off x="3348000" y="1989000"/>
            <a:ext cx="208764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user\Documents\Мамины поделки\Фото0276.jpg"/>
          <p:cNvPicPr/>
          <p:nvPr/>
        </p:nvPicPr>
        <p:blipFill>
          <a:blip r:embed="rId3"/>
          <a:srcRect l="21961" t="9490" r="3921" b="-1199"/>
          <a:stretch/>
        </p:blipFill>
        <p:spPr>
          <a:xfrm>
            <a:off x="5940360" y="2565360"/>
            <a:ext cx="2446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600" spc="-1" strike="noStrike">
                <a:solidFill>
                  <a:srgbClr val="403152"/>
                </a:solidFill>
                <a:latin typeface="Calibri"/>
              </a:rPr>
              <a:t>В течении нескольких лет я поддерживаю  традицию проведения «Презентации студии» - для самоопределения воспитанников и творческого развития детей. 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отовлю творческое выступление, в котором раскрываю особенности данного вида деятельности, демонстрирую достижения и успех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едо  мной стоит  задача не только  заинтересовать, но  укрепить этот интерес в воспитанниках, создать мотивацию к  обучению и т.д.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этому д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я более полного совпадения  интересов детей и тематики программы мною была составлен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кета (исследования по вопросу организации разумного досуга)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нкетирование проходит с целью как можно больше индивидуализировать процесс обуче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403152"/>
                </a:solidFill>
                <a:latin typeface="Calibri"/>
              </a:rPr>
              <a:t>Какое направление в образовании на современном этапе обозначено как приоритетное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 Концепции модернизации российской системы образования(</a:t>
            </a:r>
            <a:r>
              <a:rPr b="0" i="1" lang="ru-RU" sz="2400" spc="-1" strike="noStrike">
                <a:solidFill>
                  <a:srgbClr val="403152"/>
                </a:solidFill>
                <a:latin typeface="Calibri"/>
              </a:rPr>
              <a:t> утвержденной распоряжением Правительства РФ от 29.12.2001 г. № 1756-Р (п. 2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 определены важность и значение системы дополнительного образования детей, способствующей развитию склонностей, способностей и интересов социального и профессионального самоопределения детей и молодежи, подчёркнута важнейшая роль учреждений дополнительного образования детей как одного из определяющих факторов развития склонностей, способностей и интересов личностного, социального и профессионального самоопределения детей и молодё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4897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кет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.И.О. 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Возраст 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280" y="259920"/>
            <a:ext cx="410364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1. Каким образом Вы попали в наш кружок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исался сам по собственной инициативе 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исался по приглашению руководителя кружка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совету воспитателя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. Хорошо ли Вы знакомы с программой, т.е. содержанием деятельности кружка?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Хорошо ознакомлен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мею общее представление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 ознакомле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. Считаете ли Вы, что занятия у нас могут принести Вам пользу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ольшую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большую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можно, пригодятся в жизни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. Когда Вы хотели бы достичь результатов в нашем кружке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рез одно занятие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рез несколько занятий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течение года –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рез три года –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5. Чего Вы ожидаете для себя по окончанию обучения курса у нас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Хороших умений и навыков рукоделия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я способностей к обучению в школе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ичего не жду –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сего по не многу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. Посещая занят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 хотите узнать _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 хотите научиться 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 хотите суметь _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. Ваш успех от занятий зависит от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ого себя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ратников по группе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езения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дагога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ланта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сидчивости, упорства и терпения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сего понемногу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. С каким настроением Вы посещаете наше занятие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 удовольствием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обой радости не испытываю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сещаю по напоминанию других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тов заменит другие занятия, нашим -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уважения к окружающим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9. Ваше настроение на занятии  зависит от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бя самого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т возможных удач и не удач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дагога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строения других ребят в группе 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годы на улицы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 отчего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сего понемногу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10. Нравится ли тебе педагог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к профессионал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к человек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к организатор твоего досуга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11. Как влияет посещение занятий на  успеваемость в школе?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ло лучше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обых изменений нет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спеваемость снизилась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12. Как относятся твои  воспитатели к посещению тобой кружка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обряют 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 одобряют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различно 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13. Как влияет посещение занятий на  общение с воспитателями и сверстниками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ожительно -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сть общий интерес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трицательно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икак –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ждый курс программы содержит систему умений и навыков, которыми должны владеть воспитанники в  середине и  в конце учебного года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Относительно этой системы и содержания программы строилась система диагностики, разработанная мною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для анализа результативности и эффективности обучения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 ней использованы следующие критерии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инамика обученности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актические умения и навыки, теоретические знания),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творческие способ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культура и организация тру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агностика детей проводится 2 раза в год (в середине и в конце учебного года) для выявления динамик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ень знаний, умений и навыков оценивается по трехбалльной систем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л «3»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окий уровень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 выставляется если воспитанник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статочной полнотой знает изученный материа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умеет творчески применять полученные знания в практической работ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рактические работы выполняет достаточно быстро и правильно, умеет подготовить рабочее место, средства труда и правильно пользоваться ими в работе с соблюдением правил безопасности тру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умеет объяснить основы выполняемой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активно участвует в проведении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л «2»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ний уровень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 ставится, если воспитанник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бнаруживает знание и понимание лишь основного учебного матери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 основном правильно, но недостаточно быстро выполняет практические работы, допуская лишь некоторые погрешности, и пользуется средствами труда в основном правильно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может объяснить основы выполняемой работы по наводящим вопрос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л «1»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кий уровень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 ставится, если воспитанник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бнаруживает незнание и непонимание большей части учебного матери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е умеет самостоятельно выполнять практические работы и объяснить их основ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арушение правила безопасности тру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е аккуратно выполняет практические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403152"/>
                </a:solidFill>
                <a:latin typeface="Calibri"/>
              </a:rPr>
              <a:t>Анализ результативности и эффективности обучения за последние пять л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317520" y="1841400"/>
            <a:ext cx="85820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403152"/>
                </a:solidFill>
                <a:latin typeface="Calibri"/>
              </a:rPr>
              <a:t>Средние показатели результативности и эффективности обучения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40315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3573360"/>
          <a:ext cx="7056360" cy="2336760"/>
        </p:xfrm>
        <a:graphic>
          <a:graphicData uri="http://schemas.openxmlformats.org/drawingml/2006/table">
            <a:tbl>
              <a:tblPr/>
              <a:tblGrid>
                <a:gridCol w="1800360"/>
                <a:gridCol w="2303280"/>
                <a:gridCol w="2952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ередин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екабр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нц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юн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03152"/>
                </a:solidFill>
                <a:latin typeface="Calibri"/>
              </a:rPr>
              <a:t>Факторы, влияющие на показатели обучен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4028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риц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33360"/>
            <a:ext cx="40402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мены состава в кружках в связи с прибытием и выбыванием  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совпадение расписания занятости в студии с занятостью в школ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3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ожи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4720" y="1916280"/>
            <a:ext cx="4041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о уровневое обучение, заложенное в основу программы с минимальным возрастным диапазон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личие программы «Очумелые ручки» от школьн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ведение часов общения со всеми воспитанниками детского дома с целью  расширения кругозора и привлечения интереса у детей, не занятых в студ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ведение массовых выставок к знаменательным дат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впадения интересов детей и тематики программы(за счет проведения анкетир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Дополнительное образование направлено на создание условий для развития личности каждого воспитанника, включая воспитанников группы рис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росток группы риска как и остальные воспитанники самостоятельно выбирает  объединения по интересам и  имеет возможность переходить из одного объединения в другое, реализуя  тем самым свои замыс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3152"/>
                </a:solidFill>
                <a:latin typeface="Calibri"/>
              </a:rPr>
              <a:t>Работа с детьми группы рис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 каждого воспитанника группы риска, записавшегося в кружок  составляется план работы на текущий год. Ведется запись по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спитанники группы риска не зависимо от выбора кружковой деятельности привлекаются  к участию во всех мероприятиях, проводимых учреждением, с учетом возрастных и индивидуальных особе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 конце каждого месяца предоставляется отчет по работе с данными детьми социальному педаг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жемесячно проводится мониторинг участия воспитанников в мероприятиях учреждения, их дост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03152"/>
                </a:solidFill>
                <a:latin typeface="Calibri"/>
              </a:rPr>
              <a:t>Занятость в студии за последние пять л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244440" y="2127240"/>
            <a:ext cx="87282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03152"/>
                </a:solidFill>
                <a:latin typeface="Calibri"/>
              </a:rPr>
              <a:t>Средние показатели занят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420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нятость в студии- 54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нятость «группы риска» в студии- 62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403152"/>
                </a:solidFill>
                <a:latin typeface="Calibri"/>
              </a:rPr>
              <a:t>Что такое «дополнительное образование детей»?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концепции модернизации дополнительного образования детей Российской Федерации (</a:t>
            </a:r>
            <a:r>
              <a:rPr b="0" i="1" lang="ru-RU" sz="2800" spc="-1" strike="noStrike">
                <a:solidFill>
                  <a:srgbClr val="403152"/>
                </a:solidFill>
                <a:latin typeface="Calibri"/>
              </a:rPr>
              <a:t>утвержденной распоряжением Правительства РФ от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6.10.2004 г. № ПК-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д «дополнительным образованием» понимается мотивированное образование за рамками основного образования, позволяющее человеку приобрести устойчивую потребность в познании и творчестве, максимально реализовать себя, самоопределиться предметно, социально, профессионально, личност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F:\Фото\Фото1450.jpg"/>
          <p:cNvPicPr/>
          <p:nvPr/>
        </p:nvPicPr>
        <p:blipFill>
          <a:blip r:embed="rId1"/>
          <a:srcRect l="0" t="4872" r="6835" b="12366"/>
          <a:stretch/>
        </p:blipFill>
        <p:spPr>
          <a:xfrm>
            <a:off x="539640" y="260280"/>
            <a:ext cx="2664000" cy="36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:\Фото\Фото1452.jpg"/>
          <p:cNvPicPr/>
          <p:nvPr/>
        </p:nvPicPr>
        <p:blipFill>
          <a:blip r:embed="rId2"/>
          <a:srcRect l="2126" t="9549" r="4543" b="4541"/>
          <a:stretch/>
        </p:blipFill>
        <p:spPr>
          <a:xfrm>
            <a:off x="5724360" y="189000"/>
            <a:ext cx="3168720" cy="38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user\Documents\Мамины поделки\Фото0469.jpg"/>
          <p:cNvPicPr/>
          <p:nvPr/>
        </p:nvPicPr>
        <p:blipFill>
          <a:blip r:embed="rId3"/>
          <a:srcRect l="8283" t="7075" r="7480" b="2829"/>
          <a:stretch/>
        </p:blipFill>
        <p:spPr>
          <a:xfrm>
            <a:off x="3419640" y="1557360"/>
            <a:ext cx="2808000" cy="364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:\Фото\Фото1451.jpg"/>
          <p:cNvPicPr/>
          <p:nvPr/>
        </p:nvPicPr>
        <p:blipFill>
          <a:blip r:embed="rId4"/>
          <a:srcRect l="-5969" t="6638" r="-1622" b="0"/>
          <a:stretch/>
        </p:blipFill>
        <p:spPr>
          <a:xfrm>
            <a:off x="755640" y="2852640"/>
            <a:ext cx="3024360" cy="367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user\Documents\Мамины поделки\Фото0358.jpg"/>
          <p:cNvPicPr/>
          <p:nvPr/>
        </p:nvPicPr>
        <p:blipFill>
          <a:blip r:embed="rId5"/>
          <a:srcRect l="14000" t="7388" r="18803" b="8912"/>
          <a:stretch/>
        </p:blipFill>
        <p:spPr>
          <a:xfrm>
            <a:off x="6372360" y="4005360"/>
            <a:ext cx="2016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ocuments\Мамины поделки\Фото1657.jpg"/>
          <p:cNvPicPr/>
          <p:nvPr/>
        </p:nvPicPr>
        <p:blipFill>
          <a:blip r:embed="rId1"/>
          <a:srcRect l="0" t="13454" r="1333" b="9183"/>
          <a:stretch/>
        </p:blipFill>
        <p:spPr>
          <a:xfrm>
            <a:off x="684360" y="260280"/>
            <a:ext cx="3456000" cy="331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user\Documents\Мамины поделки\Фото1117.jpg"/>
          <p:cNvPicPr/>
          <p:nvPr/>
        </p:nvPicPr>
        <p:blipFill>
          <a:blip r:embed="rId2"/>
          <a:srcRect l="13732" t="0" r="0" b="0"/>
          <a:stretch/>
        </p:blipFill>
        <p:spPr>
          <a:xfrm>
            <a:off x="395280" y="314172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user\Documents\Мамины поделки\Фото1123.jpg"/>
          <p:cNvPicPr/>
          <p:nvPr/>
        </p:nvPicPr>
        <p:blipFill>
          <a:blip r:embed="rId3"/>
          <a:stretch/>
        </p:blipFill>
        <p:spPr>
          <a:xfrm>
            <a:off x="6012000" y="2852640"/>
            <a:ext cx="2916000" cy="352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user\Documents\Мамины поделки\Фото1667 (2).jpg"/>
          <p:cNvPicPr/>
          <p:nvPr/>
        </p:nvPicPr>
        <p:blipFill>
          <a:blip r:embed="rId4"/>
          <a:srcRect l="0" t="23424" r="2750" b="4226"/>
          <a:stretch/>
        </p:blipFill>
        <p:spPr>
          <a:xfrm>
            <a:off x="2987640" y="3328920"/>
            <a:ext cx="3024360" cy="2979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user\Documents\Мамины поделки\Фото1116.jpg"/>
          <p:cNvPicPr/>
          <p:nvPr/>
        </p:nvPicPr>
        <p:blipFill>
          <a:blip r:embed="rId5"/>
          <a:srcRect l="0" t="7648" r="4398" b="0"/>
          <a:stretch/>
        </p:blipFill>
        <p:spPr>
          <a:xfrm>
            <a:off x="4427640" y="404640"/>
            <a:ext cx="410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:\Users\user\Documents\Фото\Фото0998.jpg"/>
          <p:cNvPicPr/>
          <p:nvPr/>
        </p:nvPicPr>
        <p:blipFill>
          <a:blip r:embed="rId1"/>
          <a:stretch/>
        </p:blipFill>
        <p:spPr>
          <a:xfrm>
            <a:off x="611280" y="333360"/>
            <a:ext cx="3024000" cy="388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user\Documents\Фото\Фото0999.jpg"/>
          <p:cNvPicPr/>
          <p:nvPr/>
        </p:nvPicPr>
        <p:blipFill>
          <a:blip r:embed="rId2"/>
          <a:srcRect l="0" t="0" r="7228" b="16382"/>
          <a:stretch/>
        </p:blipFill>
        <p:spPr>
          <a:xfrm>
            <a:off x="5076720" y="404640"/>
            <a:ext cx="3382920" cy="468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user\Documents\Фото\Фото0997.jpg"/>
          <p:cNvPicPr/>
          <p:nvPr/>
        </p:nvPicPr>
        <p:blipFill>
          <a:blip r:embed="rId3"/>
          <a:stretch/>
        </p:blipFill>
        <p:spPr>
          <a:xfrm>
            <a:off x="1979640" y="3645000"/>
            <a:ext cx="38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user\Documents\Мамины поделки\Фото0224.jpg"/>
          <p:cNvPicPr/>
          <p:nvPr/>
        </p:nvPicPr>
        <p:blipFill>
          <a:blip r:embed="rId1"/>
          <a:srcRect l="0" t="13057" r="5087" b="17941"/>
          <a:stretch/>
        </p:blipFill>
        <p:spPr>
          <a:xfrm>
            <a:off x="3851280" y="3933720"/>
            <a:ext cx="230508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user\Documents\Мамины поделки\Фото1634 (2).jpg"/>
          <p:cNvPicPr/>
          <p:nvPr/>
        </p:nvPicPr>
        <p:blipFill>
          <a:blip r:embed="rId2"/>
          <a:srcRect l="18501" t="17516" r="20469" b="48525"/>
          <a:stretch/>
        </p:blipFill>
        <p:spPr>
          <a:xfrm>
            <a:off x="468360" y="476280"/>
            <a:ext cx="295128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user\Documents\Мамины поделки\Фото0725.jpg"/>
          <p:cNvPicPr/>
          <p:nvPr/>
        </p:nvPicPr>
        <p:blipFill>
          <a:blip r:embed="rId3"/>
          <a:srcRect l="12520" t="10075" r="14866" b="5280"/>
          <a:stretch/>
        </p:blipFill>
        <p:spPr>
          <a:xfrm>
            <a:off x="6516720" y="335772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user\Documents\Мамины поделки\Фото0546.jpg"/>
          <p:cNvPicPr/>
          <p:nvPr/>
        </p:nvPicPr>
        <p:blipFill>
          <a:blip r:embed="rId4"/>
          <a:srcRect l="0" t="3803" r="6598" b="5900"/>
          <a:stretch/>
        </p:blipFill>
        <p:spPr>
          <a:xfrm>
            <a:off x="611280" y="2781360"/>
            <a:ext cx="295272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user\Documents\Мамины поделки\Фото0536.jpg"/>
          <p:cNvPicPr/>
          <p:nvPr/>
        </p:nvPicPr>
        <p:blipFill>
          <a:blip r:embed="rId5"/>
          <a:srcRect l="9402" t="9053" r="12205" b="13252"/>
          <a:stretch/>
        </p:blipFill>
        <p:spPr>
          <a:xfrm>
            <a:off x="6300720" y="404640"/>
            <a:ext cx="248436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user\Documents\Мамины поделки\Фото0342.jpg"/>
          <p:cNvPicPr/>
          <p:nvPr/>
        </p:nvPicPr>
        <p:blipFill>
          <a:blip r:embed="rId6"/>
          <a:stretch/>
        </p:blipFill>
        <p:spPr>
          <a:xfrm>
            <a:off x="3492360" y="404640"/>
            <a:ext cx="2930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3152"/>
                </a:solidFill>
                <a:latin typeface="Calibri"/>
              </a:rPr>
              <a:t>Декоративно-прикладное направление системы дополнительного образования детского дома  оказывает положительное влияние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рмирование у воспитанников детского дома практических трудовых навыков(разметки, раскроя ткани, шитья, вышивания, плетения и вязания); жизненно важных умений, качеств личности, такие как творческий подход, самостоятельность, инициативность, умение принимать решение, работать в коллективе, самостоятельно получать зн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спитание  внимательности в работе, терпения, аккуратности, уверенности в выполнении задуманн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итие мелкой моторики рук, стимулировании развития 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сширение  представлений детей-сирот об окружающем мире, приобщение  к многонациональной культуре народов нашей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фессиональное  самоопределение воспита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Трудовая деятель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ля успешной социализации воспитанников, приобщение их к жизни и труду  организована работа в швейной мастерской для девочек и мальч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зделия труда, а это кухонные  принадлежности,   покрывала для диванов выполняются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ставрируется верхняя одежда у воспитанников по заяв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спитанники принимают активное участие в пошиве штор, театральных костюмов, казачьих костюмов для педагогов 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:\Users\user\Documents\Мамины поделки\Фото0474.jpg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35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Фото\Фото1342.jpg"/>
          <p:cNvPicPr/>
          <p:nvPr/>
        </p:nvPicPr>
        <p:blipFill>
          <a:blip r:embed="rId2"/>
          <a:stretch/>
        </p:blipFill>
        <p:spPr>
          <a:xfrm>
            <a:off x="755640" y="3573360"/>
            <a:ext cx="331164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Documents\Мамины поделки\Фото0476.jpg"/>
          <p:cNvPicPr/>
          <p:nvPr/>
        </p:nvPicPr>
        <p:blipFill>
          <a:blip r:embed="rId3"/>
          <a:stretch/>
        </p:blipFill>
        <p:spPr>
          <a:xfrm>
            <a:off x="4284720" y="260280"/>
            <a:ext cx="3435120" cy="403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ocuments\Мамины поделки\Фото0473.jpg"/>
          <p:cNvPicPr/>
          <p:nvPr/>
        </p:nvPicPr>
        <p:blipFill>
          <a:blip r:embed="rId4"/>
          <a:stretch/>
        </p:blipFill>
        <p:spPr>
          <a:xfrm>
            <a:off x="5364000" y="3141720"/>
            <a:ext cx="3364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403152"/>
                </a:solidFill>
                <a:latin typeface="Calibri"/>
              </a:rPr>
              <a:t>Для достижения каких целей и задач предназначено дополнительное образование дете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гласно Типовому положению об образовательном учреждении дополнительного образования детей (Утвержденному Постановлением Правительства РФ от 7.03.1995 г. № 233 в ред. Постановлениями Правительства РФ от 22.02.1997 N 212, от 08.08.2003 N 470, от 7.12.2006 № 75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Основное предназначение системы дополнительного образования – развитие мотивации личности к познанию и творчеству, реализация дополнительных образовательных программ и услуг в интересах личности, общества, госуд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условиях Детского дома система дополнительного образования наиболее актуальна, так как воспитанникам детского дома присущи неустойчивые интересы, низкая мотивация к любой деятельност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3152"/>
                </a:solidFill>
                <a:latin typeface="Calibri"/>
              </a:rPr>
              <a:t>Дополнительное образование детей в условиях детского дома как педагогическое явление обладает целым рядом кач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ичностная ориентация;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практическая направленность;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мобильность;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многофункциональность;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профильность;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усиление воспитательной функции;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разнообразие содержания, форм, методов дополнительного образования как следствие свободы педагога, работающего в такой системе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403152"/>
                </a:solidFill>
                <a:latin typeface="Calibri"/>
              </a:rPr>
              <a:t>Основные 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личностного развития, укрепления здоровья, профессионального самоопределения и творческого труда детей в возрасте преимущественно от 6 до 18 ле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даптация их к жизни в обществ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ормирование общей культур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рганизация содержательного досу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довлетворение потребности детей в занятиях физической культурой и спор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04a7b"/>
                </a:solidFill>
                <a:latin typeface="Calibri"/>
              </a:rPr>
              <a:t>Система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новится  средством, которое помогает адаптировать подростка к нормаль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ает возможность воспитаннику  познать себя (что он собой представляет, на что способен) участвуя в разносторонне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ыполняет  предпрофильную подготовку, ориентируя воспитанников на продолжение обучения в конкретных профессиональных училищах, колледжах, техникумах, вузах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ает проблему занятости подростков (сужает пространство девиантного повед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403152"/>
                </a:solidFill>
                <a:latin typeface="Calibri"/>
              </a:rPr>
              <a:t>Система дополнительного образования Детского дома  представлена  творческими объединениями различной направленности: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Художественно- эстетическ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екоративно –прикладн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ортивно –оздоровительн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рудовой.  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02:53Z</dcterms:created>
  <dc:creator>A.Klein</dc:creator>
  <dc:description/>
  <dc:language>en-US</dc:language>
  <cp:lastModifiedBy>user</cp:lastModifiedBy>
  <dcterms:modified xsi:type="dcterms:W3CDTF">2012-03-02T16:59:59Z</dcterms:modified>
  <cp:revision>107</cp:revision>
  <dc:subject/>
  <dc:title>Слайд 1</dc:title>
</cp:coreProperties>
</file>