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6ED-E775-48DD-B647-D4B0BB9F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762-FC82-4D2B-AF69-9F270A32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69F-4D2E-403B-B0DB-5AFFCED3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3FD-93F1-48AB-A4B8-FC9BFC9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20BD-7618-4C24-BE3C-DF254BEA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E536-9F57-4266-97E5-334644B1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953-89A9-4E33-BFB7-3A9FF52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1BD-E314-4494-95C0-D1AD750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CBF-1157-41E0-8BE9-7E99D8E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EA0A-6344-498E-9809-65D7147F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43C-0488-4033-B73A-563E7C6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225-948F-4801-A2E6-42D34F85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4A3-11FC-433C-9C42-15F10D23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AD9-7F05-4E4F-9A7F-CC6C693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66DA-E019-42AD-924B-B0690BFE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6EA7-1033-4C4A-A9AF-856E8AAD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B8BE-C651-4824-9534-05A7EE9E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6D2A-1464-4EC6-B0A8-848AC370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C426-284D-42A9-8DA3-39EBBCF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659B-2EA2-4B03-A43A-1B4A2ED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33DD-E65D-4BCB-8ED6-AC206B7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1A1F-FAD7-4286-BF30-1069139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26A-C8F4-4407-82E1-CE26272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D61C-2906-48C4-830C-E347DDE3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50DD-0779-4247-896E-ABBFBC2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F588-041F-459F-B3F1-E4A701E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2722-2497-45EF-ACC5-8922B37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A2E3-D863-486D-9083-3856343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3E67-9766-4CB7-B731-52B8687A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9487-7A5D-46A0-B72F-063DB76C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0E9-62A7-4F14-BF3E-34D85A61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3F1-6A54-4FDE-BF5E-AED092F7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147-2A78-4A1F-A913-658615A0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89F-4E54-4821-BA25-7885895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271-1991-4ACB-B045-B1E0E89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859-903E-40D8-9721-38378FC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2FCB-52B7-4AA4-A13E-636C617C8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DC48-927E-4FCD-8580-CFAF155C0F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5E3-695C-45AC-B3F2-96E3202867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Рисунок10"/>
          <p:cNvPicPr/>
          <p:nvPr/>
        </p:nvPicPr>
        <p:blipFill>
          <a:blip r:embed="rId1"/>
          <a:stretch/>
        </p:blipFill>
        <p:spPr>
          <a:xfrm>
            <a:off x="5651640" y="3521160"/>
            <a:ext cx="3706560" cy="33368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9"/>
          <p:cNvSpPr txBox="1"/>
          <p:nvPr/>
        </p:nvSpPr>
        <p:spPr>
          <a:xfrm>
            <a:off x="611280" y="0"/>
            <a:ext cx="539892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осхожд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0"/>
          <p:cNvSpPr txBox="1"/>
          <p:nvPr/>
        </p:nvSpPr>
        <p:spPr>
          <a:xfrm>
            <a:off x="2843280" y="1484280"/>
            <a:ext cx="41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пик ЕГЭ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324000" y="4437000"/>
            <a:ext cx="5543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атематика - это язык, 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ом говорят все точные науки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И.Лобачевс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143760" y="3500280"/>
            <a:ext cx="1071360" cy="723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142920" y="59544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10.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лектросеть включён предохранитель, рассчитанный на силу тока 20 А. Определите, какое минимальное сопротивление должно быть у электроприбора, подключаемого к розетке в 220вольт, чтобы сеть продолжала работать. Сила тока в цеп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а напряжени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отношением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опротивление электроприбора. (Ответ выразите в омах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692360" y="587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=11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3"/>
          <p:cNvSpPr/>
          <p:nvPr/>
        </p:nvSpPr>
        <p:spPr>
          <a:xfrm>
            <a:off x="179280" y="0"/>
            <a:ext cx="8640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10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соту над землёй подброшенного вверх мяча можно вычислять по формуле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 высота в метрах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время в секундах, прошедшее с момента броска). Сколько секунд мяч будет находиться на высоте более 6 метр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 Бетонный шар весит 0,5 т. Сколько тонн будет весить шар вдвое большего радиуса, сделанный из такого же бето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520" y="905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2374560" cy="3571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286000" y="30718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:1,6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979640" y="5734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:4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2"/>
          <p:cNvPicPr/>
          <p:nvPr/>
        </p:nvPicPr>
        <p:blipFill>
          <a:blip r:embed="rId1"/>
          <a:stretch/>
        </p:blipFill>
        <p:spPr>
          <a:xfrm>
            <a:off x="-684360" y="0"/>
            <a:ext cx="11088720" cy="769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4000680" y="62866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8"/>
          <p:cNvSpPr/>
          <p:nvPr/>
        </p:nvSpPr>
        <p:spPr>
          <a:xfrm>
            <a:off x="857160" y="6286680"/>
            <a:ext cx="770436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1692360" y="5661000"/>
            <a:ext cx="6119640" cy="73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4211640" y="515772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484360" y="4869000"/>
            <a:ext cx="475164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4211640" y="4437000"/>
            <a:ext cx="1655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ив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3635280" y="4365720"/>
            <a:ext cx="381636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211640" y="386064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286160" y="5786280"/>
            <a:ext cx="15829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3276720" y="4437000"/>
            <a:ext cx="287280" cy="43200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642960" y="214200"/>
            <a:ext cx="75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1.Вы не обойдётесь без этого прибора на уроках геометрии, его можно использовать на уроках черчения, физики, географии…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642960" y="1428840"/>
            <a:ext cx="76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.А этот инструмент знает с детства каждый школьник, его  с успехом можно использовать на уроках русского языка и физики, геометрии и истор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611280" y="278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3.С помощью этого физического тела Ньютон окончательно убедился в существовании всемирного тяготения, особенно, когда это тело упало ему на голов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11280" y="422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4.Это физическое тело помогает до слёз понять, что в природе существует явление диффуз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84360" y="530064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5.А это физическое тело благодаря силам притяжения своих  молекул услаждает наших школьников неотступно, с утра до позднего вече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292720" y="10526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ранспорти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5286240" y="23572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5796000" y="36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4932360" y="486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луко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3780000" y="62373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Жевательная рез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14" descr=""/>
          <p:cNvPicPr/>
          <p:nvPr/>
        </p:nvPicPr>
        <p:blipFill>
          <a:blip r:embed="rId1"/>
          <a:stretch/>
        </p:blipFill>
        <p:spPr>
          <a:xfrm>
            <a:off x="-3349800" y="7101000"/>
            <a:ext cx="1428840" cy="107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468360" y="33336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11120" y="33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84360" y="333360"/>
            <a:ext cx="755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6.Всем поведает, хоть и без язык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огда будет ясно, когда – обла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867280" y="62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ромет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611280" y="141300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7.Попутчица за мною ходит вслед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не от нее ни зла, ни пользы 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2436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4360" y="2421000"/>
            <a:ext cx="43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8.Видно, нет у ней ум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Ест она себя сам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435640" y="270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веч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755640" y="3645000"/>
            <a:ext cx="374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9.День и ночь стоит на крыш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то чудо – постов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се увидит, все услышит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сем поделится со м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508720" y="47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нтен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2"/>
          <p:cNvPicPr/>
          <p:nvPr/>
        </p:nvPicPr>
        <p:blipFill>
          <a:blip r:embed="rId1"/>
          <a:stretch/>
        </p:blipFill>
        <p:spPr>
          <a:xfrm>
            <a:off x="-684360" y="0"/>
            <a:ext cx="11088720" cy="769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929040" y="64292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642960" y="6286680"/>
            <a:ext cx="770400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1692360" y="5661000"/>
            <a:ext cx="6119640" cy="73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211640" y="515772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2484360" y="4869000"/>
            <a:ext cx="475164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211640" y="4437000"/>
            <a:ext cx="1655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ив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3635280" y="4365720"/>
            <a:ext cx="381636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4211640" y="386064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4214880" y="5786280"/>
            <a:ext cx="15825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24"/>
          <p:cNvSpPr/>
          <p:nvPr/>
        </p:nvSpPr>
        <p:spPr>
          <a:xfrm>
            <a:off x="3635280" y="3860640"/>
            <a:ext cx="287280" cy="43200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Физика 006"/>
          <p:cNvPicPr/>
          <p:nvPr/>
        </p:nvPicPr>
        <p:blipFill>
          <a:blip r:embed="rId1"/>
          <a:stretch/>
        </p:blipFill>
        <p:spPr>
          <a:xfrm>
            <a:off x="395280" y="0"/>
            <a:ext cx="8210520" cy="29718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50920" y="3500280"/>
            <a:ext cx="84978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10. Для получения на экране увеличенного изображения лампочки в лаборатории используется собирающая линза с главным фокусным расстоянием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=3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м. Расстояни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 линзы до лампочки может изменяться в пределах от 30 см до 50 см, а расстояни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 линзы до экрана – в пределах от150 см до 180 см. Изображение на экране будет четким, если выполнено соотнош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кажите, на каком наименьшем расстоянии от линзы можно поместить лампочку, чтобы ее изображение было четким. Ответ выразите в сантимет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327760" y="51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2411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340000" y="5373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270036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13200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320364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132000" y="544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63528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399564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399564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3995640" y="54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4356000" y="6308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36 с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4284720" y="29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41,5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2"/>
          <p:cNvPicPr/>
          <p:nvPr/>
        </p:nvPicPr>
        <p:blipFill>
          <a:blip r:embed="rId1"/>
          <a:stretch/>
        </p:blipFill>
        <p:spPr>
          <a:xfrm>
            <a:off x="-612720" y="0"/>
            <a:ext cx="11088720" cy="769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07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0" y="404640"/>
            <a:ext cx="9972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 Слеп физик без математики»  М.В.Ломоно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468360" y="314172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Как вы понимаете данное высказывани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2"/>
          <p:cNvPicPr/>
          <p:nvPr/>
        </p:nvPicPr>
        <p:blipFill>
          <a:blip r:embed="rId1"/>
          <a:stretch/>
        </p:blipFill>
        <p:spPr>
          <a:xfrm>
            <a:off x="-857160" y="-357120"/>
            <a:ext cx="11088720" cy="821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1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786040" y="62784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642960" y="6286680"/>
            <a:ext cx="770400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714680" y="5500800"/>
            <a:ext cx="6119640" cy="73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4214880" y="500076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2484360" y="4869000"/>
            <a:ext cx="475164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4214880" y="4357800"/>
            <a:ext cx="1655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ив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3643200" y="4286160"/>
            <a:ext cx="381636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4214880" y="378612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357800" y="5715000"/>
            <a:ext cx="15825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785880" y="6426360"/>
            <a:ext cx="287280" cy="431640"/>
          </a:xfrm>
          <a:prstGeom prst="up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547640" y="260280"/>
            <a:ext cx="511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инка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53964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611280" y="907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те термины, которые вы используете как на уроках физики, так  и математ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Назовите каждую из функций и что является ее графи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═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+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═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═k∕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 чем заключается физический смысл производно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Перед вами формулы математики и законы физики, ответьте на вопросы, предложенные вам, выбрав нужную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4360" y="3500280"/>
            <a:ext cx="1512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 =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/3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780000" y="4581360"/>
            <a:ext cx="1079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S= 4</a:t>
            </a:r>
            <a:r>
              <a:rPr b="1" lang="el-GR" sz="16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2916360" y="3500280"/>
            <a:ext cx="11509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S=U•</a:t>
            </a:r>
            <a:r>
              <a:rPr b="1" i="1" lang="en-US" sz="1600" spc="-1" strike="noStrike">
                <a:solidFill>
                  <a:srgbClr val="000000"/>
                </a:solidFill>
                <a:latin typeface="KaiTi"/>
                <a:ea typeface="KaiTi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1476360" y="5013360"/>
            <a:ext cx="1224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S=1a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4572000" y="3429000"/>
            <a:ext cx="1368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E = mU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6588000" y="5445000"/>
            <a:ext cx="1368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S=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o•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+at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7236000" y="4005360"/>
            <a:ext cx="1223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=m•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υ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16"/>
          <p:cNvSpPr/>
          <p:nvPr/>
        </p:nvSpPr>
        <p:spPr>
          <a:xfrm>
            <a:off x="651672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=V•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5219640" y="386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292720" y="3860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24720" y="587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7451640" y="580536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1908000" y="5445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1476360" y="4581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276720" y="4365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5003640" y="42926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596360" y="328464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2556000" y="5661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3995640" y="5950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8028000" y="4869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7524720" y="609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32"/>
          <p:cNvSpPr/>
          <p:nvPr/>
        </p:nvSpPr>
        <p:spPr>
          <a:xfrm>
            <a:off x="5219640" y="4508640"/>
            <a:ext cx="1440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E=E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Comic Sans MS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+E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Comic Sans MS"/>
              </a:rPr>
              <a:t>к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-con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5724360" y="5589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364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781200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2928960" y="5572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6072120" y="5572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1979640" y="45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-684360" y="0"/>
            <a:ext cx="11088720" cy="769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5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3714840" y="6429240"/>
            <a:ext cx="28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42960" y="6357960"/>
            <a:ext cx="770400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1692360" y="5661000"/>
            <a:ext cx="6119640" cy="73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211640" y="515772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2484360" y="4869000"/>
            <a:ext cx="475164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211640" y="4437000"/>
            <a:ext cx="1655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ив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3635280" y="4365720"/>
            <a:ext cx="381636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211640" y="386064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4357800" y="5857920"/>
            <a:ext cx="15825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1547640" y="5877000"/>
            <a:ext cx="287640" cy="431640"/>
          </a:xfrm>
          <a:prstGeom prst="upArrow">
            <a:avLst>
              <a:gd name="adj1" fmla="val 50000"/>
              <a:gd name="adj2" fmla="val 37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611280" y="0"/>
          <a:ext cx="7345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45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Box 2"/>
          <p:cNvSpPr/>
          <p:nvPr/>
        </p:nvSpPr>
        <p:spPr>
          <a:xfrm>
            <a:off x="7072200" y="357192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-2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94836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Физика 005.jpg"/>
          <p:cNvPicPr/>
          <p:nvPr/>
        </p:nvPicPr>
        <p:blipFill>
          <a:blip r:embed="rId1"/>
          <a:stretch/>
        </p:blipFill>
        <p:spPr>
          <a:xfrm>
            <a:off x="378000" y="214200"/>
            <a:ext cx="8378640" cy="5643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4572000" y="60721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1"/>
          <p:cNvSpPr/>
          <p:nvPr/>
        </p:nvSpPr>
        <p:spPr>
          <a:xfrm>
            <a:off x="179280" y="26028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 Точка движется прямолинейно по зак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путь в метрах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– время в секундах). Вычислите скорость движения точки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) в момент времен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; б) в момент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857680" y="928800"/>
            <a:ext cx="2428560" cy="476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285840" y="3429000"/>
            <a:ext cx="8286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14200" y="326592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Движение точки происходит по закону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акой момент времени скор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ижения равна: а)   0;        б) 6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2463840" cy="428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1979640" y="558972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:1).а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б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21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/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).а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; б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5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84360" y="765000"/>
            <a:ext cx="74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Известно, что тело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=5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г движется прямолинейно по закону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(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уть в метрах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секундах). Найдите кинетическую энергию тела через 2 с после начала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71640" y="321300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ешение: Е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v'(t)=2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м/с; Е=40Д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348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34800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2"/>
          <p:cNvPicPr/>
          <p:nvPr/>
        </p:nvPicPr>
        <p:blipFill>
          <a:blip r:embed="rId1"/>
          <a:stretch/>
        </p:blipFill>
        <p:spPr>
          <a:xfrm>
            <a:off x="-612720" y="0"/>
            <a:ext cx="11088720" cy="769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4" name="WordArt 8"/>
          <p:cNvSpPr txBox="1"/>
          <p:nvPr/>
        </p:nvSpPr>
        <p:spPr>
          <a:xfrm>
            <a:off x="6084720" y="1773360"/>
            <a:ext cx="86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11"/>
          <p:cNvSpPr txBox="1"/>
          <p:nvPr/>
        </p:nvSpPr>
        <p:spPr>
          <a:xfrm>
            <a:off x="4211640" y="2349360"/>
            <a:ext cx="8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Э</a:t>
            </a:r>
            <a:endParaRPr b="1" i="1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3857760" y="62784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571680" y="6286680"/>
            <a:ext cx="770400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692360" y="5661000"/>
            <a:ext cx="6119640" cy="73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211640" y="515772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484360" y="4869000"/>
            <a:ext cx="4751640" cy="71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4211640" y="4437000"/>
            <a:ext cx="1655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ив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3635280" y="4365720"/>
            <a:ext cx="381636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4211640" y="3860640"/>
            <a:ext cx="1655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4286160" y="5786280"/>
            <a:ext cx="15829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2556000" y="5013360"/>
            <a:ext cx="287280" cy="431640"/>
          </a:xfrm>
          <a:prstGeom prst="up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0:59Z</dcterms:created>
  <dc:creator>DNA7 X86</dc:creator>
  <dc:description/>
  <dc:language>en-US</dc:language>
  <cp:lastModifiedBy>Сумпосадская СОШ</cp:lastModifiedBy>
  <dcterms:modified xsi:type="dcterms:W3CDTF">2010-02-25T11:11:56Z</dcterms:modified>
  <cp:revision>54</cp:revision>
  <dc:subject/>
  <dc:title>Слайд 1</dc:title>
</cp:coreProperties>
</file>