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E0B-F857-4284-82E8-789669F4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60E-C196-497E-A61F-7C2EC26C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1A6-096B-4BA7-BA8F-49F2C9AF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888-F947-4197-8C75-A9795A4B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EDB0-75E4-468B-A79B-FAE9765A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6DDF-92A9-4F57-AD30-52CA12C4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E90B-0E63-43E5-8D09-F4072008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7300-5DF3-462C-B1F0-BBD27D15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DCFA-D073-477A-B760-33529734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610A-D57A-48DE-BE34-DD56BC30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4E35-A948-4095-BC4D-CB9C6805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7AA-BEA7-491C-AF56-CA466607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51CC-2D47-4C01-9C6D-3D59F896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9EE9-00A6-41FD-8351-9AF16C48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F971-37B0-4EEF-A2BE-9CC98A74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A98F-7ECB-4D42-A934-06A36221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9C62-1AF0-4C2F-B67D-8979A28F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032-338A-4015-BF49-4E74A9BC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4B5-C815-436B-8DD2-F2EFBA18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4CE-DAA9-4585-A6B6-F4BEF93B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215-5CA4-47BC-BCA2-DA231327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623-8461-4E76-BE49-640DD30A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BB8-224C-4C84-A629-453C7FBC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2C8-FB9B-4646-BB70-23D8830C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2AC3-06DE-4530-9517-7A59ABC936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822C-A224-4543-A973-FB0E1FD641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Фундаментальное ядро содержания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общего образова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Фундаментальное ядро содержания общего образова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овый документ, необходимый для создания базисных учебных планов, программ, учебно- методических материалов и посо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Теоретическая основа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Фундаментального ядр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я «ядра» и «оболочек» школьных курсов (А.И. Маркушевич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еление «объём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А.Н. Колмогор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льтурологический подход к формированию содержания образования ( М.Н. Скаткин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но- деятельностный под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 Л.С. Выготский, А.Н. Леонтьев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Функции фундаментального ядра содержания общего образова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ение базовых национальных ценностей, определяющих самосознание российского народа, приоритеты общественного и личностного развития, характер отношения человека к семье, обществу, государству, труду, смысл человеческ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ение системы основных понятий, относящихся к областям знаний, представленным в средней шк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ение ключевых задач, обеспечивающих формирование универсальных видов учебной деятельности, адекватных требованиям стандарта к результатам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Базовые национальные цен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33520" y="3016440"/>
            <a:ext cx="6732720" cy="1700280"/>
            <a:chOff x="1433520" y="3016440"/>
            <a:chExt cx="6732720" cy="1700280"/>
          </a:xfrm>
        </p:grpSpPr>
        <p:sp>
          <p:nvSpPr>
            <p:cNvPr id="107" name="_s11274"/>
            <p:cNvSpPr/>
            <p:nvPr/>
          </p:nvSpPr>
          <p:spPr>
            <a:xfrm>
              <a:off x="4597560" y="3016440"/>
              <a:ext cx="1699920" cy="17002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6465960" y="3654720"/>
              <a:ext cx="1700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1272"/>
            <p:cNvSpPr/>
            <p:nvPr/>
          </p:nvSpPr>
          <p:spPr>
            <a:xfrm>
              <a:off x="3303720" y="3016440"/>
              <a:ext cx="1699920" cy="170028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1273"/>
            <p:cNvSpPr/>
            <p:nvPr/>
          </p:nvSpPr>
          <p:spPr>
            <a:xfrm>
              <a:off x="1433520" y="3654720"/>
              <a:ext cx="1700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раз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195640" y="465300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1844640"/>
            <a:ext cx="56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остная 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ая 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мейная 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Базовые национальные цен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триотиз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ьная солидар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жданств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м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уд и твор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диционные российские рели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кус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Мы- российский наро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Цель изучения ИЯ в школ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ирование у школьников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оязычной   коммуникативной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432000" cy="503280"/>
          </a:xfrm>
          <a:prstGeom prst="downArrow">
            <a:avLst>
              <a:gd name="adj1" fmla="val 50000"/>
              <a:gd name="adj2" fmla="val 29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357336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71240" y="4365720"/>
            <a:ext cx="59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окультур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авленность обучения 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31960" y="4869000"/>
            <a:ext cx="49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иление культуроведческого асп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7960" y="5516640"/>
            <a:ext cx="52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ключение школьников в диалог культу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05:41Z</dcterms:created>
  <dc:creator>1</dc:creator>
  <dc:description/>
  <dc:language>en-US</dc:language>
  <cp:lastModifiedBy>1</cp:lastModifiedBy>
  <dcterms:modified xsi:type="dcterms:W3CDTF">2010-12-06T21:09:46Z</dcterms:modified>
  <cp:revision>2</cp:revision>
  <dc:subject/>
  <dc:title>Фундаментальное ядро содержания общего образования</dc:title>
</cp:coreProperties>
</file>